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9EB-8923-4918-9E8B-711A2002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7FE-E116-4872-982D-129AE68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E03-60A0-417C-8691-2552C5CB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EA0-7564-474A-9249-207D6D31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7B2-93DF-4B14-88B7-51D98D7C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200-6FB3-4072-947C-F66379A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8AD-5F8F-4B4E-9E43-91D006A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887-701C-4468-A009-67DC3EDC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AD0-C470-45E1-B074-DC15FA1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C22-970D-4AA1-8FB4-1441A52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9A7-A2D2-416F-9DF8-3689A46E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216-7E23-4423-9C67-178BFEC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555-3617-47F4-8F05-316FD8AE9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Беседа о толерантности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оссорился со своей сест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ытаешься объясниться с 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обижаешься и мстишь ей за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не хочется идти на прогулку со своими родн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страиваешь истерику, чтобы не идти гул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идешь с ними гулять, чтобы они были доволь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путь к ми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 в такой ситуации: Ты не согласен с кем-нибудь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все-таки слушае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не даешь ему говор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 классе ты уже ответ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хочется ответить ещ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редоставишь другим возможность ответить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Ребята, мы надеемся, что вы будете терпимее относиться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удете толерантны.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16 ноября – Международный день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егодня мы хотим рассказать вам, что такое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ОЛЕРА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олерантность – это уважение, принятие и понимание многообразия мир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вороны черные и только одна белая, но им хорошо вместе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Они весело танцуют и поют, и совсем неважно кто и какого цв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oler1"/>
          <p:cNvPicPr/>
          <p:nvPr/>
        </p:nvPicPr>
        <p:blipFill>
          <a:blip r:embed="rId1"/>
          <a:stretch/>
        </p:blipFill>
        <p:spPr>
          <a:xfrm>
            <a:off x="1403280" y="2133720"/>
            <a:ext cx="6350040" cy="4521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способность признавать отличные от своего собственного мнения.  Мы допускаем, что кто-то может думать иначе, или действовать иначе, нежели ты са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мы разные – но мы дружим!», хотя мальчик ходит на руках, а девочка как обычно, так как мы привыкл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toler2"/>
          <p:cNvPicPr/>
          <p:nvPr/>
        </p:nvPicPr>
        <p:blipFill>
          <a:blip r:embed="rId1"/>
          <a:stretch/>
        </p:blipFill>
        <p:spPr>
          <a:xfrm>
            <a:off x="468360" y="476280"/>
            <a:ext cx="4040280" cy="5608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благосклонность и уважение к  друг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5280" y="692280"/>
            <a:ext cx="469116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: какой большой слон и какая маленькая мышка,  они общаются, дружат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Большой слон не обижает маленькую мышку. Они равны, не смотря на разницу в размер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toler3"/>
          <p:cNvPicPr/>
          <p:nvPr/>
        </p:nvPicPr>
        <p:blipFill>
          <a:blip r:embed="rId1"/>
          <a:stretch/>
        </p:blipFill>
        <p:spPr>
          <a:xfrm>
            <a:off x="250920" y="404640"/>
            <a:ext cx="4351320" cy="609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0" y="1052280"/>
            <a:ext cx="4114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ы все разные: кто-то любит читать, кто-то заниматься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то-то играет с собачкой, а кто-то разводит цветы, но нам хорошо вместе и мы приглашаем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ы поняли, что такое толерантность? Давайте поиграем и проверим: «Толерантны ли вы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ой вы дома… Например: Младший братишка сломал твою игруш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его прощаешь, он сделал это ненароч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дари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DNS</cp:lastModifiedBy>
  <dcterms:modified xsi:type="dcterms:W3CDTF">2014-11-16T16:19:09Z</dcterms:modified>
  <cp:revision>8</cp:revision>
  <dc:subject/>
  <dc:title>Беседа о толерантности  для учащихся 1-2 класса.</dc:title>
</cp:coreProperties>
</file>