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316E-6B1E-4D41-BCEF-87D809F26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7852-DAEF-4874-A651-96068335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98FF-1B91-4429-B3F4-DFD57354C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5D97-D76C-4316-AB2D-CF91D7054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462B-8997-47B5-B7A5-33A0E40EC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2318-B045-4C22-80E1-A701FCF8E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36D9-3721-4C9D-8E42-BB6DA6829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C36A-0373-4792-BF68-F2308EB16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5B57-ED5E-409B-894F-A0701323E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E5CE-F89C-446F-B629-046DC50F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873B-D2A7-4952-A93B-9584220D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63A0-0598-4A63-9FB0-14A0D689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75F78-5873-4A3A-9EDE-B4005CA6A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ff"/>
                </a:solidFill>
                <a:latin typeface="Arial"/>
              </a:rPr>
              <a:t>Добрый день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00"/>
                </a:solidFill>
                <a:latin typeface="Arial"/>
              </a:rPr>
              <a:t>Работа в группа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190520" y="1600200"/>
            <a:ext cx="6761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258920" y="404640"/>
            <a:ext cx="684216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187280" y="2421000"/>
            <a:ext cx="6848640" cy="14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Спасибо за работу!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Спешите делать добро, а не ждите, когда его сделают за вас други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99"/>
                </a:solidFill>
                <a:latin typeface="Arial"/>
              </a:rPr>
              <a:t>Доброе слово лечит, а худое калечит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755640" y="1916280"/>
            <a:ext cx="748836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7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Impact"/>
              </a:rPr>
              <a:t>Доброе слово - 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Impact"/>
              </a:rPr>
              <a:t>что ясный день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58920" y="404640"/>
            <a:ext cx="684216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Город</a:t>
            </a: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Доброт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Arial"/>
              </a:rPr>
              <a:t>Улица ДОБРОТ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33"/>
                </a:solidFill>
                <a:latin typeface="Arial"/>
              </a:rPr>
              <a:t>Правила доброго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16000" y="1196640"/>
            <a:ext cx="7570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Помогать там, где нужна ваша помощ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Понимать другог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Заботиться о близки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Выручать друзей в бед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Не ссорить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Улыбаться тем, с кем общаешь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Помни: всегда побеждает зло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50560" y="1125360"/>
            <a:ext cx="4105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Добро и зло твор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Во власти всех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Но зло творится без       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Добро творить трудн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427640" y="1052640"/>
            <a:ext cx="4259160" cy="50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00"/>
                </a:solidFill>
                <a:latin typeface="Arial"/>
              </a:rPr>
              <a:t>Работа в пара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3289320" cy="4103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356000" y="1773360"/>
            <a:ext cx="43308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2T01:46:56Z</dcterms:created>
  <dc:creator>Ирина</dc:creator>
  <dc:description/>
  <dc:language>en-US</dc:language>
  <cp:lastModifiedBy>Ирина</cp:lastModifiedBy>
  <dcterms:modified xsi:type="dcterms:W3CDTF">2006-12-20T00:51:34Z</dcterms:modified>
  <cp:revision>7</cp:revision>
  <dc:subject/>
  <dc:title>Добрый день!</dc:title>
</cp:coreProperties>
</file>