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.jpeg" ContentType="image/jpeg"/>
  <Override PartName="/ppt/media/image1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68B-E1DF-400A-BEB0-04D10EB2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A4F-16DE-4DF2-A254-2BEDACE0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BC3-DE41-4C18-92E3-25FE4769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E25-4E90-45E5-B9FC-D69CB6D8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FAF-5FB4-4232-9001-7CC09825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7E9-A4CE-4343-9375-D687C167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1BD-A055-4399-B1EC-3596318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BD9-7E56-42E7-B312-2C3BD9AA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5E9-3C9B-48CD-BD2A-BF4F259F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158-B46A-4B82-8BE9-D4A49BA9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978-97BA-4469-8ABA-77634063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7E6-356A-4484-B858-11A95B18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E26A-646B-41C0-8C70-C18B49A8C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entralImgId" descr="i-17"/>
          <p:cNvPicPr/>
          <p:nvPr/>
        </p:nvPicPr>
        <p:blipFill>
          <a:blip r:embed="rId1"/>
          <a:srcRect l="10759" t="5342" r="27257" b="5342"/>
          <a:stretch/>
        </p:blipFill>
        <p:spPr>
          <a:xfrm>
            <a:off x="108000" y="304920"/>
            <a:ext cx="5759280" cy="6430680"/>
          </a:xfrm>
          <a:prstGeom prst="rect">
            <a:avLst/>
          </a:prstGeom>
          <a:ln w="0">
            <a:noFill/>
          </a:ln>
        </p:spPr>
      </p:pic>
      <p:pic>
        <p:nvPicPr>
          <p:cNvPr id="42" name="centralImgId" descr="i-16"/>
          <p:cNvPicPr/>
          <p:nvPr/>
        </p:nvPicPr>
        <p:blipFill>
          <a:blip r:embed="rId2"/>
          <a:srcRect l="50014" t="5342" r="3836" b="4674"/>
          <a:stretch/>
        </p:blipFill>
        <p:spPr>
          <a:xfrm>
            <a:off x="5827680" y="304920"/>
            <a:ext cx="331632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1238530273_18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0" y="64533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34000" y="201600"/>
            <a:ext cx="29937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entury Gothic"/>
              </a:rPr>
              <a:t>ГУ</a:t>
            </a:r>
            <a:r>
              <a:rPr b="1" lang="ru-RU" sz="8000" spc="-1" strike="noStrike">
                <a:solidFill>
                  <a:srgbClr val="006600"/>
                </a:solidFill>
                <a:latin typeface="Century Gothic"/>
              </a:rPr>
              <a:t>Б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6234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отный Гусь продолжил. Вот это написан – слог ГУ. ГУ. Слог ГУ. Слово ГУ-БЫ. Начинается со слога ГУ. И прекрасное слово ГУ-СИ тоже начинается со слога ГУ. Уж очень я люблю гусе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099840" y="189000"/>
            <a:ext cx="29084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entury Gothic"/>
              </a:rPr>
              <a:t>ГУ</a:t>
            </a:r>
            <a:r>
              <a:rPr b="1" lang="ru-RU" sz="8000" spc="-1" strike="noStrike">
                <a:solidFill>
                  <a:srgbClr val="006600"/>
                </a:solidFill>
                <a:latin typeface="Century Gothic"/>
              </a:rPr>
              <a:t>С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 flipH="1">
            <a:off x="4915800" y="5370480"/>
            <a:ext cx="684360" cy="619200"/>
          </a:xfrm>
          <a:custGeom>
            <a:avLst/>
            <a:gdLst>
              <a:gd name="textAreaLeft" fmla="*/ -360 w 684360"/>
              <a:gd name="textAreaRight" fmla="*/ 684360 w 68436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 flipH="1">
            <a:off x="6000840" y="540216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 flipH="1">
            <a:off x="7040520" y="5381640"/>
            <a:ext cx="682560" cy="617400"/>
          </a:xfrm>
          <a:custGeom>
            <a:avLst/>
            <a:gdLst>
              <a:gd name="textAreaLeft" fmla="*/ 0 w 682560"/>
              <a:gd name="textAreaRight" fmla="*/ 682560 w 682560"/>
              <a:gd name="textAreaTop" fmla="*/ 0 h 617400"/>
              <a:gd name="textAreaBottom" fmla="*/ 220320 h 617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 flipH="1">
            <a:off x="8155080" y="531504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6"/>
          <p:cNvSpPr/>
          <p:nvPr/>
        </p:nvSpPr>
        <p:spPr>
          <a:xfrm flipH="1">
            <a:off x="7927200" y="432756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7"/>
          <p:cNvSpPr/>
          <p:nvPr/>
        </p:nvSpPr>
        <p:spPr>
          <a:xfrm flipH="1">
            <a:off x="6808680" y="4389480"/>
            <a:ext cx="11829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8"/>
          <p:cNvSpPr/>
          <p:nvPr/>
        </p:nvSpPr>
        <p:spPr>
          <a:xfrm flipH="1">
            <a:off x="5752440" y="4389480"/>
            <a:ext cx="11811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9"/>
          <p:cNvSpPr/>
          <p:nvPr/>
        </p:nvSpPr>
        <p:spPr>
          <a:xfrm flipH="1">
            <a:off x="4695120" y="434988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0"/>
          <p:cNvGrpSpPr/>
          <p:nvPr/>
        </p:nvGrpSpPr>
        <p:grpSpPr>
          <a:xfrm>
            <a:off x="3205080" y="3068640"/>
            <a:ext cx="1744560" cy="2145960"/>
            <a:chOff x="3205080" y="3068640"/>
            <a:chExt cx="1744560" cy="2145960"/>
          </a:xfrm>
        </p:grpSpPr>
        <p:sp>
          <p:nvSpPr>
            <p:cNvPr id="162" name="Oval 21"/>
            <p:cNvSpPr/>
            <p:nvPr/>
          </p:nvSpPr>
          <p:spPr>
            <a:xfrm flipH="1">
              <a:off x="4266360" y="4533480"/>
              <a:ext cx="683280" cy="681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 flipH="1">
              <a:off x="3210480" y="3605040"/>
              <a:ext cx="1553040" cy="15483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 flipH="1">
              <a:off x="364716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 flipH="1">
              <a:off x="408168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 flipH="1">
              <a:off x="4141800" y="3316680"/>
              <a:ext cx="63000" cy="371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3780720" y="3316680"/>
              <a:ext cx="124200" cy="308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 flipH="1">
              <a:off x="3700440" y="3924720"/>
              <a:ext cx="37260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 flipH="1">
              <a:off x="3205080" y="3924720"/>
              <a:ext cx="37224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 flipH="1">
              <a:off x="321012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 flipH="1">
              <a:off x="370728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 flipH="1">
              <a:off x="3396600" y="4307040"/>
              <a:ext cx="434160" cy="432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2"/>
            <p:cNvSpPr/>
            <p:nvPr/>
          </p:nvSpPr>
          <p:spPr>
            <a:xfrm flipH="1" rot="5400000">
              <a:off x="3552480" y="4585320"/>
              <a:ext cx="246960" cy="55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3"/>
          <p:cNvSpPr/>
          <p:nvPr/>
        </p:nvSpPr>
        <p:spPr>
          <a:xfrm flipH="1">
            <a:off x="4848120" y="4508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4"/>
          <p:cNvSpPr/>
          <p:nvPr/>
        </p:nvSpPr>
        <p:spPr>
          <a:xfrm flipH="1">
            <a:off x="5883840" y="4557600"/>
            <a:ext cx="10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5"/>
          <p:cNvSpPr/>
          <p:nvPr/>
        </p:nvSpPr>
        <p:spPr>
          <a:xfrm flipH="1">
            <a:off x="6977520" y="455148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6"/>
          <p:cNvSpPr/>
          <p:nvPr/>
        </p:nvSpPr>
        <p:spPr>
          <a:xfrm flipH="1">
            <a:off x="8009280" y="4497480"/>
            <a:ext cx="10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8"/>
          <p:cNvSpPr/>
          <p:nvPr/>
        </p:nvSpPr>
        <p:spPr>
          <a:xfrm flipH="1">
            <a:off x="99720" y="147600"/>
            <a:ext cx="189072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1000" spc="-1" strike="noStrike">
                <a:solidFill>
                  <a:srgbClr val="ff0066"/>
                </a:solidFill>
                <a:latin typeface="Century Gothic"/>
              </a:rPr>
              <a:t>У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9" descr="755"/>
          <p:cNvPicPr/>
          <p:nvPr/>
        </p:nvPicPr>
        <p:blipFill>
          <a:blip r:embed="rId2"/>
          <a:stretch/>
        </p:blipFill>
        <p:spPr>
          <a:xfrm>
            <a:off x="103320" y="1989000"/>
            <a:ext cx="2566800" cy="439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0" descr="red-lips"/>
          <p:cNvPicPr/>
          <p:nvPr/>
        </p:nvPicPr>
        <p:blipFill>
          <a:blip r:embed="rId3"/>
          <a:srcRect l="0" t="14577" r="0" b="12587"/>
          <a:stretch/>
        </p:blipFill>
        <p:spPr>
          <a:xfrm>
            <a:off x="3622680" y="1430280"/>
            <a:ext cx="1655640" cy="1195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1" descr="slide0027_image025"/>
          <p:cNvPicPr/>
          <p:nvPr/>
        </p:nvPicPr>
        <p:blipFill>
          <a:blip r:embed="rId4"/>
          <a:stretch/>
        </p:blipFill>
        <p:spPr>
          <a:xfrm>
            <a:off x="6870600" y="1341360"/>
            <a:ext cx="1301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9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8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9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" descr="1238530273_18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755"/>
          <p:cNvPicPr/>
          <p:nvPr/>
        </p:nvPicPr>
        <p:blipFill>
          <a:blip r:embed="rId2"/>
          <a:stretch/>
        </p:blipFill>
        <p:spPr>
          <a:xfrm>
            <a:off x="103320" y="1989000"/>
            <a:ext cx="2566800" cy="4397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0" y="64533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122920" y="1197000"/>
            <a:ext cx="502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ГИ</a:t>
            </a:r>
            <a:r>
              <a:rPr b="1" lang="ru-RU" sz="9600" spc="-1" strike="noStrike">
                <a:solidFill>
                  <a:srgbClr val="006600"/>
                </a:solidFill>
                <a:latin typeface="Century Gothic"/>
              </a:rPr>
              <a:t>ТА</a:t>
            </a: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6234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отный Гусь стал читать дальше. Вот это – слог ГИ. ГИ. Слог ГИ. Слово ГИ-ТА-РА начинается со слога ГИ. Гитара – струнный музыкальный инструмент. Послушай, как она звучи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 flipH="1">
            <a:off x="4915800" y="5370480"/>
            <a:ext cx="684360" cy="619200"/>
          </a:xfrm>
          <a:custGeom>
            <a:avLst/>
            <a:gdLst>
              <a:gd name="textAreaLeft" fmla="*/ -360 w 684360"/>
              <a:gd name="textAreaRight" fmla="*/ 684360 w 68436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 flipH="1">
            <a:off x="6000840" y="540216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3"/>
          <p:cNvSpPr/>
          <p:nvPr/>
        </p:nvSpPr>
        <p:spPr>
          <a:xfrm flipH="1">
            <a:off x="7040520" y="5381640"/>
            <a:ext cx="682560" cy="617400"/>
          </a:xfrm>
          <a:custGeom>
            <a:avLst/>
            <a:gdLst>
              <a:gd name="textAreaLeft" fmla="*/ 0 w 682560"/>
              <a:gd name="textAreaRight" fmla="*/ 682560 w 682560"/>
              <a:gd name="textAreaTop" fmla="*/ 0 h 617400"/>
              <a:gd name="textAreaBottom" fmla="*/ 220320 h 617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4"/>
          <p:cNvSpPr/>
          <p:nvPr/>
        </p:nvSpPr>
        <p:spPr>
          <a:xfrm flipH="1">
            <a:off x="8155080" y="531504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5"/>
          <p:cNvSpPr/>
          <p:nvPr/>
        </p:nvSpPr>
        <p:spPr>
          <a:xfrm flipH="1">
            <a:off x="7927200" y="432756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6"/>
          <p:cNvSpPr/>
          <p:nvPr/>
        </p:nvSpPr>
        <p:spPr>
          <a:xfrm flipH="1">
            <a:off x="6808680" y="4389480"/>
            <a:ext cx="11829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7"/>
          <p:cNvSpPr/>
          <p:nvPr/>
        </p:nvSpPr>
        <p:spPr>
          <a:xfrm flipH="1">
            <a:off x="5752440" y="4389480"/>
            <a:ext cx="11811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 flipH="1">
            <a:off x="4695120" y="434988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9"/>
          <p:cNvGrpSpPr/>
          <p:nvPr/>
        </p:nvGrpSpPr>
        <p:grpSpPr>
          <a:xfrm>
            <a:off x="3205080" y="3068640"/>
            <a:ext cx="1744560" cy="2145960"/>
            <a:chOff x="3205080" y="3068640"/>
            <a:chExt cx="1744560" cy="2145960"/>
          </a:xfrm>
        </p:grpSpPr>
        <p:sp>
          <p:nvSpPr>
            <p:cNvPr id="196" name="Oval 20"/>
            <p:cNvSpPr/>
            <p:nvPr/>
          </p:nvSpPr>
          <p:spPr>
            <a:xfrm flipH="1">
              <a:off x="4266360" y="4533480"/>
              <a:ext cx="683280" cy="681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1"/>
            <p:cNvSpPr/>
            <p:nvPr/>
          </p:nvSpPr>
          <p:spPr>
            <a:xfrm flipH="1">
              <a:off x="3210480" y="3605040"/>
              <a:ext cx="1553040" cy="15483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2"/>
            <p:cNvSpPr/>
            <p:nvPr/>
          </p:nvSpPr>
          <p:spPr>
            <a:xfrm flipH="1">
              <a:off x="364716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3"/>
            <p:cNvSpPr/>
            <p:nvPr/>
          </p:nvSpPr>
          <p:spPr>
            <a:xfrm flipH="1">
              <a:off x="408168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>
              <a:off x="4141800" y="3316680"/>
              <a:ext cx="63000" cy="371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>
              <a:off x="3780720" y="3316680"/>
              <a:ext cx="124200" cy="308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6"/>
            <p:cNvSpPr/>
            <p:nvPr/>
          </p:nvSpPr>
          <p:spPr>
            <a:xfrm flipH="1">
              <a:off x="3700440" y="3924720"/>
              <a:ext cx="37260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7"/>
            <p:cNvSpPr/>
            <p:nvPr/>
          </p:nvSpPr>
          <p:spPr>
            <a:xfrm flipH="1">
              <a:off x="3205080" y="3924720"/>
              <a:ext cx="37224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8"/>
            <p:cNvSpPr/>
            <p:nvPr/>
          </p:nvSpPr>
          <p:spPr>
            <a:xfrm flipH="1">
              <a:off x="321012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9"/>
            <p:cNvSpPr/>
            <p:nvPr/>
          </p:nvSpPr>
          <p:spPr>
            <a:xfrm flipH="1">
              <a:off x="370728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0"/>
            <p:cNvSpPr/>
            <p:nvPr/>
          </p:nvSpPr>
          <p:spPr>
            <a:xfrm flipH="1">
              <a:off x="3396600" y="4307040"/>
              <a:ext cx="434160" cy="432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31"/>
            <p:cNvSpPr/>
            <p:nvPr/>
          </p:nvSpPr>
          <p:spPr>
            <a:xfrm flipH="1" rot="5400000">
              <a:off x="3552480" y="4585320"/>
              <a:ext cx="246960" cy="55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32"/>
          <p:cNvSpPr/>
          <p:nvPr/>
        </p:nvSpPr>
        <p:spPr>
          <a:xfrm flipH="1">
            <a:off x="4848120" y="4508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 flipH="1">
            <a:off x="5883840" y="4557600"/>
            <a:ext cx="10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4"/>
          <p:cNvSpPr/>
          <p:nvPr/>
        </p:nvSpPr>
        <p:spPr>
          <a:xfrm flipH="1">
            <a:off x="6977520" y="455148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5"/>
          <p:cNvSpPr/>
          <p:nvPr/>
        </p:nvSpPr>
        <p:spPr>
          <a:xfrm flipH="1">
            <a:off x="8009280" y="4497480"/>
            <a:ext cx="10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 flipH="1">
            <a:off x="22320" y="147600"/>
            <a:ext cx="211464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1000" spc="-1" strike="noStrike">
                <a:solidFill>
                  <a:srgbClr val="ff0066"/>
                </a:solidFill>
                <a:latin typeface="Century Gothic"/>
              </a:rPr>
              <a:t>И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7" descr="160px-Guitar_1"/>
          <p:cNvPicPr/>
          <p:nvPr/>
        </p:nvPicPr>
        <p:blipFill>
          <a:blip r:embed="rId3"/>
          <a:stretch/>
        </p:blipFill>
        <p:spPr>
          <a:xfrm>
            <a:off x="7205760" y="457200"/>
            <a:ext cx="1730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12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30" dur="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52560" y="468360"/>
            <a:ext cx="231588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73160" y="3490920"/>
            <a:ext cx="231588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981880" y="3492360"/>
            <a:ext cx="251568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2566080" y="468360"/>
            <a:ext cx="328824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009840" y="468360"/>
            <a:ext cx="297576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154920" y="3492360"/>
            <a:ext cx="251244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0" y="6237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 Гусеница выроста, научилась читать, стала Грамотной и сама смогла прочитать еще вот такие слоги: ГЕ, ГЁ, ГЮ, ГЯ, ГЫ, Г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0" y="64533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0" y="6568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авай прочитаем еще раз все слоги на гусениц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 flipH="1">
            <a:off x="2327400" y="3083040"/>
            <a:ext cx="860400" cy="782640"/>
          </a:xfrm>
          <a:custGeom>
            <a:avLst/>
            <a:gdLst>
              <a:gd name="textAreaLeft" fmla="*/ 360 w 860400"/>
              <a:gd name="textAreaRight" fmla="*/ 861120 w 86040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 flipH="1">
            <a:off x="3689280" y="3122640"/>
            <a:ext cx="858960" cy="782640"/>
          </a:xfrm>
          <a:custGeom>
            <a:avLst/>
            <a:gdLst>
              <a:gd name="textAreaLeft" fmla="*/ 360 w 858960"/>
              <a:gd name="textAreaRight" fmla="*/ 859680 w 85896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 flipH="1">
            <a:off x="4993560" y="3279600"/>
            <a:ext cx="857160" cy="781200"/>
          </a:xfrm>
          <a:custGeom>
            <a:avLst/>
            <a:gdLst>
              <a:gd name="textAreaLeft" fmla="*/ -360 w 857160"/>
              <a:gd name="textAreaRight" fmla="*/ 857160 w 857160"/>
              <a:gd name="textAreaTop" fmla="*/ 0 h 781200"/>
              <a:gd name="textAreaBottom" fmla="*/ 279000 h 781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 flipH="1">
            <a:off x="6394320" y="3314880"/>
            <a:ext cx="858960" cy="784080"/>
          </a:xfrm>
          <a:custGeom>
            <a:avLst/>
            <a:gdLst>
              <a:gd name="textAreaLeft" fmla="*/ 360 w 858960"/>
              <a:gd name="textAreaRight" fmla="*/ 859680 w 858960"/>
              <a:gd name="textAreaTop" fmla="*/ 0 h 784080"/>
              <a:gd name="textAreaBottom" fmla="*/ 280080 h 7840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 flipH="1">
            <a:off x="6108840" y="2066760"/>
            <a:ext cx="1482480" cy="14893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"/>
          <p:cNvSpPr/>
          <p:nvPr/>
        </p:nvSpPr>
        <p:spPr>
          <a:xfrm flipH="1">
            <a:off x="4703040" y="2023920"/>
            <a:ext cx="1484280" cy="14875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3"/>
          <p:cNvSpPr/>
          <p:nvPr/>
        </p:nvSpPr>
        <p:spPr>
          <a:xfrm flipH="1">
            <a:off x="3377520" y="1841400"/>
            <a:ext cx="1482840" cy="14875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4"/>
          <p:cNvSpPr/>
          <p:nvPr/>
        </p:nvSpPr>
        <p:spPr>
          <a:xfrm flipH="1">
            <a:off x="2050200" y="1792440"/>
            <a:ext cx="1482840" cy="1488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5"/>
          <p:cNvGrpSpPr/>
          <p:nvPr/>
        </p:nvGrpSpPr>
        <p:grpSpPr>
          <a:xfrm>
            <a:off x="179640" y="171360"/>
            <a:ext cx="2190600" cy="2714400"/>
            <a:chOff x="179640" y="171360"/>
            <a:chExt cx="2190600" cy="2714400"/>
          </a:xfrm>
        </p:grpSpPr>
        <p:sp>
          <p:nvSpPr>
            <p:cNvPr id="232" name="Oval 16"/>
            <p:cNvSpPr/>
            <p:nvPr/>
          </p:nvSpPr>
          <p:spPr>
            <a:xfrm flipH="1">
              <a:off x="1512000" y="2024280"/>
              <a:ext cx="858240" cy="861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 flipH="1">
              <a:off x="186120" y="849960"/>
              <a:ext cx="1950120" cy="19584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 flipH="1">
              <a:off x="735120" y="171360"/>
              <a:ext cx="311040" cy="31248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 flipH="1">
              <a:off x="1280160" y="171360"/>
              <a:ext cx="311040" cy="31248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 flipH="1">
              <a:off x="1356120" y="485280"/>
              <a:ext cx="78840" cy="469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1"/>
            <p:cNvSpPr/>
            <p:nvPr/>
          </p:nvSpPr>
          <p:spPr>
            <a:xfrm>
              <a:off x="901800" y="485280"/>
              <a:ext cx="156240" cy="39024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 flipH="1">
              <a:off x="801720" y="1253880"/>
              <a:ext cx="467640" cy="46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 flipH="1">
              <a:off x="179640" y="1253880"/>
              <a:ext cx="467280" cy="46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 flipH="1">
              <a:off x="186120" y="1424880"/>
              <a:ext cx="233640" cy="23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 flipH="1">
              <a:off x="810360" y="1424880"/>
              <a:ext cx="233640" cy="23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 flipH="1">
              <a:off x="420120" y="1737720"/>
              <a:ext cx="545040" cy="546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7"/>
            <p:cNvSpPr/>
            <p:nvPr/>
          </p:nvSpPr>
          <p:spPr>
            <a:xfrm flipH="1" rot="5400000">
              <a:off x="614880" y="2092320"/>
              <a:ext cx="312480" cy="70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8"/>
          <p:cNvSpPr/>
          <p:nvPr/>
        </p:nvSpPr>
        <p:spPr>
          <a:xfrm flipH="1">
            <a:off x="2187360" y="1844640"/>
            <a:ext cx="13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 flipH="1">
            <a:off x="3458880" y="1952640"/>
            <a:ext cx="14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 flipH="1">
            <a:off x="4805640" y="2133720"/>
            <a:ext cx="13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1"/>
          <p:cNvSpPr/>
          <p:nvPr/>
        </p:nvSpPr>
        <p:spPr>
          <a:xfrm flipH="1">
            <a:off x="6122520" y="2168640"/>
            <a:ext cx="14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2"/>
          <p:cNvSpPr/>
          <p:nvPr/>
        </p:nvSpPr>
        <p:spPr>
          <a:xfrm flipH="1">
            <a:off x="7634160" y="3697200"/>
            <a:ext cx="858960" cy="782640"/>
          </a:xfrm>
          <a:custGeom>
            <a:avLst/>
            <a:gdLst>
              <a:gd name="textAreaLeft" fmla="*/ 360 w 858960"/>
              <a:gd name="textAreaRight" fmla="*/ 859680 w 85896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3"/>
          <p:cNvSpPr/>
          <p:nvPr/>
        </p:nvSpPr>
        <p:spPr>
          <a:xfrm flipH="1">
            <a:off x="7348680" y="2448000"/>
            <a:ext cx="1482480" cy="1488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4"/>
          <p:cNvSpPr/>
          <p:nvPr/>
        </p:nvSpPr>
        <p:spPr>
          <a:xfrm flipH="1">
            <a:off x="7480440" y="2565360"/>
            <a:ext cx="120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5"/>
          <p:cNvSpPr/>
          <p:nvPr/>
        </p:nvSpPr>
        <p:spPr>
          <a:xfrm flipH="1">
            <a:off x="7694640" y="5029200"/>
            <a:ext cx="860400" cy="784080"/>
          </a:xfrm>
          <a:custGeom>
            <a:avLst/>
            <a:gdLst>
              <a:gd name="textAreaLeft" fmla="*/ 360 w 860400"/>
              <a:gd name="textAreaRight" fmla="*/ 861120 w 860400"/>
              <a:gd name="textAreaTop" fmla="*/ 0 h 784080"/>
              <a:gd name="textAreaBottom" fmla="*/ 280080 h 7840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6"/>
          <p:cNvSpPr/>
          <p:nvPr/>
        </p:nvSpPr>
        <p:spPr>
          <a:xfrm flipH="1">
            <a:off x="7410600" y="3781440"/>
            <a:ext cx="1482480" cy="1488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7"/>
          <p:cNvSpPr/>
          <p:nvPr/>
        </p:nvSpPr>
        <p:spPr>
          <a:xfrm flipH="1">
            <a:off x="7534440" y="3895560"/>
            <a:ext cx="120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8"/>
          <p:cNvSpPr/>
          <p:nvPr/>
        </p:nvSpPr>
        <p:spPr>
          <a:xfrm flipH="1">
            <a:off x="6728760" y="5942160"/>
            <a:ext cx="858600" cy="782640"/>
          </a:xfrm>
          <a:custGeom>
            <a:avLst/>
            <a:gdLst>
              <a:gd name="textAreaLeft" fmla="*/ -360 w 858600"/>
              <a:gd name="textAreaRight" fmla="*/ 858600 w 85860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9"/>
          <p:cNvSpPr/>
          <p:nvPr/>
        </p:nvSpPr>
        <p:spPr>
          <a:xfrm flipH="1">
            <a:off x="6442920" y="4692600"/>
            <a:ext cx="1482840" cy="1488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0"/>
          <p:cNvSpPr/>
          <p:nvPr/>
        </p:nvSpPr>
        <p:spPr>
          <a:xfrm flipH="1">
            <a:off x="6384960" y="4797360"/>
            <a:ext cx="16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1"/>
          <p:cNvSpPr/>
          <p:nvPr/>
        </p:nvSpPr>
        <p:spPr>
          <a:xfrm flipH="1">
            <a:off x="5381640" y="6156360"/>
            <a:ext cx="858960" cy="782640"/>
          </a:xfrm>
          <a:custGeom>
            <a:avLst/>
            <a:gdLst>
              <a:gd name="textAreaLeft" fmla="*/ 360 w 858960"/>
              <a:gd name="textAreaRight" fmla="*/ 859680 w 85896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2"/>
          <p:cNvSpPr/>
          <p:nvPr/>
        </p:nvSpPr>
        <p:spPr>
          <a:xfrm flipH="1">
            <a:off x="5095080" y="4906800"/>
            <a:ext cx="1482840" cy="1490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3"/>
          <p:cNvSpPr/>
          <p:nvPr/>
        </p:nvSpPr>
        <p:spPr>
          <a:xfrm flipH="1">
            <a:off x="5212080" y="5013360"/>
            <a:ext cx="13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4"/>
          <p:cNvSpPr/>
          <p:nvPr/>
        </p:nvSpPr>
        <p:spPr>
          <a:xfrm flipH="1">
            <a:off x="4015800" y="6246720"/>
            <a:ext cx="858600" cy="782640"/>
          </a:xfrm>
          <a:custGeom>
            <a:avLst/>
            <a:gdLst>
              <a:gd name="textAreaLeft" fmla="*/ -360 w 858600"/>
              <a:gd name="textAreaRight" fmla="*/ 858600 w 85860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5"/>
          <p:cNvSpPr/>
          <p:nvPr/>
        </p:nvSpPr>
        <p:spPr>
          <a:xfrm flipH="1">
            <a:off x="3729960" y="4997520"/>
            <a:ext cx="1482840" cy="1490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6"/>
          <p:cNvSpPr/>
          <p:nvPr/>
        </p:nvSpPr>
        <p:spPr>
          <a:xfrm flipH="1">
            <a:off x="3709440" y="511956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7"/>
          <p:cNvSpPr/>
          <p:nvPr/>
        </p:nvSpPr>
        <p:spPr>
          <a:xfrm flipH="1">
            <a:off x="2660040" y="6156360"/>
            <a:ext cx="858600" cy="782640"/>
          </a:xfrm>
          <a:custGeom>
            <a:avLst/>
            <a:gdLst>
              <a:gd name="textAreaLeft" fmla="*/ -360 w 858600"/>
              <a:gd name="textAreaRight" fmla="*/ 858600 w 85860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8"/>
          <p:cNvSpPr/>
          <p:nvPr/>
        </p:nvSpPr>
        <p:spPr>
          <a:xfrm flipH="1">
            <a:off x="2375640" y="4906800"/>
            <a:ext cx="1482840" cy="1490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 flipH="1">
            <a:off x="2493720" y="5013360"/>
            <a:ext cx="13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457200" y="4762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А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Э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Е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Ё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Ю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Я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Копия (2) сканирование0006"/>
          <p:cNvPicPr/>
          <p:nvPr/>
        </p:nvPicPr>
        <p:blipFill>
          <a:blip r:embed="rId1"/>
          <a:stretch/>
        </p:blipFill>
        <p:spPr>
          <a:xfrm>
            <a:off x="179280" y="404640"/>
            <a:ext cx="4950000" cy="5820120"/>
          </a:xfrm>
          <a:prstGeom prst="rect">
            <a:avLst/>
          </a:prstGeom>
          <a:ln w="114480">
            <a:solidFill>
              <a:srgbClr val="993300"/>
            </a:solidFill>
            <a:miter/>
          </a:ln>
        </p:spPr>
      </p:pic>
      <p:pic>
        <p:nvPicPr>
          <p:cNvPr id="268" name="Picture 5" descr="17"/>
          <p:cNvPicPr/>
          <p:nvPr/>
        </p:nvPicPr>
        <p:blipFill>
          <a:blip r:embed="rId2"/>
          <a:stretch/>
        </p:blipFill>
        <p:spPr>
          <a:xfrm>
            <a:off x="4606920" y="1268280"/>
            <a:ext cx="45370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187280" y="549360"/>
            <a:ext cx="719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6732720" y="549360"/>
            <a:ext cx="7189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7454880" y="-27936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329480" y="-11268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875280" y="-11268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45"/>
          <p:cNvGrpSpPr/>
          <p:nvPr/>
        </p:nvGrpSpPr>
        <p:grpSpPr>
          <a:xfrm>
            <a:off x="250920" y="1701720"/>
            <a:ext cx="2357280" cy="3933360"/>
            <a:chOff x="250920" y="1701720"/>
            <a:chExt cx="2357280" cy="3933360"/>
          </a:xfrm>
        </p:grpSpPr>
        <p:pic>
          <p:nvPicPr>
            <p:cNvPr id="49" name="Picture 35" descr="N2247CF70E653"/>
            <p:cNvPicPr/>
            <p:nvPr/>
          </p:nvPicPr>
          <p:blipFill>
            <a:blip r:embed="rId1"/>
            <a:srcRect l="7057" t="7423" r="5124" b="5124"/>
            <a:stretch/>
          </p:blipFill>
          <p:spPr>
            <a:xfrm flipH="1">
              <a:off x="250920" y="1701720"/>
              <a:ext cx="2357280" cy="292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42"/>
            <p:cNvSpPr/>
            <p:nvPr/>
          </p:nvSpPr>
          <p:spPr>
            <a:xfrm flipH="1">
              <a:off x="595440" y="4626720"/>
              <a:ext cx="190296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cc"/>
                  </a:solidFill>
                  <a:latin typeface="Century Gothic"/>
                </a:rPr>
                <a:t>Г</a:t>
              </a:r>
              <a:r>
                <a:rPr b="1" lang="ru-RU" sz="6000" spc="-1" strike="noStrike">
                  <a:solidFill>
                    <a:srgbClr val="000000"/>
                  </a:solidFill>
                  <a:latin typeface="Century Gothic"/>
                </a:rPr>
                <a:t>ус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37" descr="160px-Guitar_1"/>
          <p:cNvPicPr/>
          <p:nvPr/>
        </p:nvPicPr>
        <p:blipFill>
          <a:blip r:embed="rId2"/>
          <a:srcRect l="9155" t="3732" r="10927" b="3671"/>
          <a:stretch/>
        </p:blipFill>
        <p:spPr>
          <a:xfrm>
            <a:off x="6300720" y="1539720"/>
            <a:ext cx="1730520" cy="3934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2"/>
          <p:cNvSpPr/>
          <p:nvPr/>
        </p:nvSpPr>
        <p:spPr>
          <a:xfrm flipH="1">
            <a:off x="5820840" y="5622840"/>
            <a:ext cx="29836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6000" spc="-1" strike="noStrike">
                <a:solidFill>
                  <a:srgbClr val="000000"/>
                </a:solidFill>
                <a:latin typeface="Century Gothic"/>
              </a:rPr>
              <a:t>ита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611280" y="4627440"/>
            <a:ext cx="1871640" cy="99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4920" y="15840"/>
            <a:ext cx="91090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Буква Г"/>
          <p:cNvPicPr/>
          <p:nvPr/>
        </p:nvPicPr>
        <p:blipFill>
          <a:blip r:embed="rId1"/>
          <a:srcRect l="0" t="0" r="0" b="5323"/>
          <a:stretch/>
        </p:blipFill>
        <p:spPr>
          <a:xfrm>
            <a:off x="-9360" y="1417680"/>
            <a:ext cx="5032080" cy="5445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3905280" y="0"/>
            <a:ext cx="52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Г как кран подъёмны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з поднимет многотонный!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6" descr="1238530273_18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0" y="59389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теперь послушай сказку! Жила-была на Грибе Гусеница. На ее зеленых боках были написаны разные буквы, но Гусеница букв не знала. А  ей ооочень хотелось узнать что же написано у нее на боках! И тогда она отправилась к Грамотному Гусю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7"/>
          <p:cNvSpPr/>
          <p:nvPr/>
        </p:nvSpPr>
        <p:spPr>
          <a:xfrm>
            <a:off x="5459400" y="4530600"/>
            <a:ext cx="1000080" cy="87012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870120"/>
              <a:gd name="textAreaBottom" fmla="*/ 310680 h 8701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3871800" y="4575240"/>
            <a:ext cx="1000080" cy="86976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869760"/>
              <a:gd name="textAreaBottom" fmla="*/ 310680 h 8697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2351160" y="4545000"/>
            <a:ext cx="1000080" cy="87012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870120"/>
              <a:gd name="textAreaBottom" fmla="*/ 310680 h 8701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719280" y="4451400"/>
            <a:ext cx="1000080" cy="87156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871560"/>
              <a:gd name="textAreaBottom" fmla="*/ 311040 h 8715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"/>
          <p:cNvSpPr/>
          <p:nvPr/>
        </p:nvSpPr>
        <p:spPr>
          <a:xfrm>
            <a:off x="324000" y="3063960"/>
            <a:ext cx="1728720" cy="1655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0"/>
          <p:cNvSpPr/>
          <p:nvPr/>
        </p:nvSpPr>
        <p:spPr>
          <a:xfrm>
            <a:off x="1960560" y="3149640"/>
            <a:ext cx="1728720" cy="1655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1"/>
          <p:cNvSpPr/>
          <p:nvPr/>
        </p:nvSpPr>
        <p:spPr>
          <a:xfrm>
            <a:off x="3506760" y="3149640"/>
            <a:ext cx="1728720" cy="1655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5054760" y="3094200"/>
            <a:ext cx="1728720" cy="1655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0"/>
          <p:cNvGrpSpPr/>
          <p:nvPr/>
        </p:nvGrpSpPr>
        <p:grpSpPr>
          <a:xfrm>
            <a:off x="6410160" y="1292400"/>
            <a:ext cx="2554200" cy="3018960"/>
            <a:chOff x="6410160" y="1292400"/>
            <a:chExt cx="2554200" cy="3018960"/>
          </a:xfrm>
        </p:grpSpPr>
        <p:sp>
          <p:nvSpPr>
            <p:cNvPr id="70" name="Oval 23"/>
            <p:cNvSpPr/>
            <p:nvPr/>
          </p:nvSpPr>
          <p:spPr>
            <a:xfrm>
              <a:off x="6410160" y="3353400"/>
              <a:ext cx="1000440" cy="957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6682680" y="2046960"/>
              <a:ext cx="2273760" cy="21780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7954200" y="1292400"/>
              <a:ext cx="362520" cy="3474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7318440" y="1292400"/>
              <a:ext cx="362520" cy="3474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1"/>
            <p:cNvSpPr/>
            <p:nvPr/>
          </p:nvSpPr>
          <p:spPr>
            <a:xfrm>
              <a:off x="7500960" y="1641600"/>
              <a:ext cx="92160" cy="522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3"/>
            <p:cNvSpPr/>
            <p:nvPr/>
          </p:nvSpPr>
          <p:spPr>
            <a:xfrm flipH="1">
              <a:off x="7940160" y="1641600"/>
              <a:ext cx="182160" cy="4341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4"/>
            <p:cNvSpPr/>
            <p:nvPr/>
          </p:nvSpPr>
          <p:spPr>
            <a:xfrm>
              <a:off x="7693200" y="2496600"/>
              <a:ext cx="545400" cy="52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5"/>
            <p:cNvSpPr/>
            <p:nvPr/>
          </p:nvSpPr>
          <p:spPr>
            <a:xfrm>
              <a:off x="8419320" y="2496600"/>
              <a:ext cx="545040" cy="52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6"/>
            <p:cNvSpPr/>
            <p:nvPr/>
          </p:nvSpPr>
          <p:spPr>
            <a:xfrm>
              <a:off x="8683920" y="2686320"/>
              <a:ext cx="272520" cy="26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7"/>
            <p:cNvSpPr/>
            <p:nvPr/>
          </p:nvSpPr>
          <p:spPr>
            <a:xfrm>
              <a:off x="7956000" y="2686320"/>
              <a:ext cx="272520" cy="26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8"/>
            <p:cNvSpPr/>
            <p:nvPr/>
          </p:nvSpPr>
          <p:spPr>
            <a:xfrm>
              <a:off x="8048160" y="3034440"/>
              <a:ext cx="635400" cy="608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39"/>
            <p:cNvSpPr/>
            <p:nvPr/>
          </p:nvSpPr>
          <p:spPr>
            <a:xfrm rot="16200000">
              <a:off x="8101080" y="3409200"/>
              <a:ext cx="347400" cy="81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41"/>
          <p:cNvSpPr/>
          <p:nvPr/>
        </p:nvSpPr>
        <p:spPr>
          <a:xfrm>
            <a:off x="5371920" y="3394080"/>
            <a:ext cx="10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33"/>
                </a:solidFill>
                <a:latin typeface="Century Gothic"/>
              </a:rPr>
              <a:t>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2"/>
          <p:cNvSpPr/>
          <p:nvPr/>
        </p:nvSpPr>
        <p:spPr>
          <a:xfrm>
            <a:off x="3773160" y="3502080"/>
            <a:ext cx="121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omic Sans MS"/>
              </a:rPr>
              <a:t>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3"/>
          <p:cNvSpPr/>
          <p:nvPr/>
        </p:nvSpPr>
        <p:spPr>
          <a:xfrm>
            <a:off x="2280600" y="346248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cc"/>
                </a:solidFill>
                <a:latin typeface="Broadway"/>
              </a:rPr>
              <a:t>Г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4"/>
          <p:cNvSpPr/>
          <p:nvPr/>
        </p:nvSpPr>
        <p:spPr>
          <a:xfrm>
            <a:off x="546840" y="3400560"/>
            <a:ext cx="123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Bookman Old Style"/>
              </a:rPr>
              <a:t>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1" descr="1238530273_1881"/>
          <p:cNvPicPr/>
          <p:nvPr/>
        </p:nvPicPr>
        <p:blipFill>
          <a:blip r:embed="rId1"/>
          <a:stretch/>
        </p:blipFill>
        <p:spPr>
          <a:xfrm>
            <a:off x="36360" y="-41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03320" y="58626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-Га-Га – Приветствовал ГУСЕНИЦУ Грамотный Гусь. Я помогу тебе, прочитаю, что здесь написано. Вот это – буква Г! Оооочень хорошая буква! А вот это написан слог ГА! Просто замечательный слог ГА! Га-Га-ГА! Так гогочут гуси! Очень нравится мне этот слог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889000" y="981000"/>
            <a:ext cx="36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ГА-Г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1"/>
          <p:cNvSpPr/>
          <p:nvPr/>
        </p:nvSpPr>
        <p:spPr>
          <a:xfrm flipH="1">
            <a:off x="4915800" y="5370480"/>
            <a:ext cx="684360" cy="619200"/>
          </a:xfrm>
          <a:custGeom>
            <a:avLst/>
            <a:gdLst>
              <a:gd name="textAreaLeft" fmla="*/ -360 w 684360"/>
              <a:gd name="textAreaRight" fmla="*/ 684360 w 68436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 flipH="1">
            <a:off x="6000840" y="540216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3"/>
          <p:cNvSpPr/>
          <p:nvPr/>
        </p:nvSpPr>
        <p:spPr>
          <a:xfrm flipH="1">
            <a:off x="7040520" y="5381640"/>
            <a:ext cx="682560" cy="617400"/>
          </a:xfrm>
          <a:custGeom>
            <a:avLst/>
            <a:gdLst>
              <a:gd name="textAreaLeft" fmla="*/ 0 w 682560"/>
              <a:gd name="textAreaRight" fmla="*/ 682560 w 682560"/>
              <a:gd name="textAreaTop" fmla="*/ 0 h 617400"/>
              <a:gd name="textAreaBottom" fmla="*/ 220320 h 617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4"/>
          <p:cNvSpPr/>
          <p:nvPr/>
        </p:nvSpPr>
        <p:spPr>
          <a:xfrm flipH="1">
            <a:off x="8155080" y="531504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5"/>
          <p:cNvSpPr/>
          <p:nvPr/>
        </p:nvSpPr>
        <p:spPr>
          <a:xfrm flipH="1">
            <a:off x="7927200" y="432756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 flipH="1">
            <a:off x="6808680" y="4389480"/>
            <a:ext cx="11829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 flipH="1">
            <a:off x="5752440" y="4389480"/>
            <a:ext cx="11811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 flipH="1">
            <a:off x="4695120" y="434988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9"/>
          <p:cNvGrpSpPr/>
          <p:nvPr/>
        </p:nvGrpSpPr>
        <p:grpSpPr>
          <a:xfrm>
            <a:off x="3205080" y="3068640"/>
            <a:ext cx="1744560" cy="2145960"/>
            <a:chOff x="3205080" y="3068640"/>
            <a:chExt cx="1744560" cy="2145960"/>
          </a:xfrm>
        </p:grpSpPr>
        <p:sp>
          <p:nvSpPr>
            <p:cNvPr id="98" name="Oval 30"/>
            <p:cNvSpPr/>
            <p:nvPr/>
          </p:nvSpPr>
          <p:spPr>
            <a:xfrm flipH="1">
              <a:off x="4266360" y="4533480"/>
              <a:ext cx="683280" cy="681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1"/>
            <p:cNvSpPr/>
            <p:nvPr/>
          </p:nvSpPr>
          <p:spPr>
            <a:xfrm flipH="1">
              <a:off x="3210480" y="3605040"/>
              <a:ext cx="1553040" cy="15483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2"/>
            <p:cNvSpPr/>
            <p:nvPr/>
          </p:nvSpPr>
          <p:spPr>
            <a:xfrm flipH="1">
              <a:off x="364716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3"/>
            <p:cNvSpPr/>
            <p:nvPr/>
          </p:nvSpPr>
          <p:spPr>
            <a:xfrm flipH="1">
              <a:off x="408168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4"/>
            <p:cNvSpPr/>
            <p:nvPr/>
          </p:nvSpPr>
          <p:spPr>
            <a:xfrm flipH="1">
              <a:off x="4141800" y="3316680"/>
              <a:ext cx="63000" cy="371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5"/>
            <p:cNvSpPr/>
            <p:nvPr/>
          </p:nvSpPr>
          <p:spPr>
            <a:xfrm>
              <a:off x="3780720" y="3316680"/>
              <a:ext cx="124200" cy="308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6"/>
            <p:cNvSpPr/>
            <p:nvPr/>
          </p:nvSpPr>
          <p:spPr>
            <a:xfrm flipH="1">
              <a:off x="3700440" y="3924720"/>
              <a:ext cx="37260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7"/>
            <p:cNvSpPr/>
            <p:nvPr/>
          </p:nvSpPr>
          <p:spPr>
            <a:xfrm flipH="1">
              <a:off x="3205080" y="3924720"/>
              <a:ext cx="37224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8"/>
            <p:cNvSpPr/>
            <p:nvPr/>
          </p:nvSpPr>
          <p:spPr>
            <a:xfrm flipH="1">
              <a:off x="321012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9"/>
            <p:cNvSpPr/>
            <p:nvPr/>
          </p:nvSpPr>
          <p:spPr>
            <a:xfrm flipH="1">
              <a:off x="370728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40"/>
            <p:cNvSpPr/>
            <p:nvPr/>
          </p:nvSpPr>
          <p:spPr>
            <a:xfrm flipH="1">
              <a:off x="3396600" y="4307040"/>
              <a:ext cx="434160" cy="432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41"/>
            <p:cNvSpPr/>
            <p:nvPr/>
          </p:nvSpPr>
          <p:spPr>
            <a:xfrm flipH="1" rot="5400000">
              <a:off x="3552480" y="4585320"/>
              <a:ext cx="246960" cy="55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42"/>
          <p:cNvSpPr/>
          <p:nvPr/>
        </p:nvSpPr>
        <p:spPr>
          <a:xfrm flipH="1">
            <a:off x="4848120" y="4508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 flipH="1">
            <a:off x="5883840" y="4557600"/>
            <a:ext cx="10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4"/>
          <p:cNvSpPr/>
          <p:nvPr/>
        </p:nvSpPr>
        <p:spPr>
          <a:xfrm flipH="1">
            <a:off x="6977520" y="455148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5"/>
          <p:cNvSpPr/>
          <p:nvPr/>
        </p:nvSpPr>
        <p:spPr>
          <a:xfrm flipH="1">
            <a:off x="8009280" y="4497480"/>
            <a:ext cx="10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9" descr="755"/>
          <p:cNvPicPr/>
          <p:nvPr/>
        </p:nvPicPr>
        <p:blipFill>
          <a:blip r:embed="rId2"/>
          <a:stretch/>
        </p:blipFill>
        <p:spPr>
          <a:xfrm>
            <a:off x="638280" y="1635120"/>
            <a:ext cx="2566800" cy="4397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2"/>
          <p:cNvSpPr/>
          <p:nvPr/>
        </p:nvSpPr>
        <p:spPr>
          <a:xfrm flipH="1">
            <a:off x="146520" y="115920"/>
            <a:ext cx="192888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1000" spc="-1" strike="noStrike">
                <a:solidFill>
                  <a:srgbClr val="ff0066"/>
                </a:solidFill>
                <a:latin typeface="Century Gothic"/>
              </a:rPr>
              <a:t>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6" descr="1238530273_18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106200" y="6021360"/>
            <a:ext cx="904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отный Гусь продолжил читать дальше. Вот это написан – слог ГО. ГО. Слог ГО. Слог ГО очень любят лошадки! Почему? Да потому, что они так разговаривают – И-ГО-ГО!!! И-ГО-ГО! Давай прочитаем, как говорят лошадки. И-ГО-ГО. Очень здорово! А теперь, давай послушае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172960" y="1368360"/>
            <a:ext cx="484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entury Gothic"/>
              </a:rPr>
              <a:t>И-</a:t>
            </a:r>
            <a:r>
              <a:rPr b="1" lang="ru-RU" sz="8800" spc="-1" strike="noStrike">
                <a:solidFill>
                  <a:srgbClr val="006600"/>
                </a:solidFill>
                <a:latin typeface="Century Gothic"/>
              </a:rPr>
              <a:t>ГО</a:t>
            </a:r>
            <a:r>
              <a:rPr b="1" lang="ru-RU" sz="8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8800" spc="-1" strike="noStrike">
                <a:solidFill>
                  <a:srgbClr val="006600"/>
                </a:solidFill>
                <a:latin typeface="Century Gothic"/>
              </a:rPr>
              <a:t>Г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 flipH="1">
            <a:off x="4915800" y="5370480"/>
            <a:ext cx="684360" cy="619200"/>
          </a:xfrm>
          <a:custGeom>
            <a:avLst/>
            <a:gdLst>
              <a:gd name="textAreaLeft" fmla="*/ -360 w 684360"/>
              <a:gd name="textAreaRight" fmla="*/ 684360 w 68436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 flipH="1">
            <a:off x="6000840" y="540216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 flipH="1">
            <a:off x="7040520" y="5381640"/>
            <a:ext cx="682560" cy="617400"/>
          </a:xfrm>
          <a:custGeom>
            <a:avLst/>
            <a:gdLst>
              <a:gd name="textAreaLeft" fmla="*/ 0 w 682560"/>
              <a:gd name="textAreaRight" fmla="*/ 682560 w 682560"/>
              <a:gd name="textAreaTop" fmla="*/ 0 h 617400"/>
              <a:gd name="textAreaBottom" fmla="*/ 220320 h 617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1"/>
          <p:cNvSpPr/>
          <p:nvPr/>
        </p:nvSpPr>
        <p:spPr>
          <a:xfrm flipH="1">
            <a:off x="8155080" y="531504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 flipH="1">
            <a:off x="7927200" y="432756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 flipH="1">
            <a:off x="6808680" y="4389480"/>
            <a:ext cx="11829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 flipH="1">
            <a:off x="5752440" y="4389480"/>
            <a:ext cx="11811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5"/>
          <p:cNvSpPr/>
          <p:nvPr/>
        </p:nvSpPr>
        <p:spPr>
          <a:xfrm flipH="1">
            <a:off x="4695120" y="434988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6"/>
          <p:cNvGrpSpPr/>
          <p:nvPr/>
        </p:nvGrpSpPr>
        <p:grpSpPr>
          <a:xfrm>
            <a:off x="3205080" y="3068640"/>
            <a:ext cx="1744560" cy="2145960"/>
            <a:chOff x="3205080" y="3068640"/>
            <a:chExt cx="1744560" cy="2145960"/>
          </a:xfrm>
        </p:grpSpPr>
        <p:sp>
          <p:nvSpPr>
            <p:cNvPr id="128" name="Oval 27"/>
            <p:cNvSpPr/>
            <p:nvPr/>
          </p:nvSpPr>
          <p:spPr>
            <a:xfrm flipH="1">
              <a:off x="4266360" y="4533480"/>
              <a:ext cx="683280" cy="681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flipH="1">
              <a:off x="3210480" y="3605040"/>
              <a:ext cx="1553040" cy="15483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flipH="1">
              <a:off x="364716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0"/>
            <p:cNvSpPr/>
            <p:nvPr/>
          </p:nvSpPr>
          <p:spPr>
            <a:xfrm flipH="1">
              <a:off x="408168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 flipH="1">
              <a:off x="4141800" y="3316680"/>
              <a:ext cx="63000" cy="371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780720" y="3316680"/>
              <a:ext cx="124200" cy="308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flipH="1">
              <a:off x="3700440" y="3924720"/>
              <a:ext cx="37260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flipH="1">
              <a:off x="3205080" y="3924720"/>
              <a:ext cx="37224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5"/>
            <p:cNvSpPr/>
            <p:nvPr/>
          </p:nvSpPr>
          <p:spPr>
            <a:xfrm flipH="1">
              <a:off x="321012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6"/>
            <p:cNvSpPr/>
            <p:nvPr/>
          </p:nvSpPr>
          <p:spPr>
            <a:xfrm flipH="1">
              <a:off x="370728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7"/>
            <p:cNvSpPr/>
            <p:nvPr/>
          </p:nvSpPr>
          <p:spPr>
            <a:xfrm flipH="1">
              <a:off x="3396600" y="4307040"/>
              <a:ext cx="434160" cy="432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38"/>
            <p:cNvSpPr/>
            <p:nvPr/>
          </p:nvSpPr>
          <p:spPr>
            <a:xfrm flipH="1" rot="5400000">
              <a:off x="3552480" y="4585320"/>
              <a:ext cx="246960" cy="55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39"/>
          <p:cNvSpPr/>
          <p:nvPr/>
        </p:nvSpPr>
        <p:spPr>
          <a:xfrm flipH="1">
            <a:off x="4848120" y="4508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0"/>
          <p:cNvSpPr/>
          <p:nvPr/>
        </p:nvSpPr>
        <p:spPr>
          <a:xfrm flipH="1">
            <a:off x="5883840" y="4557600"/>
            <a:ext cx="10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 flipH="1">
            <a:off x="6977520" y="455148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 flipH="1">
            <a:off x="8009280" y="4497480"/>
            <a:ext cx="10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 flipH="1">
            <a:off x="96480" y="101520"/>
            <a:ext cx="207648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1000" spc="-1" strike="noStrike">
                <a:solidFill>
                  <a:srgbClr val="ff0066"/>
                </a:solidFill>
                <a:latin typeface="Century Gothic"/>
              </a:rPr>
              <a:t>О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6" descr="755"/>
          <p:cNvPicPr/>
          <p:nvPr/>
        </p:nvPicPr>
        <p:blipFill>
          <a:blip r:embed="rId2"/>
          <a:stretch/>
        </p:blipFill>
        <p:spPr>
          <a:xfrm>
            <a:off x="65160" y="1488960"/>
            <a:ext cx="2566800" cy="4397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medium_28821"/>
          <p:cNvPicPr/>
          <p:nvPr/>
        </p:nvPicPr>
        <p:blipFill>
          <a:blip r:embed="rId3"/>
          <a:srcRect l="17137" t="0" r="0" b="0"/>
          <a:stretch/>
        </p:blipFill>
        <p:spPr>
          <a:xfrm>
            <a:off x="6948360" y="100080"/>
            <a:ext cx="2087640" cy="1888920"/>
          </a:xfrm>
          <a:prstGeom prst="rect">
            <a:avLst/>
          </a:prstGeom>
          <a:ln w="0">
            <a:noFill/>
          </a:ln>
        </p:spPr>
      </p:pic>
      <p:pic>
        <p:nvPicPr>
          <p:cNvPr id="147" name="лоша3906.wav" descr=""/>
          <p:cNvPicPr/>
          <p:nvPr/>
        </p:nvPicPr>
        <p:blipFill>
          <a:blip r:embed="rId4"/>
          <a:stretch/>
        </p:blipFill>
        <p:spPr>
          <a:xfrm>
            <a:off x="8804160" y="6461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6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45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1:14:56Z</dcterms:created>
  <dc:creator>FuckYouBill</dc:creator>
  <dc:description/>
  <dc:language>en-US</dc:language>
  <cp:lastModifiedBy>Admin</cp:lastModifiedBy>
  <dcterms:modified xsi:type="dcterms:W3CDTF">2012-12-11T18:47:58Z</dcterms:modified>
  <cp:revision>66</cp:revision>
  <dc:subject/>
  <dc:title>Слайд 1</dc:title>
</cp:coreProperties>
</file>