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45EC-185E-490E-B4B9-A0D2F8617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03A6-70F6-43AE-9DD5-6E74C6F21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0051-64B0-47C7-B274-764DC7297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F192-C137-477D-82DA-3A1ECFB9F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AED87-0333-41A1-8303-021A6976A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ED9FA-DD88-464E-AC3D-0A04136BD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8B696-114E-426C-BDF0-6447B4E33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36D2B-DDE5-49BF-B609-B807CA562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913FF-D223-463A-A413-8155F054F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6E164-B561-4787-B21C-CB8031BC7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C745D-72D1-4ECE-90ED-36A462545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AFF2-3054-45B0-967F-FF751AA88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FB532-EB4C-4BAE-A482-501D9E960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E5359-394D-4D93-8FCE-9323E7448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96D3E-6360-4FA3-A9AE-C571F7C3D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339ED-074C-42DF-9FAB-80A0430B8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0C11E-3585-4848-AE91-BE906D1A7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49B3-350D-4059-B30B-90CA46C49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8A6C-95DD-49E4-8FAE-2EAC342BB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E038-8ABF-4FA3-853D-DCE208B63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25C4-0C68-455B-A624-3676D8C94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CBE7-522C-4F7E-A0C0-103BC66F2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5B70-F219-48D2-9C76-CA3CAD14D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4F0C-25E3-4C91-AFAE-2DE936F54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64FBB-4BF7-44F5-8EEE-72ADA026BD4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42C57-6893-4A73-8475-5F1D75AB211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4000" y="1052280"/>
            <a:ext cx="86407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ГЛАГОЛ КАК ЧАСТЬ РЕЧИ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рок русского языка, 2 клас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Найди пару и запиши 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896472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Самолет                     лечит 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Маляр                         плавает 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Конь                           прыгает 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Врач                           красит 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Рыба                          скачет 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Кузнечик                  летит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 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Проверка: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86868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Самолет  летит. 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Маляр     красит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Конь    скачет.  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Врач    лечит.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Рыба    плавает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Кузнечик прыгает.                         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  </a:t>
            </a:r>
            <a:br>
              <a:rPr sz="4000"/>
            </a:b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8920" y="-360"/>
            <a:ext cx="87138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 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Выпишите глаголы: 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8930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Рано утром дедушка идёт на речку. Рядом с ним бежит наш кот Рыжик. Дед рыбачит. А кот ждёт свою рыбку. 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10476000" y="3128040"/>
            <a:ext cx="787068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Как определить, что это </a:t>
            </a: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глагол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964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Алгоритм рассуждения: 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1) Читаю слово; 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2) Задаю к нему вопрос; 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3) Определяю, что обозначает слово. 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РАБОТА В ГРУПП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Учебник с.69, упр. 119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Закончи предложение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На уроке я узнал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Я похвалил бы себя за.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После урока мне захотелось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Сегодня я сумел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Домашнее задание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. 69, упр.11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ahoma"/>
              </a:rPr>
              <a:t>СПАСИБО ЗА УРОК!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Один костер весь мир согревает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00000" y="1538280"/>
            <a:ext cx="7344000" cy="5130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Солнышко какое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весёлое, ясное, тёплое, игривое, лучистое, ласковое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ЧТО ДЕЛАЕТ СОЛНЫШКО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50752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ГРЕЕТ, УЛЫБАЕТСЯ,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СВЕТИТ, СМЕЁТСЯ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Какие слова пропущены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Одеяло __________ 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________ простыня, 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И подушка, как лягушка, 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_____________ от меня. </a:t>
            </a: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Как звучит тема урока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ГЛАГОЛ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ЧТО ТАКОЕ ГЛАГОЛ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Глагол – это часть речи, которая обозначает действие предмета и отвечает на вопросы что делает?, что делал?,  что будет делать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Продолжите предложение 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«Сегодня на уроке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я постараюсь…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Цель нашего урока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узнать побольше о глаголах,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уметь их находить,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задавать вопросы к ним </a:t>
            </a: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7T16:51:28Z</dcterms:created>
  <dc:creator>User</dc:creator>
  <dc:description/>
  <dc:language>en-US</dc:language>
  <cp:lastModifiedBy>User</cp:lastModifiedBy>
  <dcterms:modified xsi:type="dcterms:W3CDTF">2015-03-17T18:15:01Z</dcterms:modified>
  <cp:revision>3</cp:revision>
  <dc:subject/>
  <dc:title>Слайд 1</dc:title>
</cp:coreProperties>
</file>