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9.png" ContentType="image/png"/>
  <Override PartName="/ppt/media/image1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3563-82D4-4407-B60B-2FC4BEA9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A473-8212-43E3-BA5C-22A97A82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38C4-B5A0-446A-95E4-4542647CF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E173-83E3-474D-B731-6B1ED52D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8567-FFAF-4283-8299-2645CB22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1DE2-913E-4C11-B550-61CE6760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3B0C-78A0-4A6D-A24E-65C6879F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62C0-CBCD-4B31-88E4-59483D45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3DEC-71F7-4C9F-94AC-11A4C374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A182-172E-46F7-B2FA-D517FC1D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2C7F-59AE-4F8B-9905-21964FF5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E8A9-C9FE-411F-8851-561AFE9A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C2DD-4929-4A87-AD27-A7923864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2F26-61CD-41AA-827D-56032F9C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1B06-87F2-43DF-94C1-499B5B7C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AD34-743A-49E4-9EE0-8043DBC14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9FE7-62B6-4B68-B2CF-93B32153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C3A98-B028-4B02-9F86-1B56D22DD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2E7CE-F051-4295-BF79-05E7354D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B0A25-0442-4B8E-B266-EDE27B58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00B31-03F4-46A9-8882-8315AD9C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35528-A04F-4CBD-BE32-5794F050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56E0-FBAD-49C9-AE38-8CF0E50D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7224D-A793-488F-AC94-BADDD0C3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13233-119F-42DF-B3DC-46E85B30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251B8-07C5-4732-A9A3-06F3A7B6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91F22-CEBC-4ABA-AD24-F692A44C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744C9-CF4D-41D2-BE5E-2088389D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BA3F1-BF3F-4CA0-9A27-05ED7DD3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CB88F-330A-49E4-B4A1-BB4BC021D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5E1F1-3508-4F66-9FBD-757A48CE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DF563-1502-408F-ADA6-3FE1B742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6EAC6-C1E2-4A22-8505-A23FAEAC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F661-82CA-4CC2-AF71-EEED1A4A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5B2B6-A06C-4A75-A465-9FE50CA0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23C6F-41D7-4918-B249-E8A76704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040A1-3F4F-414F-8FAD-D0EBBE93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FF333-0B07-4FFB-961D-CAA65133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EBF00-5462-45E1-9541-48784339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A4CE2-D492-433D-92DC-11B3524F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6D83E-A55A-4447-82AA-C6224796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B0375-6763-4075-838A-77162231F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B624C-56F5-41D8-8331-54097CBF4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0A70A-44A9-482C-BDE5-1300EA02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790A-0BE7-4B67-9B80-78BE541D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EF863-DEDB-40F4-92BE-71247222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77C20-1FAD-43C5-BFA9-BF870AE2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2E585-604D-4E3C-B262-6EE72AE5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66B20-323B-4DA7-8A7A-BD7E0066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BBCD9-0ED1-45C6-BB7A-767DB004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C72A8-D9BF-4020-BDED-024BAF2E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6D4B9-A3B2-445C-9045-BC098F89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F4434-7708-4357-87BC-E98BAA5F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EC0F8-0657-4B54-A6B2-E70BA063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27532-4498-4706-9067-E66402BF2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A1D8-2668-4CE3-A7A9-0DA2BE6F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B3F02-8724-4CFC-A752-698922BA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AC01F-A674-48B2-A21F-C5FDEC534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F705E-557A-48F6-B816-476F566D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EF5D4-A80D-4E6D-AD3A-E0AA5607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18605-8F11-4BC2-A2DF-53BF1347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4DCDF-074C-4A2F-87F2-2CFCFF53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26BB2-32FA-49FC-8B41-48E43EEF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9DF2D-073C-4A39-9F6A-5C25C0C2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252C2-0058-40CE-B4A4-0E0EA70D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ADA57-1356-462C-A0CB-BDE681F2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5F11-E580-4163-A74F-15534CC8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DCC1D-38EE-41C3-AC20-82DB1BF9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06E20-3EB1-47E2-BAE6-0FEDB5C35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509F2-3B25-42BE-B300-A77CAC2C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A9DB1-DF5D-47D9-8B7E-979298D69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E76D0-0256-4592-9D83-71B2055C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965B8-4385-49D5-9C7E-EA762E8C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FC7C6-093A-4632-8BF1-1DB7560D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8531A-D679-4DC4-8ED9-F0B3387A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34D12-E9E4-4BE6-B3BE-30E4C60B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1741C-66EC-4E4D-A8B7-A33F3C96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E85A-8C74-4C73-A70F-F485223B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A74CE-FF3C-4BBD-A02F-CE41D9DB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DB1C6-460F-42EA-99D3-390AF14F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FAD22-A6CB-452B-BA32-0DD7C06F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B28E6-65D7-400D-8549-C0C8A7357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85BC0-3ADE-4F51-A67E-E4C8DB2D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C116D-EA0C-4DDE-A9AB-BDBF3394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FB1CF-BBE6-46EE-9DFE-DB616DF4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79335-AE19-44ED-B804-8BE7B020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6E104-739C-46D7-9334-8F69F176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78638-63A6-47D0-8696-14C2A196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4FD3-8E62-4E01-A474-1C71B339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2336C-403A-4DB7-ACEF-43BA3D66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45D4D-8059-4779-A6EE-E5DAC5F4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7029B-2EAE-49A4-A62F-356F2852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59EA3-86C0-4E46-AD97-428F7E80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D733B-4DB9-4CC7-8A97-59CAD62D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7C8D2-43A4-45D4-89D4-D44761D9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A93E3-3E00-4779-8CF1-3E7A6768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46b86">
                  <a:alpha val="1176"/>
                </a:srgbClr>
              </a:gs>
              <a:gs pos="100000">
                <a:srgbClr val="646b8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BCB1-58C9-469A-8424-BCF5E210BA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46b86">
                  <a:alpha val="1176"/>
                </a:srgbClr>
              </a:gs>
              <a:gs pos="100000">
                <a:srgbClr val="646b8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902810"/>
              </a:gs>
              <a:gs pos="100000">
                <a:srgbClr val="ff8f7e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E8E6-FE7D-43A0-9CC0-BAE7116CDC0A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46b86">
                  <a:alpha val="1176"/>
                </a:srgbClr>
              </a:gs>
              <a:gs pos="100000">
                <a:srgbClr val="646b8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02D8-E7CE-437D-B7AE-733DBF75D4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46b86">
                  <a:alpha val="1176"/>
                </a:srgbClr>
              </a:gs>
              <a:gs pos="100000">
                <a:srgbClr val="646b8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46b86">
                  <a:alpha val="1176"/>
                </a:srgbClr>
              </a:gs>
              <a:gs pos="100000">
                <a:srgbClr val="646b8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902810"/>
              </a:gs>
              <a:gs pos="100000">
                <a:srgbClr val="ff8f7e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8ADB-262B-4DDC-80F7-FD61038233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46b86">
                  <a:alpha val="1176"/>
                </a:srgbClr>
              </a:gs>
              <a:gs pos="100000">
                <a:srgbClr val="646b8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776B-AA9D-4EAC-9201-B4E32753F7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46b86">
                  <a:alpha val="1176"/>
                </a:srgbClr>
              </a:gs>
              <a:gs pos="100000">
                <a:srgbClr val="646b8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FB87-057A-49F8-8937-8DF9403CB5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46b86">
                  <a:alpha val="1176"/>
                </a:srgbClr>
              </a:gs>
              <a:gs pos="100000">
                <a:srgbClr val="646b8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E172-8D8D-4293-B4F3-B6530E1FFC52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46b86">
                  <a:alpha val="1176"/>
                </a:srgbClr>
              </a:gs>
              <a:gs pos="100000">
                <a:srgbClr val="646b8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3C6F-6903-4D56-8AF2-7134C8968BDE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5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Заголовок 1" descr=""/>
          <p:cNvPicPr/>
          <p:nvPr/>
        </p:nvPicPr>
        <p:blipFill>
          <a:blip r:embed="rId1"/>
          <a:stretch/>
        </p:blipFill>
        <p:spPr>
          <a:xfrm>
            <a:off x="-291960" y="-244440"/>
            <a:ext cx="9442440" cy="4871880"/>
          </a:xfrm>
          <a:prstGeom prst="rect">
            <a:avLst/>
          </a:prstGeom>
          <a:ln w="0">
            <a:noFill/>
          </a:ln>
        </p:spPr>
      </p:pic>
      <p:pic>
        <p:nvPicPr>
          <p:cNvPr id="358" name="Подзаголовок 2" descr=""/>
          <p:cNvPicPr/>
          <p:nvPr/>
        </p:nvPicPr>
        <p:blipFill>
          <a:blip r:embed="rId2"/>
          <a:stretch/>
        </p:blipFill>
        <p:spPr>
          <a:xfrm>
            <a:off x="536400" y="2243160"/>
            <a:ext cx="807120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438120" y="-195120"/>
            <a:ext cx="8267760" cy="19015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882440"/>
            <a:ext cx="8686800" cy="825480"/>
          </a:xfrm>
          <a:prstGeom prst="rect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47840" indent="-382680" algn="ctr">
              <a:spcBef>
                <a:spcPts val="1100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«Письмо новому другу»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438120" y="-195120"/>
            <a:ext cx="8267760" cy="19015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882800"/>
            <a:ext cx="8075520" cy="898560"/>
          </a:xfrm>
          <a:prstGeom prst="rect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47840" indent="-382680" algn="ctr">
              <a:spcBef>
                <a:spcPts val="1199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Gothic"/>
              </a:rPr>
              <a:t>«Зарядка»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Прямоугольник 3"/>
          <p:cNvSpPr/>
          <p:nvPr/>
        </p:nvSpPr>
        <p:spPr>
          <a:xfrm>
            <a:off x="2195640" y="2825640"/>
            <a:ext cx="5383080" cy="3993480"/>
          </a:xfrm>
          <a:prstGeom prst="rect">
            <a:avLst/>
          </a:prstGeom>
          <a:solidFill>
            <a:srgbClr val="00b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entury Gothic"/>
              </a:rPr>
              <a:t>Hands up</a:t>
            </a: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entury Gothic"/>
              </a:rPr>
              <a:t>Hands down</a:t>
            </a: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entury Gothic"/>
              </a:rPr>
              <a:t>Bend left</a:t>
            </a: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entury Gothic"/>
              </a:rPr>
              <a:t>Bend right</a:t>
            </a: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entury Gothic"/>
              </a:rPr>
              <a:t>Jump</a:t>
            </a: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entury Gothic"/>
              </a:rPr>
              <a:t>Run</a:t>
            </a: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entury Gothic"/>
              </a:rPr>
              <a:t>Hands on hips</a:t>
            </a: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entury Gothic"/>
              </a:rPr>
              <a:t>Sit down</a:t>
            </a: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38120" y="249120"/>
            <a:ext cx="8358120" cy="14335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6840" y="1882440"/>
            <a:ext cx="8218440" cy="1617480"/>
          </a:xfrm>
          <a:prstGeom prst="rect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1199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Gothic"/>
              </a:rPr>
              <a:t>Рабочая тетрадь: упр. 1—4 (с. 35—36)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Box 3">
            <a:hlinkClick r:id="rId1" action="ppaction://hlinksldjump"/>
          </p:cNvPr>
          <p:cNvSpPr/>
          <p:nvPr/>
        </p:nvSpPr>
        <p:spPr>
          <a:xfrm>
            <a:off x="1258920" y="765000"/>
            <a:ext cx="86508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entury Gothic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TextBox 4">
            <a:hlinkClick r:id="rId2" action="ppaction://hlinksldjump"/>
          </p:cNvPr>
          <p:cNvSpPr/>
          <p:nvPr/>
        </p:nvSpPr>
        <p:spPr>
          <a:xfrm>
            <a:off x="4067280" y="2349360"/>
            <a:ext cx="86508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entury Gothic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TextBox 5">
            <a:hlinkClick r:id="rId3" action="ppaction://hlinksldjump"/>
          </p:cNvPr>
          <p:cNvSpPr/>
          <p:nvPr/>
        </p:nvSpPr>
        <p:spPr>
          <a:xfrm>
            <a:off x="6372360" y="836640"/>
            <a:ext cx="93636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entury Gothic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TextBox 6">
            <a:hlinkClick r:id="rId4" action="ppaction://hlinksldjump"/>
          </p:cNvPr>
          <p:cNvSpPr/>
          <p:nvPr/>
        </p:nvSpPr>
        <p:spPr>
          <a:xfrm>
            <a:off x="1258920" y="2349360"/>
            <a:ext cx="86508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entury Gothic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TextBox 7">
            <a:hlinkClick r:id="rId5" action="ppaction://hlinksldjump"/>
          </p:cNvPr>
          <p:cNvSpPr/>
          <p:nvPr/>
        </p:nvSpPr>
        <p:spPr>
          <a:xfrm>
            <a:off x="4067280" y="765000"/>
            <a:ext cx="86508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entury Gothic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TextBox 8">
            <a:hlinkClick r:id="rId6" action="ppaction://hlinksldjump"/>
          </p:cNvPr>
          <p:cNvSpPr/>
          <p:nvPr/>
        </p:nvSpPr>
        <p:spPr>
          <a:xfrm>
            <a:off x="6372360" y="2349360"/>
            <a:ext cx="93636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entury Gothic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TextBox 9">
            <a:hlinkClick r:id="rId7" action="ppaction://hlinksldjump"/>
          </p:cNvPr>
          <p:cNvSpPr/>
          <p:nvPr/>
        </p:nvSpPr>
        <p:spPr>
          <a:xfrm>
            <a:off x="1258920" y="3933720"/>
            <a:ext cx="86508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entury Gothic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6" name="TextBox 10">
            <a:hlinkClick r:id="rId8" action="ppaction://hlinksldjump"/>
          </p:cNvPr>
          <p:cNvSpPr/>
          <p:nvPr/>
        </p:nvSpPr>
        <p:spPr>
          <a:xfrm>
            <a:off x="4067280" y="3933720"/>
            <a:ext cx="86508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entury Gothic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TextBox 11">
            <a:hlinkClick r:id="rId9" action="ppaction://hlinksldjump"/>
          </p:cNvPr>
          <p:cNvSpPr/>
          <p:nvPr/>
        </p:nvSpPr>
        <p:spPr>
          <a:xfrm>
            <a:off x="6372360" y="3933720"/>
            <a:ext cx="93636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entury Gothic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Пятно 2 12"/>
          <p:cNvSpPr/>
          <p:nvPr/>
        </p:nvSpPr>
        <p:spPr>
          <a:xfrm>
            <a:off x="7740720" y="4653000"/>
            <a:ext cx="1403280" cy="1871640"/>
          </a:xfrm>
          <a:prstGeom prst="irregularSeal2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9" name="Пятно 2 13"/>
          <p:cNvSpPr/>
          <p:nvPr/>
        </p:nvSpPr>
        <p:spPr>
          <a:xfrm>
            <a:off x="0" y="0"/>
            <a:ext cx="1332000" cy="1728720"/>
          </a:xfrm>
          <a:prstGeom prst="irregularSeal2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38120" y="-195120"/>
            <a:ext cx="8267760" cy="190152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1258560" y="1882800"/>
            <a:ext cx="6697800" cy="1114560"/>
          </a:xfrm>
          <a:prstGeom prst="rect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Игра «Цепочка» (“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e Chain</a:t>
            </a: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”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Rectangle 1"/>
          <p:cNvSpPr/>
          <p:nvPr/>
        </p:nvSpPr>
        <p:spPr>
          <a:xfrm>
            <a:off x="250920" y="4616640"/>
            <a:ext cx="8569080" cy="947160"/>
          </a:xfrm>
          <a:prstGeom prst="rect">
            <a:avLst/>
          </a:prstGeom>
          <a:solidFill>
            <a:srgbClr val="00b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e / eight / tomato / orange / eleven / nut / teeth / head / dog. Et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438120" y="-195120"/>
            <a:ext cx="8267760" cy="19015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56840" y="1882440"/>
            <a:ext cx="8147160" cy="1330200"/>
          </a:xfrm>
          <a:prstGeom prst="rect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47840" indent="-382680" algn="ctr">
              <a:spcBef>
                <a:spcPts val="90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Конкурс чтецов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438120" y="-195120"/>
            <a:ext cx="8267760" cy="19015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457200" y="1882800"/>
            <a:ext cx="8291520" cy="1114560"/>
          </a:xfrm>
          <a:prstGeom prst="rect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1026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entury Gothic"/>
              </a:rPr>
              <a:t>Игра «Переводчик» (“</a:t>
            </a:r>
            <a:r>
              <a:rPr b="0" lang="en-US" sz="4100" spc="-1" strike="noStrike">
                <a:solidFill>
                  <a:srgbClr val="000000"/>
                </a:solidFill>
                <a:latin typeface="Century Gothic"/>
              </a:rPr>
              <a:t>Translator</a:t>
            </a:r>
            <a:r>
              <a:rPr b="0" lang="ru-RU" sz="4100" spc="-1" strike="noStrike">
                <a:solidFill>
                  <a:srgbClr val="000000"/>
                </a:solidFill>
                <a:latin typeface="Century Gothic"/>
              </a:rPr>
              <a:t>”)</a:t>
            </a:r>
            <a:endParaRPr b="0" lang="en-US" sz="4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Прямоугольник 3"/>
          <p:cNvSpPr/>
          <p:nvPr/>
        </p:nvSpPr>
        <p:spPr>
          <a:xfrm>
            <a:off x="1095120" y="3357720"/>
            <a:ext cx="192564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11 яблок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8" name="Прямоугольник 4"/>
          <p:cNvSpPr/>
          <p:nvPr/>
        </p:nvSpPr>
        <p:spPr>
          <a:xfrm>
            <a:off x="1539720" y="4365720"/>
            <a:ext cx="211788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entury Gothic"/>
              </a:rPr>
              <a:t>6 конфет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Прямоугольник 5"/>
          <p:cNvSpPr/>
          <p:nvPr/>
        </p:nvSpPr>
        <p:spPr>
          <a:xfrm>
            <a:off x="5168880" y="3284640"/>
            <a:ext cx="211608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entury Gothic"/>
              </a:rPr>
              <a:t>29 друзей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Прямоугольник 6"/>
          <p:cNvSpPr/>
          <p:nvPr/>
        </p:nvSpPr>
        <p:spPr>
          <a:xfrm>
            <a:off x="1913040" y="5516640"/>
            <a:ext cx="227484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Century Gothic"/>
              </a:rPr>
              <a:t> учителя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1" name="Прямоугольник 7"/>
          <p:cNvSpPr/>
          <p:nvPr/>
        </p:nvSpPr>
        <p:spPr>
          <a:xfrm>
            <a:off x="6015240" y="4149720"/>
            <a:ext cx="251244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entury Gothic"/>
              </a:rPr>
              <a:t>много сыра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2" name="Прямоугольник 8"/>
          <p:cNvSpPr/>
          <p:nvPr/>
        </p:nvSpPr>
        <p:spPr>
          <a:xfrm>
            <a:off x="5794560" y="5084640"/>
            <a:ext cx="319068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entury Gothic"/>
              </a:rPr>
              <a:t>много тортов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Прямоугольник 9"/>
          <p:cNvSpPr/>
          <p:nvPr/>
        </p:nvSpPr>
        <p:spPr>
          <a:xfrm>
            <a:off x="4547520" y="5877000"/>
            <a:ext cx="258696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entury Gothic"/>
              </a:rPr>
              <a:t>много каши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Заголовок 1" descr=""/>
          <p:cNvPicPr/>
          <p:nvPr/>
        </p:nvPicPr>
        <p:blipFill>
          <a:blip r:embed="rId1"/>
          <a:stretch/>
        </p:blipFill>
        <p:spPr>
          <a:xfrm>
            <a:off x="438120" y="-195120"/>
            <a:ext cx="8267760" cy="190152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56840" y="1882800"/>
            <a:ext cx="8435880" cy="969840"/>
          </a:xfrm>
          <a:prstGeom prst="rect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9000"/>
          </a:bodyPr>
          <a:p>
            <a:pPr marL="398520" indent="-340560">
              <a:spcBef>
                <a:spcPts val="90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Игра «Снежный ком» (“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nowball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”)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98520" indent="-340560">
              <a:spcBef>
                <a:spcPts val="90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Заголовок 1" descr=""/>
          <p:cNvPicPr/>
          <p:nvPr/>
        </p:nvPicPr>
        <p:blipFill>
          <a:blip r:embed="rId1"/>
          <a:stretch/>
        </p:blipFill>
        <p:spPr>
          <a:xfrm>
            <a:off x="438120" y="-195120"/>
            <a:ext cx="8267760" cy="19015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1882800"/>
            <a:ext cx="8291520" cy="898560"/>
          </a:xfrm>
          <a:prstGeom prst="rect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434160" indent="-371160" algn="ctr">
              <a:spcBef>
                <a:spcPts val="1349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entury Gothic"/>
              </a:rPr>
              <a:t>Песенный конкурс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Заголовок 1" descr=""/>
          <p:cNvPicPr/>
          <p:nvPr/>
        </p:nvPicPr>
        <p:blipFill>
          <a:blip r:embed="rId1"/>
          <a:stretch/>
        </p:blipFill>
        <p:spPr>
          <a:xfrm>
            <a:off x="438120" y="-195120"/>
            <a:ext cx="8267760" cy="19015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456840" y="1882800"/>
            <a:ext cx="8218440" cy="969840"/>
          </a:xfrm>
          <a:prstGeom prst="rect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100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Конкурс «Вопрос — ответ»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92" name="Picture 8" descr="http://animashki.org/_bl/28/79288859.gif"/>
          <p:cNvPicPr/>
          <p:nvPr/>
        </p:nvPicPr>
        <p:blipFill>
          <a:blip r:embed="rId2"/>
          <a:stretch/>
        </p:blipFill>
        <p:spPr>
          <a:xfrm>
            <a:off x="3203640" y="2997360"/>
            <a:ext cx="2286000" cy="30477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0" descr="http://uadog.com.ua/images/news/little-maltese-dog-puppy-with-oranges-waldemar-dab.jpg"/>
          <p:cNvPicPr/>
          <p:nvPr/>
        </p:nvPicPr>
        <p:blipFill>
          <a:blip r:embed="rId3"/>
          <a:stretch/>
        </p:blipFill>
        <p:spPr>
          <a:xfrm>
            <a:off x="324000" y="404640"/>
            <a:ext cx="8572320" cy="57247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2" descr="http://www.lookandtravel.ru/wp-content/uploads/2010/10/%D0%9A%D1%80%D0%BE%D0%BA%D0%BE%D0%B4%D0%B8%D0%BB-10.jpg"/>
          <p:cNvPicPr/>
          <p:nvPr/>
        </p:nvPicPr>
        <p:blipFill>
          <a:blip r:embed="rId4"/>
          <a:stretch/>
        </p:blipFill>
        <p:spPr>
          <a:xfrm>
            <a:off x="826920" y="692280"/>
            <a:ext cx="7620120" cy="50767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4" descr="http://varlamov.me/img/monky/04.jpg"/>
          <p:cNvPicPr/>
          <p:nvPr/>
        </p:nvPicPr>
        <p:blipFill>
          <a:blip r:embed="rId5"/>
          <a:stretch/>
        </p:blipFill>
        <p:spPr>
          <a:xfrm>
            <a:off x="179280" y="549360"/>
            <a:ext cx="8744040" cy="58291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0" descr="https://encrypted-tbn0.gstatic.com/images?q=tbn:ANd9GcRRblWgUVmhQYfgP_zCiBIp0rcBZQQjXVZs03CGpvkGqPHXpMNc"/>
          <p:cNvPicPr/>
          <p:nvPr/>
        </p:nvPicPr>
        <p:blipFill>
          <a:blip r:embed="rId6"/>
          <a:stretch/>
        </p:blipFill>
        <p:spPr>
          <a:xfrm>
            <a:off x="2266920" y="620640"/>
            <a:ext cx="417672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09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Заголовок 1" descr=""/>
          <p:cNvPicPr/>
          <p:nvPr/>
        </p:nvPicPr>
        <p:blipFill>
          <a:blip r:embed="rId1"/>
          <a:stretch/>
        </p:blipFill>
        <p:spPr>
          <a:xfrm>
            <a:off x="438120" y="-195120"/>
            <a:ext cx="8267760" cy="19015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68000" y="1916280"/>
            <a:ext cx="8505720" cy="753840"/>
          </a:xfrm>
          <a:prstGeom prst="rect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marL="402840" indent="-344160" algn="ctr">
              <a:spcBef>
                <a:spcPts val="1199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Gothic"/>
              </a:rPr>
              <a:t>Конкурс капитанов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9" name="Прямоугольник 3"/>
          <p:cNvSpPr/>
          <p:nvPr/>
        </p:nvSpPr>
        <p:spPr>
          <a:xfrm>
            <a:off x="1160640" y="3068640"/>
            <a:ext cx="712584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«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Новогодние праздники</a:t>
            </a: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0" name="Прямоугольник 4"/>
          <p:cNvSpPr/>
          <p:nvPr/>
        </p:nvSpPr>
        <p:spPr>
          <a:xfrm>
            <a:off x="324000" y="4508640"/>
            <a:ext cx="8496000" cy="2043720"/>
          </a:xfrm>
          <a:prstGeom prst="rect">
            <a:avLst/>
          </a:prstGeom>
          <a:solidFill>
            <a:srgbClr val="00b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New Year, Merry Christmas, to sing songs, to dance, to play with friends, to have a lot of presents, happy holidays, a Christmas tree, to eat sweets and apple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4T18:55:43Z</dcterms:created>
  <dc:creator>Ксюша</dc:creator>
  <dc:description/>
  <dc:language>en-US</dc:language>
  <cp:lastModifiedBy>Ксюша</cp:lastModifiedBy>
  <dcterms:modified xsi:type="dcterms:W3CDTF">2014-12-24T20:07:34Z</dcterms:modified>
  <cp:revision>8</cp:revision>
  <dc:subject/>
  <dc:title>Крестики - нолики</dc:title>
</cp:coreProperties>
</file>