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0BE3-6CC5-473E-91D5-5BB13FD7C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CE40-DFAB-4289-BC3C-37D280AE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005C-B348-436D-9050-1EE1A9FD4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1BE1-BD17-4288-838D-41E60674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D4C0-F536-4F22-9EA0-DBFB5B1C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E769-6EF7-4258-875A-77124225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8E0F-E481-463E-980B-30D07953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4CBF-34B1-46BA-9B4E-F22BFDFB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0D67-F439-45D5-B503-6ED61A23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86F6-224B-425B-9AA6-2072283C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DD94-5A2B-4C19-B70A-9C133E0B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A7AA-0157-4FF1-B8F6-8D078246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8050-EAC4-4CE1-9DE1-6133E1733C82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24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КРЫМ И СЕВАСТОПОЛЬ: ИХ ИСТОРИЧЕСКОЕ ЗНАЧЕНИЕ ДЛЯ РОССИИ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    </a:t>
            </a: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Османская Империя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     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Распад Золотой Орды позволил Османской империи захватить юг Крыма, разгромить извечных врагов генуэзцев, а недавно созданное Крымское ханство сделать своим протекторатом (1478-1483 гг.). С этого времени начинается активная исламизация Крым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nstantia"/>
              </a:rPr>
              <a:t>Польско-Литовское государство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      </a:t>
            </a: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Огромная потребность Османской империи в рабах, а также постоянно ведущиеся войны, в которых большая роль отводилась легкой крымско-татарской коннице, привели к тому, что наиболее выгодным ремеслом в Крымском ханстве становится война и работорговля. Отныне Крым - постоянный источник угроз для Московского, позже Российского государства и Украины, входившей тогда в Польско-Литовское государство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   </a:t>
            </a: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Крымское ханство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Опасность, исходящая от Крымского ханства многократно усиливалась для России наличием у него династических и военных связей с другими осколками Золотой Орды – Казанским и Астраханским ханствами. В результате, русский царь Иван Грозный в течение 4-х лет (1552-1556) подчинил Казань и Астрахань. Это привело к серьезному конфликту интересов укрепляющейся России с Крымом и Османской империей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nstantia"/>
              </a:rPr>
              <a:t>Русско-крымско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Constantia"/>
              </a:rPr>
              <a:t>татарская войн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nstantia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С 1569 г. фактически началась русско-крымскотатарская война, приведшая к сожжению Москвы в 1571 г. и страшному Молодинскому побоищу в 1572 г. под Серпуховом, в результате которого была уничтожена многотысячная крымско-ногайская армия. С этого времени крымско-татарские набеги хоть и оставались регулярными, но уже не носили столь разрушительный для страны характер, как ране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Левобережная Украина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      </a:t>
            </a: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Уже в конце XVII - начале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      </a:t>
            </a: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XVIII вв. Россия начала наступление на земли крымских ханов. Это произошло после присоединения в 1654 г. Украины к России. Основным внешним фактором, побуждавшим нашу страну продвигаться на юг, была необходимость ликвидации грабительских набегов со стороны отдельных крымско-ногайских феодалов и всего Крымского ханства на соседние страны (Россию и зависимые от нее Левобережную Украину и Кабарду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onstantia"/>
              </a:rPr>
              <a:t>Русско - польская борьба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     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Другим фактором стало прямое вмешательство Крымского ханства и Османской империи в русско-польскую борьбу за Украину. В результате, Россия начинает затяжную борьбу с Турцией и Крымом за контроль над Северным Причерноморьем. Эта борьба растянулась более чем на 100 лет (</a:t>
            </a:r>
            <a:r>
              <a:rPr b="1" i="1" lang="ru-RU" sz="2000" spc="-1" strike="noStrike">
                <a:solidFill>
                  <a:srgbClr val="002060"/>
                </a:solidFill>
                <a:latin typeface="Constantia"/>
              </a:rPr>
              <a:t>Крымские походы князя Голицына, Азовские походы Петра </a:t>
            </a:r>
            <a:r>
              <a:rPr b="1" i="1" lang="en-US" sz="2000" spc="-1" strike="noStrike">
                <a:solidFill>
                  <a:srgbClr val="002060"/>
                </a:solidFill>
                <a:latin typeface="Constantia"/>
              </a:rPr>
              <a:t>I</a:t>
            </a:r>
            <a:r>
              <a:rPr b="1" i="1" lang="ru-RU" sz="2000" spc="-1" strike="noStrike">
                <a:solidFill>
                  <a:srgbClr val="002060"/>
                </a:solidFill>
                <a:latin typeface="Constantia"/>
              </a:rPr>
              <a:t>, войны 1710-1711 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onstantia"/>
              </a:rPr>
              <a:t>      </a:t>
            </a:r>
            <a:r>
              <a:rPr b="1" i="1" lang="ru-RU" sz="2000" spc="-1" strike="noStrike">
                <a:solidFill>
                  <a:srgbClr val="002060"/>
                </a:solidFill>
                <a:latin typeface="Constantia"/>
              </a:rPr>
              <a:t>1735-1739 гг.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onstantia"/>
              </a:rPr>
              <a:t>Присоединение Крыма к России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Результатом очередной русско-турецкой войны 1768-1774 годов стал Кючук-Кайнарджийский мирный договор 1774 года, по которому турки отказались от притязаний на Крым. Через несколько лет, 7 апреля 1783 года императрица Екатерина </a:t>
            </a: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II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 подписала Манифест о присоединении Крыма к Росси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   </a:t>
            </a: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Южная битва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onstantia"/>
              </a:rPr>
              <a:t>     </a:t>
            </a:r>
            <a:r>
              <a:rPr b="1" lang="en-US" sz="2200" spc="-1" strike="noStrike">
                <a:solidFill>
                  <a:srgbClr val="002060"/>
                </a:solidFill>
                <a:latin typeface="Constantia"/>
              </a:rPr>
              <a:t>Таким образом, столетняя «южная битва» увенчалась триумфальной победой России, которая обеспечила себе выход к Черному морю и закрепила за собой тем самым статус великой державы. Регулярная армия на южных и западных границах, эскадры Черноморского флота, караваны торговых кораблей были зримым подтверждением ее нового положения в мире. Теперь, как образно заметил канцлер России при Екатерине Великой А.А. Безбородко, без позволения России «</a:t>
            </a:r>
            <a:r>
              <a:rPr b="1" i="1" lang="en-US" sz="2200" spc="-1" strike="noStrike">
                <a:solidFill>
                  <a:srgbClr val="002060"/>
                </a:solidFill>
                <a:latin typeface="Constantia"/>
              </a:rPr>
              <a:t>ни одна пушка в Европе выпалить не смела</a:t>
            </a:r>
            <a:r>
              <a:rPr b="1" lang="en-US" sz="2200" spc="-1" strike="noStrike">
                <a:solidFill>
                  <a:srgbClr val="002060"/>
                </a:solidFill>
                <a:latin typeface="Constantia"/>
              </a:rPr>
              <a:t>». Победы русского оружия и дипломатии XVIII в. заложили основу дальнейшего политического и социально-экономического развития страны в XIX-XX в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onstantia"/>
              </a:rPr>
              <a:t>   </a:t>
            </a:r>
            <a:r>
              <a:rPr b="1" lang="en-US" sz="4800" spc="-1" strike="noStrike">
                <a:solidFill>
                  <a:srgbClr val="c00000"/>
                </a:solidFill>
                <a:latin typeface="Constantia"/>
              </a:rPr>
              <a:t>Вопросы на закрепление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   </a:t>
            </a: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1. В чем основные причины постоянных набегов крымских татар на Русь и Украину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   </a:t>
            </a: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2. Какая битва помогла Московскому царству несколько ослабить натиск Крымского ханства на север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   </a:t>
            </a: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3. В каком году Россия присоединила Крымское ханство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Полуостров Крым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С присоединением Крыма на полуострове начинается бурное развитие промышленности и торговли, неразрывно связанные с именем первого наместника князя Потемкина-Таврического. Строятся новые города Симферополь и Севастополь. Последний становится базой создающегося Российского черноморского флот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onstantia"/>
              </a:rPr>
              <a:t>Красивейшее место планеты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4000" y="1628280"/>
            <a:ext cx="8002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     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Крым - одно из красивейших мест планеты, увенчанное прекрасными творениями природы и человека, покоряющее вас своим особым романтическим настроем. А сколько волшебства в таких названиях, как Коктебель, Форос, Чуфут-Кале, Массандра, Балаклава, Кара-Даг, Ай-Петри, Ливадия…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  </a:t>
            </a: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Разнообразие культур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      </a:t>
            </a: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Конечно, значительная часть крымскотатарского населения не могла принять перемены. Связано это было и с религией, и с прекращением практики крымских набегов, работорговли. За несколько десятилетий большое количество татар переселилось в Турцию, а Крым стал заселяться выходцами из России, Польши, Германии. В результате, Крым опять, как несколько веков назад, превратился в регион с большим разнообразием языков, культур и религи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   </a:t>
            </a: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Курорт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     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В начале XIX века в Крыму развивается виноградарство (Магарач) и судостроение (Севастополь), прокладываются дороги. При князе Воронцове начинает обустраиваться Ялта, закладывается Воронцовский дворец, а южный берег Крыма превращается в курорт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  </a:t>
            </a: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Жемчужина империи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nstantia"/>
              </a:rPr>
              <a:t>     </a:t>
            </a:r>
            <a:r>
              <a:rPr b="1" lang="ru-RU" sz="2200" spc="-1" strike="noStrike">
                <a:solidFill>
                  <a:srgbClr val="002060"/>
                </a:solidFill>
                <a:latin typeface="Constantia"/>
              </a:rPr>
              <a:t>В середине </a:t>
            </a:r>
            <a:r>
              <a:rPr b="1" lang="en-US" sz="2200" spc="-1" strike="noStrike">
                <a:solidFill>
                  <a:srgbClr val="002060"/>
                </a:solidFill>
                <a:latin typeface="Constantia"/>
              </a:rPr>
              <a:t>XIX</a:t>
            </a:r>
            <a:r>
              <a:rPr b="1" lang="ru-RU" sz="2200" spc="-1" strike="noStrike">
                <a:solidFill>
                  <a:srgbClr val="002060"/>
                </a:solidFill>
                <a:latin typeface="Constantia"/>
              </a:rPr>
              <a:t> в. Крым, превратившийся в «жемчужину империи» и Севастополь – база уже увенчавшего себя славой Черноморского флота - стали ареной Крымской войны (</a:t>
            </a:r>
            <a:r>
              <a:rPr b="1" i="1" lang="ru-RU" sz="2200" spc="-1" strike="noStrike">
                <a:solidFill>
                  <a:srgbClr val="002060"/>
                </a:solidFill>
                <a:latin typeface="Constantia"/>
              </a:rPr>
              <a:t>война между Российской империей и коалицией в составе Британской, Французской, Османской империй и Сардинского королевства</a:t>
            </a:r>
            <a:r>
              <a:rPr b="1" lang="ru-RU" sz="2200" spc="-1" strike="noStrike">
                <a:solidFill>
                  <a:srgbClr val="002060"/>
                </a:solidFill>
                <a:latin typeface="Constantia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nstantia"/>
              </a:rPr>
              <a:t>    </a:t>
            </a:r>
            <a:r>
              <a:rPr b="1" lang="ru-RU" sz="5400" spc="-1" strike="noStrike">
                <a:solidFill>
                  <a:srgbClr val="c00000"/>
                </a:solidFill>
                <a:latin typeface="Constantia"/>
              </a:rPr>
              <a:t>Синопское сражение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     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Война началась с Синопского сражения, в котором Российский черноморский флот под командованием адмирала Нахимова практически полностью уничтожил Османский флот. Эта победа привела к входу в Черное море огромного англо-франко-османского флота (</a:t>
            </a:r>
            <a:r>
              <a:rPr b="1" i="1" lang="ru-RU" sz="2000" spc="-1" strike="noStrike">
                <a:solidFill>
                  <a:srgbClr val="002060"/>
                </a:solidFill>
                <a:latin typeface="Constantia"/>
              </a:rPr>
              <a:t>34 линейных корабля, 17 фрегатов и 38 пароходо-фрегатов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Севастопольская бухта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Войска антироссийской коалиции сумели произвести высадку в Крыму и нанесли российской армии ряд поражений. Был осажден Севастополь. Русский флот (</a:t>
            </a:r>
            <a:r>
              <a:rPr b="1" i="1" lang="ru-RU" sz="2000" spc="-1" strike="noStrike">
                <a:solidFill>
                  <a:srgbClr val="002060"/>
                </a:solidFill>
                <a:latin typeface="Constantia"/>
              </a:rPr>
              <a:t>14 линейных кораблей, 6 фрегатов и 6 пароходо-фрегатов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) не мог противостоять неприятельскому, поэтому часть кораблей затопили перед входом в Севастопольскую бухту, что ещё больше укрепило город с моря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onstantia"/>
              </a:rPr>
              <a:t>  </a:t>
            </a:r>
            <a:r>
              <a:rPr b="1" lang="en-US" sz="4800" spc="-1" strike="noStrike">
                <a:solidFill>
                  <a:srgbClr val="c00000"/>
                </a:solidFill>
                <a:latin typeface="Constantia"/>
              </a:rPr>
              <a:t>Защитники Севастополя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928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nstantia"/>
              </a:rPr>
              <a:t>      </a:t>
            </a: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Более 20 тыс. моряков сошли на берег и встали в строй вместе с солдатами. 11 месяцев 48,5 тысяч защитников Севастополя, при поддержке простых горожан героически противостояли 175-тысячной коалиционной армии. За это время погибли адмиралы Корнилов, Нахимов и Истомин, был тяжело ранен комендант крепости генерал Тотлебен. С огромными трудами, почти полностью разрушив город, 8 сентября 1855 г. французы и англичане заняли Малахов курган. Южную часть Севастополя пришлось оставить, а остатки флота затопить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onstantia"/>
              </a:rPr>
              <a:t>  </a:t>
            </a:r>
            <a:r>
              <a:rPr b="1" lang="en-US" sz="4800" spc="-1" strike="noStrike">
                <a:solidFill>
                  <a:srgbClr val="c00000"/>
                </a:solidFill>
                <a:latin typeface="Constantia"/>
              </a:rPr>
              <a:t>Защитники Севастополя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Однако, беспримерное мужество защитников Севастополя истощило силы коалиции (</a:t>
            </a:r>
            <a:r>
              <a:rPr b="1" i="1" lang="en-US" sz="2000" spc="-1" strike="noStrike">
                <a:solidFill>
                  <a:srgbClr val="002060"/>
                </a:solidFill>
                <a:latin typeface="Constantia"/>
              </a:rPr>
              <a:t>потери в Крыму превысили 128 тыс.человек</a:t>
            </a: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) и Россия не потеряла Крым, как того хотели изначально союзники, хотя ей и было запрещено иметь военный флот в Черном мор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onstantia"/>
              </a:rPr>
              <a:t>Защитники Севастополя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Этот подвиг защитников Севастополя всколыхнул всю Россию и, несмотря на тяжелое поражение, объединил общество. Не случайно уже в 1870-1871 гг. был восстановлен Севастополь, а на Черное море вернулся российский флот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    </a:t>
            </a: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Поэт Федор Тютчев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Поэт Федор Тютчев по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этому поводу написа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стихотворное обращение к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канцлеру А.М. Горчакову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Да, вы сдержали ваш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слово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Не двинув пушки, ни рубля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В свои права вступает снов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Родная русская земля —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И нам завещанное мор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Опять свободною волной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О кратком позабыв позоре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Лобзает берег свой родно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7" name="Picture 2" descr="C:\Users\rekom\Desktop\item_930_1.jpg"/>
          <p:cNvPicPr/>
          <p:nvPr/>
        </p:nvPicPr>
        <p:blipFill>
          <a:blip r:embed="rId2"/>
          <a:stretch/>
        </p:blipFill>
        <p:spPr>
          <a:xfrm>
            <a:off x="971640" y="1773360"/>
            <a:ext cx="3227400" cy="3943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    </a:t>
            </a: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Освоение Крыма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     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После Крымской войны началось наиболее активное освоение Крыма. С 70-х гг. </a:t>
            </a: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XIX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 в. Крым (за исключением Севастополя) развивается как российский курорт. Одновременно земледелие становится преобладающим занятием крымского населения. К 1890-м гг. посевы зерновых занимали 220 тыс. десятин земли. Еще 10 тыс. десятин занимали сады и виноградник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0" name="Picture 2" descr="C:\Users\rekom\Desktop\diorama_sevastopol.jpg"/>
          <p:cNvPicPr/>
          <p:nvPr/>
        </p:nvPicPr>
        <p:blipFill>
          <a:blip r:embed="rId2"/>
          <a:stretch/>
        </p:blipFill>
        <p:spPr>
          <a:xfrm>
            <a:off x="684360" y="2205000"/>
            <a:ext cx="4038480" cy="2638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   </a:t>
            </a: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Крым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71280" y="1628280"/>
            <a:ext cx="7715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     </a:t>
            </a: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Именно о Крыме написал великий русский поэ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А.С. Пушкин следующие строк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     </a:t>
            </a: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Всё живо там, всё там очей отрада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     </a:t>
            </a: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Сады татар, селенья, город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     </a:t>
            </a: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Отражена волнами скал громада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     </a:t>
            </a: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В морской дали теряются суда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     </a:t>
            </a: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Янтарь висит на лозах виноград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     </a:t>
            </a: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В лугах шумят бродящие стада..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   </a:t>
            </a: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Основные города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Накануне революции 1917 г. в Крыму проживало 800 тыс. человек, в том числе 400 тыс. русских и чуть менее 200 тыс. татар. В нaчaлe XX вeкa Кpым в xoзяйcтвeннo-экoнoмичecкoм oтнoшeнии пpeдcтaвлял coбoй aгpapный кpaй c нeбoльшим чиcлoм пpoмышлeнныx гopoдoв. Оcнoвными были Симфepoпoль и пopтoвыe гopoдa Сeвacтoпoль, Кepчь, Фeoдocия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3" name="Picture 2" descr="C:\Users\rekom\Desktop\MD_.jpg"/>
          <p:cNvPicPr/>
          <p:nvPr/>
        </p:nvPicPr>
        <p:blipFill>
          <a:blip r:embed="rId2"/>
          <a:stretch/>
        </p:blipFill>
        <p:spPr>
          <a:xfrm>
            <a:off x="755640" y="2133720"/>
            <a:ext cx="4038480" cy="3058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onstantia"/>
              </a:rPr>
              <a:t>Имена великих россиян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Крым на протяжении XIX-XX веков стал местом паломничества писателей, поэтов, художников, композиторов. Памятные места связаны с именами великих россиян А.С. Пушкина, Л.Н. Толстого, А.П. Чехова, И.К. Айвазовского, А.И. Куинджи, И.И. Левитана, И.А. Бунина, М.А. Волошина, А.С. Грина, С.С. Прокофьева и многих други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6" name="Picture 2" descr="C:\Users\rekom\Desktop\580c3ad8efb7b677506b913696dd9626.jpg"/>
          <p:cNvPicPr/>
          <p:nvPr/>
        </p:nvPicPr>
        <p:blipFill>
          <a:blip r:embed="rId2"/>
          <a:stretch/>
        </p:blipFill>
        <p:spPr>
          <a:xfrm>
            <a:off x="684360" y="1484280"/>
            <a:ext cx="1809720" cy="219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C:\Users\rekom\Desktop\Batkin1.jpg"/>
          <p:cNvPicPr/>
          <p:nvPr/>
        </p:nvPicPr>
        <p:blipFill>
          <a:blip r:embed="rId3"/>
          <a:stretch/>
        </p:blipFill>
        <p:spPr>
          <a:xfrm>
            <a:off x="2843280" y="1498680"/>
            <a:ext cx="1800000" cy="2225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C:\Users\rekom\Desktop\85025139_chehov_33.jpg"/>
          <p:cNvPicPr/>
          <p:nvPr/>
        </p:nvPicPr>
        <p:blipFill>
          <a:blip r:embed="rId4"/>
          <a:stretch/>
        </p:blipFill>
        <p:spPr>
          <a:xfrm>
            <a:off x="826920" y="3886200"/>
            <a:ext cx="1584360" cy="2508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Users\rekom\Desktop\aivazovsky.jpg"/>
          <p:cNvPicPr/>
          <p:nvPr/>
        </p:nvPicPr>
        <p:blipFill>
          <a:blip r:embed="rId5"/>
          <a:stretch/>
        </p:blipFill>
        <p:spPr>
          <a:xfrm>
            <a:off x="2843280" y="4149720"/>
            <a:ext cx="1816200" cy="1981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onstantia"/>
              </a:rPr>
              <a:t>   </a:t>
            </a:r>
            <a:r>
              <a:rPr b="1" lang="en-US" sz="4800" spc="-1" strike="noStrike">
                <a:solidFill>
                  <a:srgbClr val="c00000"/>
                </a:solidFill>
                <a:latin typeface="Constantia"/>
              </a:rPr>
              <a:t>Вопросы на закрепление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1. Каковы были основные причины эмиграции крымскотатарского населения в Турцию после присоединения Крыма к России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2. Что произошло с российским Черноморским флотом по итогам Крымской войны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3. Какие основные города были в Крыму в начале ХХ века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    </a:t>
            </a: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Советская власть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     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После революции сoвeтcкaя влacть пoбeдилa в Кpыму пoзжe, чeм в цeнтpe Рoccии. Опopoй бoльшeвикoв в Кpыму был Сeвacтoпoль. Однако уже в кoнцe aпpeля 1918 г.гepмaнcкиe вoйcкa зaxвaтили Кpым, a в нoябpe 1918 г. иx cмeнили aнгличaнe c фpaнцузaм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" name="Picture 2" descr="C:\Users\rekom\Desktop\2e0f77891f770a691e7e7483aa7da147.jpg"/>
          <p:cNvPicPr/>
          <p:nvPr/>
        </p:nvPicPr>
        <p:blipFill>
          <a:blip r:embed="rId2"/>
          <a:stretch/>
        </p:blipFill>
        <p:spPr>
          <a:xfrm>
            <a:off x="1187280" y="1413000"/>
            <a:ext cx="3027600" cy="2016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Users\rekom\Desktop\970c6fff786a97dcc6b28f181dbd4521.jpg"/>
          <p:cNvPicPr/>
          <p:nvPr/>
        </p:nvPicPr>
        <p:blipFill>
          <a:blip r:embed="rId3"/>
          <a:stretch/>
        </p:blipFill>
        <p:spPr>
          <a:xfrm>
            <a:off x="1187280" y="3807000"/>
            <a:ext cx="2953080" cy="1966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    </a:t>
            </a: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Советская власть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1" lang="ru-RU" sz="2700" spc="-1" strike="noStrike">
                <a:solidFill>
                  <a:srgbClr val="002060"/>
                </a:solidFill>
                <a:latin typeface="Constantia"/>
              </a:rPr>
              <a:t>Лeтoм 1919 г. дeникинcкaя apмия зaнялa вecь Кpым. Однaкo oceнью 1920 г. Кpacнaя Аpмия вo глaвe c М.В. Фpунзe вoccтaнoвилa здесь coвeтcкую влacть. Из Крыма эмигрировали тогда сотни тысяч человек, которые оказались разбросаны по всему свету. Очень ярко эти события показаны в кинофильме «Бег», снятым в 1970 г. по мотивам произведений Михаила Булгакова. Крым навсегда в сердцах многих русских людей, оторванных от Родины, стал последним воспоминанием о России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  </a:t>
            </a: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В составе РСФСР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Constantia"/>
              </a:rPr>
              <a:t>     </a:t>
            </a:r>
            <a:r>
              <a:rPr b="1" lang="ru-RU" sz="2500" spc="-1" strike="noStrike">
                <a:solidFill>
                  <a:srgbClr val="002060"/>
                </a:solidFill>
                <a:latin typeface="Constantia"/>
              </a:rPr>
              <a:t>Оceнью 1921 г. былa oбpaзoвaнa Кpымcкaя Автoнoмнaя Сoвeтcкaя Сoциaлиcтичecкaя Рecпубликa в cocтaвe РСФСР. С конца 1921 г. по июнь 1941 г. в Крыму произошла настоящая промышленная революция. Был построен Керченский металлургический завод. Значительно увеличилась добыча железной руды, природных стройматериалов и соли; развивалась химическая промышленность. Полностью были реконструированы консервные предприятия. К 1940 г. промышленность давала почти 80% всей валовой продукции народного хозяйства Крыма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nstantia"/>
              </a:rPr>
              <a:t>Великая Отечественная войн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      </a:t>
            </a: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Вo вpeмя Великой Отечественной вoйны нeмeцко-румынские вoйcкa oceнью 1941 г. вторглись в Кpым. Полуостров имел стратегическое значение, как один из путей к нефтеносным районам Кавказа (через Керченский пролив и Тамань). Кроме того, Крым был важен как база для авиации. С потерей Крыма советская авиация лишилась бы возможности налётов на нефтепромыслы Румынии, а немцы смогли бы наносить удары по целям на Кавказ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2" descr="C:\Users\rekom\Desktop\i_041.jpg"/>
          <p:cNvPicPr/>
          <p:nvPr/>
        </p:nvPicPr>
        <p:blipFill>
          <a:blip r:embed="rId2"/>
          <a:stretch/>
        </p:blipFill>
        <p:spPr>
          <a:xfrm>
            <a:off x="1042920" y="1413000"/>
            <a:ext cx="3395880" cy="2423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Users\rekom\Desktop\BnK9J_IIYAAbUB_.jpg"/>
          <p:cNvPicPr/>
          <p:nvPr/>
        </p:nvPicPr>
        <p:blipFill>
          <a:blip r:embed="rId3"/>
          <a:stretch/>
        </p:blipFill>
        <p:spPr>
          <a:xfrm>
            <a:off x="1258920" y="3994200"/>
            <a:ext cx="2952720" cy="2435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  </a:t>
            </a: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Оборона Севастополя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     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После тяжелейших 2-месячных боев Красная Армия отступила на Тамань. Лишь Сeвacтoпoль eщe 250 днeй вo глaвe c вицe-aдмиpaлoм Ф.С. Октябpьcким cдepживaл у cвoиx cтeн 300-тыcячную apмию вpaгa. К июлю 1942 г. Севастополь пал. Его героическая оборона получила неофициальное название Второй обороны Севастополя, проводя четкие параллели с событиями Крымской войны середины XIX столетия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6" name="Picture 2" descr="C:\Users\rekom\Desktop\727f93df46f870a4321be9cc3eede49b.jpg"/>
          <p:cNvPicPr/>
          <p:nvPr/>
        </p:nvPicPr>
        <p:blipFill>
          <a:blip r:embed="rId2"/>
          <a:stretch/>
        </p:blipFill>
        <p:spPr>
          <a:xfrm>
            <a:off x="1042920" y="1341360"/>
            <a:ext cx="3314880" cy="2203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C:\Users\rekom\Desktop\0711-624x416.jpg"/>
          <p:cNvPicPr/>
          <p:nvPr/>
        </p:nvPicPr>
        <p:blipFill>
          <a:blip r:embed="rId3"/>
          <a:stretch/>
        </p:blipFill>
        <p:spPr>
          <a:xfrm>
            <a:off x="971640" y="3716280"/>
            <a:ext cx="3476520" cy="2317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   </a:t>
            </a: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Оборона Севастополя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Constantia"/>
              </a:rPr>
              <a:t>     </a:t>
            </a:r>
            <a:r>
              <a:rPr b="1" lang="ru-RU" sz="2500" spc="-1" strike="noStrike">
                <a:solidFill>
                  <a:srgbClr val="002060"/>
                </a:solidFill>
                <a:latin typeface="Constantia"/>
              </a:rPr>
              <a:t>Как сообщало Совинформбюро: </a:t>
            </a:r>
            <a:r>
              <a:rPr b="1" i="1" lang="ru-RU" sz="2500" spc="-1" strike="noStrike">
                <a:solidFill>
                  <a:srgbClr val="002060"/>
                </a:solidFill>
                <a:latin typeface="Constantia"/>
              </a:rPr>
              <a:t>Севастополь оставлен советскими войсками, но оборона Севастополя войдёт в историю Отечественной войны Советского Союза как одна из самых ярких её страниц. Севастопольцы обогатили славные боевые традиции народов СССР. Беззаветное мужество, ярость в борьбе с врагом и самоотверженность защитников Севастополя вдохновляют советских патриотов на дальнейшие героические подвиги в борьбе против ненавистных оккупантов</a:t>
            </a:r>
            <a:r>
              <a:rPr b="1" lang="ru-RU" sz="2500" spc="-1" strike="noStrike">
                <a:solidFill>
                  <a:srgbClr val="002060"/>
                </a:solidFill>
                <a:latin typeface="Constantia"/>
              </a:rPr>
              <a:t> (Сообщение Советского Информбюро от 3 июля 1942 года)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nstantia"/>
              </a:rPr>
              <a:t>Указ Президиума Верховного Совета СССР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nstantia"/>
              </a:rPr>
              <a:t>     </a:t>
            </a:r>
            <a:r>
              <a:rPr b="1" lang="ru-RU" sz="2200" spc="-1" strike="noStrike">
                <a:solidFill>
                  <a:srgbClr val="002060"/>
                </a:solidFill>
                <a:latin typeface="Constantia"/>
              </a:rPr>
              <a:t>Вecнoй 1944 г. coвeтcкиe вoйcкa oчиcтили Кpым oт oккупaнтoв. В тoм жe гoду c пoлуocтpoвa были необоснованно выceлeны кpымcкиe тaтapы, болгары и греки, кoтopыx oбвинили в coтpудничecтвe c oккупaнтaми (</a:t>
            </a:r>
            <a:r>
              <a:rPr b="1" i="1" lang="ru-RU" sz="2200" spc="-1" strike="noStrike">
                <a:solidFill>
                  <a:srgbClr val="002060"/>
                </a:solidFill>
                <a:latin typeface="Constantia"/>
              </a:rPr>
              <a:t>Указ Президиума Верховного Совета СССР № 493 от 5 сентября 1967 года «О гражданах татарской национальности, проживавших в Крыму» признавал, что «после освобождения в 1944 году Крыма от фашистской оккупации факты активного сотрудничества с немецкими захватчиками определенной части проживающих в Крыму татар были необоснованно отнесены ко всему татарскому населению Крыма»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     </a:t>
            </a: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Референдум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26560" y="1773000"/>
            <a:ext cx="78598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Совсем недавно, 18 марта 2014 г., после проведения референдума, был подписан международный договор о принятии Крыма и Севастополя в состав России. Создан новый Крымский федеральный округ в Российской Федерации. Безусловно, это очень значимое событие и наш сегодняшний урок будет посвящен Крыму и его влиянию на русскую историю и культур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onstantia"/>
              </a:rPr>
              <a:t>      </a:t>
            </a:r>
            <a:r>
              <a:rPr b="1" lang="en-US" sz="4400" spc="-1" strike="noStrike">
                <a:solidFill>
                  <a:srgbClr val="c00000"/>
                </a:solidFill>
                <a:latin typeface="Constantia"/>
              </a:rPr>
              <a:t>Декларация Верховного Совета СССР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Constantia"/>
              </a:rPr>
              <a:t>      </a:t>
            </a:r>
            <a:r>
              <a:rPr b="1" i="1" lang="en-US" sz="2000" spc="-1" strike="noStrike">
                <a:solidFill>
                  <a:srgbClr val="002060"/>
                </a:solidFill>
                <a:latin typeface="Constantia"/>
              </a:rPr>
              <a:t>14.11.1989 г. появилась Декларация Верховного Совета СССР «О признании незаконными и преступными репрессивных актов против народов, подвергшихся насильственному переселению, и обеспечении их прав»</a:t>
            </a: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). Крымская АССР была ликвидирована и создана Крымская область и город Севастополь в составе РСФСР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4" name="Picture 2" descr="C:\Users\rekom\Desktop\100679660_dvorec_01.jpg"/>
          <p:cNvPicPr/>
          <p:nvPr/>
        </p:nvPicPr>
        <p:blipFill>
          <a:blip r:embed="rId2"/>
          <a:stretch/>
        </p:blipFill>
        <p:spPr>
          <a:xfrm>
            <a:off x="611280" y="2133720"/>
            <a:ext cx="4038480" cy="2993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onstantia"/>
              </a:rPr>
              <a:t>Воссоединение Украины и России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500" spc="-1" strike="noStrike">
                <a:solidFill>
                  <a:srgbClr val="002060"/>
                </a:solidFill>
                <a:latin typeface="Constantia"/>
              </a:rPr>
              <a:t>В 1954 г. в Советском Союзе готовились с помпой отметить 300-летие воссоединения Украины и России. Именно в связи с этим событием связано решение тогдашнего руководства страны во главе с Никитой Сергеевичем Хрущевым передать Крымскую область и Севастополь из состава РСФСР в состав Украинской ССР. Что и было сделано с нарушением действующего тогда конституционного законодательства РСФСР. Как писал в начале 90-х гг. ХХ века российский писатель А.И. Солженицын по поводу этого акта: «</a:t>
            </a:r>
            <a:r>
              <a:rPr b="1" i="1" lang="en-US" sz="2500" spc="-1" strike="noStrike">
                <a:solidFill>
                  <a:srgbClr val="002060"/>
                </a:solidFill>
                <a:latin typeface="Constantia"/>
              </a:rPr>
              <a:t>Целая область была вне всяких законов «подарена» капризом подгулявшего султана!</a:t>
            </a:r>
            <a:r>
              <a:rPr b="1" lang="en-US" sz="2500" spc="-1" strike="noStrike">
                <a:solidFill>
                  <a:srgbClr val="002060"/>
                </a:solidFill>
                <a:latin typeface="Constantia"/>
              </a:rPr>
              <a:t>»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Всесоюзная здравница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     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В 1954-1991 годах Крымская область входила в состав УССР. За эти годы Крым становится «Всесоюзной здравницей», принимая ежегодно сотни тысяч туристов. Новый импульс получает виноделие – вина Массандры, Коктебеля и Инкермана стали широко известны за пределами СССР. Хорошо развита была обрабатывающая промышленность и транспорт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9" name="Picture 4" descr="C:\Users\rekom\Desktop\Фасад.jpg"/>
          <p:cNvPicPr/>
          <p:nvPr/>
        </p:nvPicPr>
        <p:blipFill>
          <a:blip r:embed="rId2"/>
          <a:stretch/>
        </p:blipFill>
        <p:spPr>
          <a:xfrm>
            <a:off x="611280" y="1989000"/>
            <a:ext cx="4038480" cy="3194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    </a:t>
            </a: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Крымская АССР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Общность законов УССР и РСФСР в рамках единого государства, а также официальное двуязычие области с фактическим преобладанием русского языка не создавало серьезных предпосылок для недовольства у жителей Крыма. Однако 20 января 1991 г. в Крыму состоялся референдум по вопросу воссоздания Крымской АССР как отдельного субъекта СССР, в котором приняли участие 1,4 млн. граждан (81,37% избирателей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2" name="Picture 2" descr="C:\Users\rekom\Desktop\35803.jpeg"/>
          <p:cNvPicPr/>
          <p:nvPr/>
        </p:nvPicPr>
        <p:blipFill>
          <a:blip r:embed="rId2"/>
          <a:stretch/>
        </p:blipFill>
        <p:spPr>
          <a:xfrm>
            <a:off x="539640" y="2133720"/>
            <a:ext cx="4038840" cy="3062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    </a:t>
            </a: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Другое государство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За воссоздание автономной республики проголосовало 93,26%. Тем не менее, в нарушение итогов референдума в Крыму, Верховный Совет Украины принял 12 февраля 1991 г. закон «О восстановлении Крымской Автономной Советской Социалистической Республики» в составе УССР, а через 4 месяца внес соответствующие изменения в конституцию Украинской ССР 1978 года. Таким образом, после распада СССР Крым и Севастополь оказались в другом государстве хотя еще 21 мая 1992 года Верховный Совет РСФСР принял постановление № 2809-1, которое признавало Постановление Президиума Верховного Совета РСФСР от 5 февраля 1954 года «О передаче Крымской области из состава РСФСР в состав Украинской ССР» «не имеющим юридической силы с момента принятия» ввиду того, что оно было принято «с нарушением Конституции (Основного Закона) РСФСР и законодательной процедуры»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    </a:t>
            </a: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Полуостров Крым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     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Тем не менее на полуострове были очень сильны пророссийские настроения. Весной 1995 г. новый украинский президент Леонид Кучма склонил Верховный Совет Украины к ликвидации предусмотренного законом поста президента Крыма и отмены крымской конституции. В результате принятых решений в Киеве правительство автономии было полностью подчинено президенту Украин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7" name="Picture 4" descr="C:\Users\rekom\Desktop\91835227_01.jpg"/>
          <p:cNvPicPr/>
          <p:nvPr/>
        </p:nvPicPr>
        <p:blipFill>
          <a:blip r:embed="rId2"/>
          <a:stretch/>
        </p:blipFill>
        <p:spPr>
          <a:xfrm>
            <a:off x="1116000" y="2349360"/>
            <a:ext cx="3556080" cy="2667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    </a:t>
            </a: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Конституция Крыма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21 октября 1998 г. крымский парламент принял новую конституцию Крыма, которая говорила о принадлежности полуострова к Украине как ее неотъемлемой части и о подчинении ее правовым актам. Очевидно, что при принятии этого решения не были учтены результаты крымского референдума 1991 год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0" name="Picture 2" descr="C:\Users\rekom\Desktop\0c33d4ea5d59479ae5d71e0265c40967.jpg"/>
          <p:cNvPicPr/>
          <p:nvPr/>
        </p:nvPicPr>
        <p:blipFill>
          <a:blip r:embed="rId2"/>
          <a:stretch/>
        </p:blipFill>
        <p:spPr>
          <a:xfrm>
            <a:off x="755640" y="1484280"/>
            <a:ext cx="3922560" cy="4525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onstantia"/>
              </a:rPr>
              <a:t>    </a:t>
            </a:r>
            <a:r>
              <a:rPr b="1" lang="ru-RU" sz="4800" spc="-1" strike="noStrike">
                <a:solidFill>
                  <a:srgbClr val="c00000"/>
                </a:solidFill>
                <a:latin typeface="Constantia"/>
              </a:rPr>
              <a:t>Политико – экономический кризис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С этого времени в Крыму усиленными темпами шла искусственная украинизация, ущемляющая права как русского большинства, так и других народов полуостров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     </a:t>
            </a: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В конце 2013 – начале 2014 г. на Украине разразился глубокий политико-экономический кризис, приведший к вооруженному мятежу и силовому отстранению действующего Президента Украины от власт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3" name="Picture 4" descr="C:\Users\rekom\Desktop\dostoprimechateljnosti_goroda_kieva3.jpg"/>
          <p:cNvPicPr/>
          <p:nvPr/>
        </p:nvPicPr>
        <p:blipFill>
          <a:blip r:embed="rId2"/>
          <a:stretch/>
        </p:blipFill>
        <p:spPr>
          <a:xfrm>
            <a:off x="611280" y="2060640"/>
            <a:ext cx="4114800" cy="3246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    </a:t>
            </a: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Власть в стране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     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При этом власть в стране захватили поддерживаемые странами НАТО праворадикальные и русофобские элементы. Это существенно ущемило российские национальные интересы в регионе. С еще бóльшей остротой этот момент почувствовали в Крыму и Севастополе, где проживает подавляющее число русскоязычного населения и где сильна русская культурная традиц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6" name="Picture 2" descr="C:\Users\rekom\Desktop\103735522.jpg"/>
          <p:cNvPicPr/>
          <p:nvPr/>
        </p:nvPicPr>
        <p:blipFill>
          <a:blip r:embed="rId2"/>
          <a:stretch/>
        </p:blipFill>
        <p:spPr>
          <a:xfrm>
            <a:off x="611280" y="2133720"/>
            <a:ext cx="4038480" cy="3030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nstantia"/>
              </a:rPr>
              <a:t>Декларация о независимост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1" lang="en-US" sz="2700" spc="-1" strike="noStrike">
                <a:solidFill>
                  <a:srgbClr val="002060"/>
                </a:solidFill>
                <a:latin typeface="Constantia"/>
              </a:rPr>
              <a:t>11 марта 2014 г. Верховный Совет Автономной Республики Крым и Севастопольский городской совет приняли Декларацию о независимости Автономной Республики Крым и города Севастополя. 16 марта 2014 г. состоялся референдум о статусе Крыма. За воссоединение с Россией на референдуме в Крыму проголосовали 96,77% жителей. 18 марта 2014 года в Георгиевском дворце Кремля был подписан договор о вступлении Республики Крым и города Севастополя в состав Российской Федерации на правах новых субъектов.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    </a:t>
            </a: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История Крыма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1" lang="en-US" sz="2500" spc="-1" strike="noStrike">
                <a:solidFill>
                  <a:srgbClr val="002060"/>
                </a:solidFill>
                <a:latin typeface="Constantia"/>
              </a:rPr>
              <a:t>История Крыма уникальна. Тысячелетия по его земле прокатывались волны народов и завоеваний – киммерийцы, эллины, скифы, сарматы, римляне… С VI века Крым попадает под влияние Византии. Византийские императоры начинают укреплять имеющиеся крепости (прежде всего Херсонес близ современного Севастополя) и застраивать Тавриду новыми, чтобы защититься от набегов степняков-кочевников. Так появляются Алушта, Гурзуф и другие укрепления. Крым становится форпостом распространения православия в регионе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onstantia"/>
              </a:rPr>
              <a:t>В составе Российской Федерации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     </a:t>
            </a: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21 марта 2014 года был ратифицирован Федеральный Конституционный Закон «О принятии в Российскую Федерацию Республики Крым и образовании в составе Российской Федерации новых субъектов – Республики Крым и города федерального значения Севастополя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1" name="Picture 2" descr="C:\Users\rekom\Desktop\Russian-pictures-wallpaper-1280-800-Russiske-Bildene-Skyer-bilde-Ni708523.jpg"/>
          <p:cNvPicPr/>
          <p:nvPr/>
        </p:nvPicPr>
        <p:blipFill>
          <a:blip r:embed="rId2"/>
          <a:stretch/>
        </p:blipFill>
        <p:spPr>
          <a:xfrm>
            <a:off x="539640" y="2421000"/>
            <a:ext cx="4038840" cy="2523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     </a:t>
            </a: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Родина - Россия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1" lang="en-US" sz="2800" spc="-1" strike="noStrike">
                <a:solidFill>
                  <a:srgbClr val="002060"/>
                </a:solidFill>
                <a:latin typeface="Constantia"/>
              </a:rPr>
              <a:t>Таким образом, Крымский полуостров и город Севастополь, обильно политые русской кровью и овеянные ратной и трудовой славой, вновь оказались со своей Родиной – Россией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4" name="Picture 2" descr="C:\Users\rekom\Desktop\_________________508a9675d5dbd.jpg"/>
          <p:cNvPicPr/>
          <p:nvPr/>
        </p:nvPicPr>
        <p:blipFill>
          <a:blip r:embed="rId2"/>
          <a:stretch/>
        </p:blipFill>
        <p:spPr>
          <a:xfrm>
            <a:off x="971640" y="1484280"/>
            <a:ext cx="3744720" cy="2367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C:\Users\rekom\Desktop\5a63e87a2335.jpg"/>
          <p:cNvPicPr/>
          <p:nvPr/>
        </p:nvPicPr>
        <p:blipFill>
          <a:blip r:embed="rId3"/>
          <a:stretch/>
        </p:blipFill>
        <p:spPr>
          <a:xfrm>
            <a:off x="900000" y="4005360"/>
            <a:ext cx="3881520" cy="2319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   </a:t>
            </a: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Крым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55280" y="1628280"/>
            <a:ext cx="7931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      </a:t>
            </a: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Начиная со 2-й половины VII века и до середины IX, территория Крыма, без Херсонеса, во всех западноевропейских источниках именуется Хазария. Эти тюрки приняли иудаизм и создали могущественное государство на Северном Кавказе и в степях Прикаспия и Северного Причерноморья. В X веке Хазарский каганат перестал существовать в результате победы русских дружин. Однако потомки иудеев (караимы и крымчаки) остаются жить в горных районах Крыма и сейчас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onstantia"/>
              </a:rPr>
              <a:t>Киевский князь Владимир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      </a:t>
            </a: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Киевский князь Владимир – креститель Руси, принял христианство из рук Византийской церкви именно в крымском Херсонесе, который отныне у русских будет именоваться Корсунь. Таким образом, отсюда, с Крыма, пошло распространение православия по русской земле. Эта духовная скрепа усиливается и созданием на части территории полуострова и на Тамани русского Тмутараканского княжества. С этого времени, в ряде арабских летописей Черное море начинает именоваться Русским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Золотая Орда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nstantia"/>
              </a:rPr>
              <a:t>     </a:t>
            </a:r>
            <a:r>
              <a:rPr b="1" lang="ru-RU" sz="2200" spc="-1" strike="noStrike">
                <a:solidFill>
                  <a:srgbClr val="002060"/>
                </a:solidFill>
                <a:latin typeface="Constantia"/>
              </a:rPr>
              <a:t>Начиная с XIII века и до середины XV, полуостров фактически находится под влиянием Золотой Орды. Золотоордынцы именуют его Крым. Население подразделяется на кочевое, обитающее в степных районах, и оседлое, освоившее горную часть и южное побережье. Бывшие греческие полисы превратились в центры генуэзской торговл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     </a:t>
            </a:r>
            <a:r>
              <a:rPr b="1" lang="en-US" sz="5400" spc="-1" strike="noStrike">
                <a:solidFill>
                  <a:srgbClr val="c00000"/>
                </a:solidFill>
                <a:latin typeface="Constantia"/>
              </a:rPr>
              <a:t>Бахчисарай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     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Ханы основывают город Бахчисарай, как столицу Крымского улуса. Уже с конца </a:t>
            </a: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XIV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 в. крымские правители проводят достаточно самостоятельную политику, бросая иногда вызов даже золотоордынским ханам. Одним из наиболее известных крымских правителей того времени был Мамай, разбитый русскими войсками на Куликовом поле в 1380 г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2T10:49:21Z</dcterms:created>
  <dc:creator>rekom</dc:creator>
  <dc:description/>
  <dc:language>en-US</dc:language>
  <cp:lastModifiedBy>Customer</cp:lastModifiedBy>
  <dcterms:modified xsi:type="dcterms:W3CDTF">2015-03-18T12:01:13Z</dcterms:modified>
  <cp:revision>44</cp:revision>
  <dc:subject/>
  <dc:title>Слайд 1</dc:title>
</cp:coreProperties>
</file>