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5A1-F547-44C6-A25A-7FC34AFD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EC1-DDF7-4DD7-95DB-1235E934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B8F0-EE54-474F-AF0A-E3EC8D38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7A5A-1905-4984-B43C-B2951DDD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9E7-51E3-4C5B-B18E-4D988A71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8902-C5F1-4972-8AB5-AC3A5547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E5E7-4048-4387-89ED-796FE4E8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379-0FC7-49BC-92ED-57E46CCF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DEC-7DC4-4FE8-A093-1D795F9F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1824-2777-4AD7-A6C1-A7E556EE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771D-FEC4-4302-BDE1-FB4F98F6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9B2-93E7-4346-99F7-2185799A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B4CB-E280-4CC1-B9F0-C7FD9A727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4865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395280" y="333360"/>
            <a:ext cx="828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знакомтесь это я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3635280" y="2781360"/>
            <a:ext cx="2376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Рисунок 7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rcRect l="12671" t="7200" r="8756" b="18833"/>
          <a:stretch/>
        </p:blipFill>
        <p:spPr>
          <a:xfrm>
            <a:off x="0" y="12600"/>
            <a:ext cx="2575080" cy="34308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1" descr="Л - Ирина Николаевна Васенина"/>
          <p:cNvPicPr/>
          <p:nvPr/>
        </p:nvPicPr>
        <p:blipFill>
          <a:blip r:embed="rId2"/>
          <a:srcRect l="3835" t="13115" r="2173" b="5945"/>
          <a:stretch/>
        </p:blipFill>
        <p:spPr>
          <a:xfrm>
            <a:off x="2502000" y="2217600"/>
            <a:ext cx="668016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3" descr="Буква Л"/>
          <p:cNvPicPr/>
          <p:nvPr/>
        </p:nvPicPr>
        <p:blipFill>
          <a:blip r:embed="rId1"/>
          <a:srcRect l="5400" t="11276" r="5400" b="9764"/>
          <a:stretch/>
        </p:blipFill>
        <p:spPr>
          <a:xfrm>
            <a:off x="4722840" y="0"/>
            <a:ext cx="4435560" cy="421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Каллиграфия_0023_новый размер_новый размер"/>
          <p:cNvPicPr/>
          <p:nvPr/>
        </p:nvPicPr>
        <p:blipFill>
          <a:blip r:embed="rId2"/>
          <a:stretch/>
        </p:blipFill>
        <p:spPr>
          <a:xfrm>
            <a:off x="-19080" y="3108240"/>
            <a:ext cx="4915080" cy="35816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69840" y="260280"/>
            <a:ext cx="54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алаше – букве Л —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ка будет спать в метель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68360" y="4365720"/>
            <a:ext cx="3251160" cy="178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6300720" y="3213000"/>
            <a:ext cx="2108160" cy="2692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Прямоугольник 13"/>
          <p:cNvSpPr/>
          <p:nvPr/>
        </p:nvSpPr>
        <p:spPr>
          <a:xfrm>
            <a:off x="395280" y="1963800"/>
            <a:ext cx="539640" cy="528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4"/>
          <p:cNvSpPr/>
          <p:nvPr/>
        </p:nvSpPr>
        <p:spPr>
          <a:xfrm>
            <a:off x="1116000" y="1916280"/>
            <a:ext cx="647640" cy="601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5"/>
          <p:cNvSpPr/>
          <p:nvPr/>
        </p:nvSpPr>
        <p:spPr>
          <a:xfrm>
            <a:off x="2483640" y="130176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6"/>
          <p:cNvSpPr/>
          <p:nvPr/>
        </p:nvSpPr>
        <p:spPr>
          <a:xfrm>
            <a:off x="1930320" y="1963800"/>
            <a:ext cx="534960" cy="50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7"/>
          <p:cNvSpPr/>
          <p:nvPr/>
        </p:nvSpPr>
        <p:spPr>
          <a:xfrm>
            <a:off x="4842000" y="1951200"/>
            <a:ext cx="539640" cy="50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8"/>
          <p:cNvSpPr/>
          <p:nvPr/>
        </p:nvSpPr>
        <p:spPr>
          <a:xfrm>
            <a:off x="5580000" y="1952640"/>
            <a:ext cx="539640" cy="50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9"/>
          <p:cNvSpPr/>
          <p:nvPr/>
        </p:nvSpPr>
        <p:spPr>
          <a:xfrm>
            <a:off x="6221520" y="1944720"/>
            <a:ext cx="647640" cy="573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0"/>
          <p:cNvSpPr/>
          <p:nvPr/>
        </p:nvSpPr>
        <p:spPr>
          <a:xfrm>
            <a:off x="7085160" y="1963800"/>
            <a:ext cx="539640" cy="50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7137000" y="121752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447480" y="120024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3"/>
          <p:cNvSpPr/>
          <p:nvPr/>
        </p:nvSpPr>
        <p:spPr>
          <a:xfrm>
            <a:off x="1933200" y="117000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539640" y="1628640"/>
            <a:ext cx="43200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1" lang="en-US" sz="18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WordArt 5"/>
          <p:cNvSpPr txBox="1"/>
          <p:nvPr/>
        </p:nvSpPr>
        <p:spPr>
          <a:xfrm>
            <a:off x="7956720" y="1700280"/>
            <a:ext cx="63324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1187280" y="227664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468360" y="2852640"/>
            <a:ext cx="5857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1" lang="en-US" sz="18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1187280" y="3357720"/>
            <a:ext cx="633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9"/>
          <p:cNvSpPr txBox="1"/>
          <p:nvPr/>
        </p:nvSpPr>
        <p:spPr>
          <a:xfrm>
            <a:off x="7885080" y="299736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WordArt 10"/>
          <p:cNvSpPr txBox="1"/>
          <p:nvPr/>
        </p:nvSpPr>
        <p:spPr>
          <a:xfrm>
            <a:off x="485640" y="3686040"/>
            <a:ext cx="58608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1" lang="en-US" sz="18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WordArt 11"/>
          <p:cNvSpPr txBox="1"/>
          <p:nvPr/>
        </p:nvSpPr>
        <p:spPr>
          <a:xfrm>
            <a:off x="468360" y="4581360"/>
            <a:ext cx="58572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1" lang="en-US" sz="18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WordArt 12"/>
          <p:cNvSpPr txBox="1"/>
          <p:nvPr/>
        </p:nvSpPr>
        <p:spPr>
          <a:xfrm>
            <a:off x="539640" y="5516640"/>
            <a:ext cx="5857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1" lang="en-US" sz="18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1403280" y="4365720"/>
            <a:ext cx="612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1332000" y="5157720"/>
            <a:ext cx="626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 flipV="1">
            <a:off x="1260360" y="6055920"/>
            <a:ext cx="626436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6"/>
          <p:cNvSpPr txBox="1"/>
          <p:nvPr/>
        </p:nvSpPr>
        <p:spPr>
          <a:xfrm>
            <a:off x="7956720" y="393372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WordArt 17"/>
          <p:cNvSpPr txBox="1"/>
          <p:nvPr/>
        </p:nvSpPr>
        <p:spPr>
          <a:xfrm>
            <a:off x="7956720" y="4941720"/>
            <a:ext cx="71892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WordArt 19"/>
          <p:cNvSpPr txBox="1"/>
          <p:nvPr/>
        </p:nvSpPr>
        <p:spPr>
          <a:xfrm>
            <a:off x="8028000" y="5661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WordArt 20"/>
          <p:cNvSpPr txBox="1"/>
          <p:nvPr/>
        </p:nvSpPr>
        <p:spPr>
          <a:xfrm>
            <a:off x="250920" y="189000"/>
            <a:ext cx="130644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1389 L 0.69305 0.01389 E">
                                      <p:cBhvr>
                                        <p:cTn id="45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0.70087 1.48148E-006 E">
                                      <p:cBhvr>
                                        <p:cTn id="4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2315 L 0.69062 0.02315 E">
                                      <p:cBhvr>
                                        <p:cTn id="5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041 L 0.69983 0.0081 E">
                                      <p:cBhvr>
                                        <p:cTn id="5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2106 L 0.6842 0.00833 E">
                                      <p:cBhvr>
                                        <p:cTn id="6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1991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755640" y="333360"/>
            <a:ext cx="7848720" cy="61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ан  лон  лын  лу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ул  нол  ныл  ни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л  лол  лыл  ла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ла  нло  нлу  нл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0" y="476280"/>
            <a:ext cx="68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611280" y="404640"/>
            <a:ext cx="784836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-на  Ни-на Ал-ла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н-на   Эл-л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н-на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-ум  Эм-м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468360" y="620640"/>
            <a:ext cx="813600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 О-ли кук-лы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-на ка-та-ла ку-кол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ук-лы ус-ну-ли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3" descr="C:\Documents and Settings\Ольга\Рабочий стол\картинки\детские картинки-блестяшки анимашки\cdolls33.gif"/>
          <p:cNvPicPr/>
          <p:nvPr/>
        </p:nvPicPr>
        <p:blipFill>
          <a:blip r:embed="rId1"/>
          <a:stretch/>
        </p:blipFill>
        <p:spPr>
          <a:xfrm>
            <a:off x="0" y="0"/>
            <a:ext cx="17859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7:37:01Z</dcterms:created>
  <dc:creator>-</dc:creator>
  <dc:description/>
  <dc:language>en-US</dc:language>
  <cp:lastModifiedBy>Sams</cp:lastModifiedBy>
  <dcterms:modified xsi:type="dcterms:W3CDTF">2014-10-22T03:31:32Z</dcterms:modified>
  <cp:revision>5</cp:revision>
  <dc:subject/>
  <dc:title>Слайд 1</dc:title>
</cp:coreProperties>
</file>