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E94-359A-4F53-AC88-841D6ECD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6A3-3B2F-4EDB-875D-B1595E5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B8C-0E04-4FE4-9611-66D030D2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503-00C2-41D4-8106-CCBC4B58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90A-E5D0-4DDE-AEFF-160EA88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66E-3C58-4C49-8E11-6660E31D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2BE-4835-45F8-9DCB-42ADA26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9EB-B020-485C-A8FD-20978757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452-5E0B-4420-8A56-0B0B38A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150-37C6-4AC2-B636-387A60B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FA1-C340-4820-ADD8-D9E1907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FDB-16C6-4966-A38B-D4D7F74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6DD2-5087-4108-A168-B341BCA8C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6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95280" y="33336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накомтесь это 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635280" y="2781360"/>
            <a:ext cx="23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12671" t="7200" r="8756" b="18833"/>
          <a:stretch/>
        </p:blipFill>
        <p:spPr>
          <a:xfrm>
            <a:off x="0" y="12600"/>
            <a:ext cx="2575080" cy="343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Л - Ирина Николаевна Васенина"/>
          <p:cNvPicPr/>
          <p:nvPr/>
        </p:nvPicPr>
        <p:blipFill>
          <a:blip r:embed="rId2"/>
          <a:srcRect l="3835" t="13115" r="2173" b="5945"/>
          <a:stretch/>
        </p:blipFill>
        <p:spPr>
          <a:xfrm>
            <a:off x="2502000" y="2217600"/>
            <a:ext cx="66801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3" descr="Буква Л"/>
          <p:cNvPicPr/>
          <p:nvPr/>
        </p:nvPicPr>
        <p:blipFill>
          <a:blip r:embed="rId1"/>
          <a:srcRect l="5400" t="11276" r="5400" b="9764"/>
          <a:stretch/>
        </p:blipFill>
        <p:spPr>
          <a:xfrm>
            <a:off x="4722840" y="0"/>
            <a:ext cx="4435560" cy="421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Каллиграфия_0023_новый размер_новый размер"/>
          <p:cNvPicPr/>
          <p:nvPr/>
        </p:nvPicPr>
        <p:blipFill>
          <a:blip r:embed="rId2"/>
          <a:stretch/>
        </p:blipFill>
        <p:spPr>
          <a:xfrm>
            <a:off x="-19080" y="3108240"/>
            <a:ext cx="491508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69840" y="260280"/>
            <a:ext cx="54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алаше – букве Л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ка будет спать в метел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3251160" cy="178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108160" cy="26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Прямоугольник 13"/>
          <p:cNvSpPr/>
          <p:nvPr/>
        </p:nvSpPr>
        <p:spPr>
          <a:xfrm>
            <a:off x="395280" y="1963800"/>
            <a:ext cx="539640" cy="52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116000" y="1916280"/>
            <a:ext cx="647640" cy="60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2483640" y="130176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6"/>
          <p:cNvSpPr/>
          <p:nvPr/>
        </p:nvSpPr>
        <p:spPr>
          <a:xfrm>
            <a:off x="1930320" y="1963800"/>
            <a:ext cx="53496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4842000" y="1951200"/>
            <a:ext cx="53964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8"/>
          <p:cNvSpPr/>
          <p:nvPr/>
        </p:nvSpPr>
        <p:spPr>
          <a:xfrm>
            <a:off x="5580000" y="1952640"/>
            <a:ext cx="539640" cy="50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6221520" y="1944720"/>
            <a:ext cx="647640" cy="573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0"/>
          <p:cNvSpPr/>
          <p:nvPr/>
        </p:nvSpPr>
        <p:spPr>
          <a:xfrm>
            <a:off x="7085160" y="1963800"/>
            <a:ext cx="53964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7137000" y="12175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447480" y="12002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1933200" y="117000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539640" y="1628640"/>
            <a:ext cx="4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7956720" y="1700280"/>
            <a:ext cx="6332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1187280" y="22766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68360" y="285264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187280" y="3357720"/>
            <a:ext cx="633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7885080" y="299736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485640" y="3686040"/>
            <a:ext cx="5860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68360" y="4581360"/>
            <a:ext cx="5857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39640" y="551664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1403280" y="4365720"/>
            <a:ext cx="612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332000" y="5157720"/>
            <a:ext cx="626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1260360" y="6055920"/>
            <a:ext cx="62643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7956720" y="393372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7"/>
          <p:cNvSpPr txBox="1"/>
          <p:nvPr/>
        </p:nvSpPr>
        <p:spPr>
          <a:xfrm>
            <a:off x="7956720" y="4941720"/>
            <a:ext cx="7189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8028000" y="5661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20"/>
          <p:cNvSpPr txBox="1"/>
          <p:nvPr/>
        </p:nvSpPr>
        <p:spPr>
          <a:xfrm>
            <a:off x="250920" y="189000"/>
            <a:ext cx="1306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1389 L 0.69305 0.01389 E">
                                      <p:cBhvr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70087 1.48148E-006 E"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2315 L 0.69062 0.02315 E">
                                      <p:cBhvr>
                                        <p:cTn id="5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041 L 0.69983 0.0081 E">
                                      <p:cBhvr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06 L 0.6842 0.00833 E">
                                      <p:cBhvr>
                                        <p:cTn id="6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19910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755640" y="333360"/>
            <a:ext cx="784872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ан  лон  лын  лу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л  нол  ныл  ни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л  лол  лыл  ла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ла  нло  нлу  нл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0" y="476280"/>
            <a:ext cx="6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611280" y="404640"/>
            <a:ext cx="784836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-на  Ни-на Ал-ла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-на   Эл-л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н-н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-ум  Эм-м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468360" y="620640"/>
            <a:ext cx="81360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О-ли кук-л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-на ка-та-ла ку-кол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-лы ус-ну-л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3" descr="C:\Documents and Settings\Ольга\Рабочий стол\картинки\детские картинки-блестяшки анимашки\cdolls33.gif"/>
          <p:cNvPicPr/>
          <p:nvPr/>
        </p:nvPicPr>
        <p:blipFill>
          <a:blip r:embed="rId1"/>
          <a:stretch/>
        </p:blipFill>
        <p:spPr>
          <a:xfrm>
            <a:off x="0" y="0"/>
            <a:ext cx="17859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37:01Z</dcterms:created>
  <dc:creator>-</dc:creator>
  <dc:description/>
  <dc:language>en-US</dc:language>
  <cp:lastModifiedBy>Sams</cp:lastModifiedBy>
  <dcterms:modified xsi:type="dcterms:W3CDTF">2014-10-22T03:31:32Z</dcterms:modified>
  <cp:revision>5</cp:revision>
  <dc:subject/>
  <dc:title>Слайд 1</dc:title>
</cp:coreProperties>
</file>