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png" ContentType="image/png"/>
  <Override PartName="/ppt/media/image20.jpeg" ContentType="image/jpeg"/>
  <Override PartName="/ppt/media/image2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C32-8B30-4F66-9900-72DABA1A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ECD-8E87-4BE1-AB11-D361859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9F4-9717-491E-8AC9-C40522AF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9AE-D06D-44DE-9B50-4210BC21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8F2F-6B6A-42FF-BA8F-442BEB17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1D55-B2F7-411E-A654-46D357FA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75BE-55F6-4341-86A6-3ACF9325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984A-904A-4A03-A106-F31A16B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6BBB-ABBB-4EF5-9AA7-840E1B9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F4E8-8EF7-45C5-8B8D-84CF65A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0EC4-0C4C-4229-A02F-E016A3CF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10F-B5CC-4203-9548-97DED3D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FC19-2633-43BA-A00F-3B676B91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5CD8-3355-487D-A381-D6BBE5B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5F92-C90B-4AD0-B7FA-3195623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B4F1-71A7-4735-AAC9-033A20D0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D257-C283-4832-BA5D-C621627B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FCAB7-D736-48A4-A578-1B3087DA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655CD-8163-4F30-BBD3-EC2C57A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71E43-0F2B-4115-BFE8-17B48A4A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B92AE-F541-4BED-8AD4-02E2903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0BC8A-316E-4BE5-8614-A4588EBC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615-9923-4073-B97C-50AFA409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DC108-F9ED-4B55-8E34-6C110850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EAA0A-4881-4094-A64F-6E335ABE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B973D-D7D8-4358-9693-01DC63B5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D261D-BCA1-4813-938C-CDA2802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09B09-CCEF-4710-A4FA-CFD74FA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F38E5-F6A7-4CA4-A828-C6F3B1BB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388BF-B9BF-478E-8BC2-668A2C9A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7FC-1F46-4F3B-9E20-F01A305B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40E-B689-40F3-8D76-B972D446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374-3AA1-4855-A106-E0B6ECF1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B4C-9A91-4A0F-ACB4-62F93B0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FE7-B662-4536-8725-AD48071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040-C382-4A99-8F9D-157208D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595F-B004-4D9B-9EFC-A272937B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08D5-3D1F-4509-8854-76F1A095D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E857-92CA-471A-B399-E86445C93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692360" y="2133720"/>
            <a:ext cx="575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дноклето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зеленые водорос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2846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886200" cy="3031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72320" y="25653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amydo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6680" y="278136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bomon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mnae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3198960" cy="324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0480" y="3573360"/>
            <a:ext cx="33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lamy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adas dinobryo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24360" y="3500280"/>
            <a:ext cx="2900520" cy="3170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727960" y="35002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hinocoleum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35320" y="189000"/>
            <a:ext cx="5740560" cy="6480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9280" y="333360"/>
            <a:ext cx="324036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клеточные формы кокковых с гладкой оболоч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-4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cocc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1 - взрослая клет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- образование зооспо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- зооспо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- молодые клетки, образовавшиеся из зооспор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-7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ell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5 - взрослая клетка, 6 - образование автоспо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 - выход автоспор из материнской клетки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-9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cystis pseudocoronat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тдельная клетка и образование автоспор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nastrum bibraia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kistrodesmus aciculari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3860640"/>
            <a:ext cx="864072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2830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35240" y="3141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4920" cy="2808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871600" y="306864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lorogonium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933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ококковые водоросли исключительно многообразны. В водоемах они принимают активное участие в сложении планктона. Они обычны также в наземных местообитаниях и в почве. Известны среди них симбионты и даже паразиты. Обычно поселяются на панцирях циклопов и дафний, реже - на их личинках, коловратках, инфузориях, личинках ком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оторые виды специально изучаются для использования в качестве регенераторов воздуха, воды и пищевой биомассы при дальних космических пол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067280" y="189000"/>
            <a:ext cx="1081080" cy="360360"/>
          </a:xfrm>
          <a:prstGeom prst="rect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70880" y="18900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4292640"/>
            <a:ext cx="6049800" cy="2376360"/>
          </a:xfrm>
          <a:prstGeom prst="rect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4292640"/>
            <a:ext cx="59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елла нетребовательна к условиям обитания и способна весьма интенсивно размножаться, поэтому встречается повсеместно. Она входит в состав лишайников. По количеству посвященных ей работ хлорелле принадлежит первое место среди всех водорослей нашей планеты.  Она стала основным объектом массового культивирования водорослей для практическо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392720" y="189000"/>
            <a:ext cx="4628880" cy="655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333360"/>
            <a:ext cx="42498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клеточные формы хлорококковых с шипами и выростами на оболоч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- Treubaria triappendicul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- Lagerheimia citriformi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 Diacanthos belenophoru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- Tetraedron caudatum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- Golenkinia radia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- Polyedriopsys spinulos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- Characium acuminat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40000" cy="2441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87600" y="270828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traedron caud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08360" y="2133720"/>
            <a:ext cx="5184720" cy="4583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942520" y="1700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k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551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496680" y="59500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chroederia setig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c0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5260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4797360"/>
            <a:ext cx="5796000" cy="1871640"/>
          </a:xfrm>
          <a:prstGeom prst="rect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869000"/>
            <a:ext cx="57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леные водоросли широко распространены в воде, почве, в наземных местообитаниях, на разных географических широтах, во всех морях и на всех континентах земного шара. Они встречаются в водах с различной степенью солености, температуры, кисло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4653000"/>
            <a:ext cx="6048360" cy="2089080"/>
          </a:xfrm>
          <a:prstGeom prst="rect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4653000"/>
            <a:ext cx="6032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ые водоросли входят в состав различных биоценозов, экосистем. Развиваясь иногда в массовом количестве, они выходят на доминирующее положение в биоценоз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овое развитие микроскопических зеленых водорослей нередко вызывает зеленое или красное цветение воды, почвы, снега, ск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28472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27280" y="479736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797360"/>
            <a:ext cx="172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96000" y="40428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4046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112536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6000" y="191628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11840" y="836640"/>
            <a:ext cx="17269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51640" y="907920"/>
            <a:ext cx="122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1773360"/>
            <a:ext cx="122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360" y="1031760"/>
            <a:ext cx="2303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1800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201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7840" y="260280"/>
            <a:ext cx="23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6019920"/>
            <a:ext cx="4897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00" y="5999040"/>
            <a:ext cx="3529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94360" y="4653000"/>
            <a:ext cx="2592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1480" y="4651200"/>
            <a:ext cx="2159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3500280"/>
            <a:ext cx="547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клеточные синезеленые водоро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240" y="472428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вокс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vocophycea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88320" y="472428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к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ccophycea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54435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640" y="6019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ижные жгутиковые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колонии таких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601992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движные клетки с плотной оболоч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колонии таких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54435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2720" y="333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8160" y="17002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реп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0880" y="2349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360" y="105264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ноживу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40428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56000" y="40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484000" y="119700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40000" y="1844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195280" y="249228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36880" y="1968480"/>
            <a:ext cx="17780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91240" y="1989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72520" y="239760"/>
            <a:ext cx="1223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27240" y="2602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177336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54880" y="90792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на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4160" y="90792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4581360"/>
            <a:ext cx="1224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5868720" cy="626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84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476280"/>
            <a:ext cx="309708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клеточные вольвоксов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ourfieldia cordiformi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phroselmis olivace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amimonas tetrarhynchy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ytomella agili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nochloris quadrilob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а - вид спереди; б - вид сбоку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rmatozopsis exsultan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raselmis cordiformi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а - вид сбоку; б - вид сверху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llariochloris striat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monas infirm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rffelia ovat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а - вид спереди; б - вид сверху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 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odictyon tricilia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monas reticulat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ytoma uvell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rakomonas irregulari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henochloris urceolat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omonas stellat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plostauron angulos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teromonas angulos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а - вид спереди; б - вид сбоку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dinoperopsis gracili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а - в оптическом сечении; б - с поверхнос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550120" cy="4838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752920" cy="3038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61400" y="328464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haerollopsis fluvioti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3240" y="49417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atococcus lob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5881680" cy="6242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404640"/>
            <a:ext cx="2808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амидомонадов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-2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amydomonas probosciger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зрослая клетка и копуляцмя изогам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raea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анцире коловрат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bomonas stellat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cilla bicaudat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teria crucifer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7840" y="189000"/>
            <a:ext cx="5761080" cy="2735280"/>
          </a:xfrm>
          <a:prstGeom prst="rect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60280"/>
            <a:ext cx="5643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и р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ламидомон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битатели мелких, хорошо прогреваемых и сильно загрязненных водоемов. Это активные санитары загрязненных вод, вызывающие зеленое цветение. Наряду с автотрофным способом питания их клетки способны всасывать через оболочку растворенные в воде органические вещества, что способствует активизации процессов самоочищения загрязненных в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7800" cy="5981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639600" y="630864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amydom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3:20:17Z</dcterms:created>
  <dc:creator>Elsantes</dc:creator>
  <dc:description/>
  <dc:language>en-US</dc:language>
  <cp:lastModifiedBy>user</cp:lastModifiedBy>
  <dcterms:modified xsi:type="dcterms:W3CDTF">2015-03-18T07:55:33Z</dcterms:modified>
  <cp:revision>46</cp:revision>
  <dc:subject/>
  <dc:title>Слайд 1</dc:title>
</cp:coreProperties>
</file>