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1CF-0DC8-4D50-BB1F-F1E76392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DA5-A125-4750-8FBB-E85E7B3C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E47-0A6F-40DC-89A4-4E099F61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677-F6C7-4A66-BEA8-142B77C7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D646-CA58-4408-BE75-056F6397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DAD1-E90F-495D-B28E-6FF8F0B3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5652-E419-4389-B43B-5705ED86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5610-5026-48A2-BF0A-201D1477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B198-732F-4D53-A009-9147DB94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BDE-CD8D-4A6C-B80A-3EE00A27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86A3-3FF4-47F5-9F24-502E2CC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963-C1F6-4C72-9FE6-013439FD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B11E-2D49-4D0C-9913-827D75C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ECDD-B370-4F7E-A180-CB79506F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540F-218D-4F9C-84E8-BD8503AD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321D-9A3B-43B9-84E2-4CECB96C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5539-F2EE-4D81-A5B7-25752D1B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50C-4BF5-40C7-9886-DF65EF06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B93-B680-4BF2-88C4-6CF65A30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D94-42C7-406B-8085-3D925483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9A9-1379-4AAE-B7E4-1D739257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257-EDEB-4C1C-B5C7-4B185E0E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25A-E725-494B-8EA1-F704740D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D36-BBC4-4F56-858A-81F3CD59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A720-C769-49CB-B246-743856113E4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A278-02D2-418C-8754-A57D79ACBAA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072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Саркомастигофоры 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есто обита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сновные отличительные особенно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Значение и многообраз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3573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076720" y="5950080"/>
            <a:ext cx="1152720" cy="792000"/>
          </a:xfrm>
          <a:prstGeom prst="rightArrow">
            <a:avLst>
              <a:gd name="adj1" fmla="val 50000"/>
              <a:gd name="adj2" fmla="val 3638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endshow"/>
          </p:cNvPr>
          <p:cNvSpPr/>
          <p:nvPr/>
        </p:nvSpPr>
        <p:spPr>
          <a:xfrm>
            <a:off x="83170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2411280" y="28544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1476360" y="32860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1476360" y="40784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lastslide"/>
          </p:cNvPr>
          <p:cNvSpPr/>
          <p:nvPr/>
        </p:nvSpPr>
        <p:spPr>
          <a:xfrm>
            <a:off x="1792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4653000"/>
            <a:ext cx="576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редставители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85800" indent="-68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меба обыкновенна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85800" indent="-68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Эвглена зелена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508464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3794"/>
                </a:moveTo>
                <a:lnTo>
                  <a:pt x="20533" y="10800"/>
                </a:lnTo>
                <a:lnTo>
                  <a:pt x="6521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516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-46836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еста об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аркомастигофоры  являются  обитателями  в  основном  соленых  вод,  однако  живут  также  и  в  пресной  воде,  во  влажной  почв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Многие  паразитируют  в  организме  животных  и  человек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5076720" y="5950080"/>
            <a:ext cx="1152720" cy="792000"/>
          </a:xfrm>
          <a:prstGeom prst="rightArrow">
            <a:avLst>
              <a:gd name="adj1" fmla="val 50000"/>
              <a:gd name="adj2" fmla="val 3638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 flipH="1">
            <a:off x="2483640" y="5950080"/>
            <a:ext cx="1150920" cy="792000"/>
          </a:xfrm>
          <a:prstGeom prst="rightArrow">
            <a:avLst>
              <a:gd name="adj1" fmla="val 50000"/>
              <a:gd name="adj2" fmla="val 3633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endshow"/>
          </p:cNvPr>
          <p:cNvSpPr/>
          <p:nvPr/>
        </p:nvSpPr>
        <p:spPr>
          <a:xfrm>
            <a:off x="83170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сновные отличительные особенн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Большинство саркодовых и жгутиковых - свободно-живущие организмы, часть - паразиты. Форма тела непостоянная (амебы) или постоянная (эвглены, лямблии, трихомонады). Органеллы передвижения - ложноножки (псевдоподии) или жгутик (может быть несколько, как у лямблий, трихомонад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5076720" y="5950080"/>
            <a:ext cx="1152720" cy="792000"/>
          </a:xfrm>
          <a:prstGeom prst="rightArrow">
            <a:avLst>
              <a:gd name="adj1" fmla="val 50000"/>
              <a:gd name="adj2" fmla="val 3638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 flipH="1">
            <a:off x="2483640" y="5950080"/>
            <a:ext cx="1150920" cy="792000"/>
          </a:xfrm>
          <a:prstGeom prst="rightArrow">
            <a:avLst>
              <a:gd name="adj1" fmla="val 50000"/>
              <a:gd name="adj2" fmla="val 3633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83170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ногообраз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считывается около 25000 вид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лассифицируют  два  подтипа – Саркодовые  (Sarcodina)  и  Жгутиконосцы  (Mastigophora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амые известные представители – амеба, эвглена зеленая, вольвокс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5076720" y="5950080"/>
            <a:ext cx="1152720" cy="792000"/>
          </a:xfrm>
          <a:prstGeom prst="rightArrow">
            <a:avLst>
              <a:gd name="adj1" fmla="val 50000"/>
              <a:gd name="adj2" fmla="val 3638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 flipH="1">
            <a:off x="2483640" y="5950080"/>
            <a:ext cx="1150920" cy="792000"/>
          </a:xfrm>
          <a:prstGeom prst="rightArrow">
            <a:avLst>
              <a:gd name="adj1" fmla="val 50000"/>
              <a:gd name="adj2" fmla="val 3633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endshow"/>
          </p:cNvPr>
          <p:cNvSpPr/>
          <p:nvPr/>
        </p:nvSpPr>
        <p:spPr>
          <a:xfrm>
            <a:off x="83170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меба обыкновен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7920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Строение: наружная клеточная мембрана,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цитоплазма, ядро, сократительная вакуоль,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пищеварительные вакуол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Образует ложноножки; передвигаясь,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ложноножками обтекает пищу. Питается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одноклеточными организмами. Образовавшиеся в процессе переваривания пищи питательные вещества поступают в цитоплазму; остатки непереваренной пищи удаляются в любой части тела; растворенные в воде вещества (продукты обмена) и избыток воды удаляются через сократительную вакуоль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Дышит растворенным в воде кислородом через всю поверхность тел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Размножение амебы происходит только бесполым способом — делением клетки на две. Делению цитоплазмы предшествует митотическое деление диплоидного ядр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Дизентерийная амеба — паразит человека, обитающий в толстой кишке. Заражение происходит при употреблении воды, содержащей цисты амебы, а также с загрязненными продуктами питания. Амебы внедряются в слизистую кишечника и питаются эритроцитами. Из-за изъязвления кишечника у человека развивается тяжелое заболевание — амебная дизентерия, или амебиаз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2000160" cy="13338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5076720" y="5950080"/>
            <a:ext cx="1152720" cy="792000"/>
          </a:xfrm>
          <a:prstGeom prst="rightArrow">
            <a:avLst>
              <a:gd name="adj1" fmla="val 50000"/>
              <a:gd name="adj2" fmla="val 3638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 flipH="1">
            <a:off x="2483640" y="5950080"/>
            <a:ext cx="1150920" cy="792000"/>
          </a:xfrm>
          <a:prstGeom prst="rightArrow">
            <a:avLst>
              <a:gd name="adj1" fmla="val 50000"/>
              <a:gd name="adj2" fmla="val 3633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endshow"/>
          </p:cNvPr>
          <p:cNvSpPr/>
          <p:nvPr/>
        </p:nvSpPr>
        <p:spPr>
          <a:xfrm>
            <a:off x="83170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Эвглена зеле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47640" y="1412640"/>
            <a:ext cx="705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Эвглена зеленая принадлежит к растительным жгутиконосцам. Она обитает в мелких стоячих водоемах, вода которых содержит много растворенных органических вещест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роение: веретеновидная клетка, имеет жгутик, цитоплазму, ядро, сократительную вакуоль, светочувствительный глазок, хлоропласты и бесцветные пласти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На свету эвглена зеленая питается как зеленое растение: происходит процесс фотосинтеза, и образуются питательные веществ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пособна к миксотрофному питанию; в клетке содержатся зернышки запасного вещества парамилона - полисахарида, близкого к крахмалу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Минеральные вещества, кислород и углекислый газ эвглена поглощает из воды через всю поверхность тел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змножаются эвглены только бесполым путем — продольным делением клетки на две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111744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5076720" y="5950080"/>
            <a:ext cx="1152720" cy="792000"/>
          </a:xfrm>
          <a:prstGeom prst="rightArrow">
            <a:avLst>
              <a:gd name="adj1" fmla="val 50000"/>
              <a:gd name="adj2" fmla="val 3638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 flipH="1">
            <a:off x="2483640" y="5950080"/>
            <a:ext cx="1150920" cy="792000"/>
          </a:xfrm>
          <a:prstGeom prst="rightArrow">
            <a:avLst>
              <a:gd name="adj1" fmla="val 50000"/>
              <a:gd name="adj2" fmla="val 3633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endshow"/>
          </p:cNvPr>
          <p:cNvSpPr/>
          <p:nvPr/>
        </p:nvSpPr>
        <p:spPr>
          <a:xfrm>
            <a:off x="83170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на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аркодовые и жгутиковые способствуют самоочищению водоемов, служат пищей многим водным животным, являются индикаторами степени загрязнения воды, объектами лабораторных исследований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 flipH="1">
            <a:off x="2483640" y="5950080"/>
            <a:ext cx="1150920" cy="792000"/>
          </a:xfrm>
          <a:prstGeom prst="rightArrow">
            <a:avLst>
              <a:gd name="adj1" fmla="val 50000"/>
              <a:gd name="adj2" fmla="val 3633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endshow"/>
          </p:cNvPr>
          <p:cNvSpPr/>
          <p:nvPr/>
        </p:nvSpPr>
        <p:spPr>
          <a:xfrm>
            <a:off x="83170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прав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ледующий слай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едыдущий слай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рейти в данный разде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лавная страниц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прав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ых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557360"/>
            <a:ext cx="720720" cy="495360"/>
          </a:xfrm>
          <a:prstGeom prst="rightArrow">
            <a:avLst>
              <a:gd name="adj1" fmla="val 50000"/>
              <a:gd name="adj2" fmla="val 36374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116000" y="2133720"/>
            <a:ext cx="719280" cy="495360"/>
          </a:xfrm>
          <a:prstGeom prst="rightArrow">
            <a:avLst>
              <a:gd name="adj1" fmla="val 50000"/>
              <a:gd name="adj2" fmla="val 36301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2852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1258920" y="3357720"/>
            <a:ext cx="504720" cy="449280"/>
          </a:xfrm>
          <a:custGeom>
            <a:avLst/>
            <a:gdLst>
              <a:gd name="textAreaLeft" fmla="*/ 28800 w 504720"/>
              <a:gd name="textAreaRight" fmla="*/ 475920 w 504720"/>
              <a:gd name="textAreaTop" fmla="*/ 28800 h 449280"/>
              <a:gd name="textAreaBottom" fmla="*/ 420480 h 449280"/>
            </a:gdLst>
            <a:ahLst/>
            <a:rect l="textAreaLeft" t="textAreaTop" r="textAreaRight" b="textAreaBottom"/>
            <a:pathLst>
              <a:path w="24263" h="21600">
                <a:moveTo>
                  <a:pt x="0" y="0"/>
                </a:moveTo>
                <a:lnTo>
                  <a:pt x="24263" y="0"/>
                </a:lnTo>
                <a:lnTo>
                  <a:pt x="24263" y="21600"/>
                </a:lnTo>
                <a:lnTo>
                  <a:pt x="0" y="21600"/>
                </a:lnTo>
                <a:close/>
              </a:path>
              <a:path fill="lightenLess" w="24263" h="21600">
                <a:moveTo>
                  <a:pt x="0" y="0"/>
                </a:moveTo>
                <a:lnTo>
                  <a:pt x="24263" y="0"/>
                </a:lnTo>
                <a:lnTo>
                  <a:pt x="22863" y="1400"/>
                </a:lnTo>
                <a:lnTo>
                  <a:pt x="1400" y="1400"/>
                </a:lnTo>
                <a:close/>
              </a:path>
              <a:path fill="darken" w="24263" h="21600">
                <a:moveTo>
                  <a:pt x="24263" y="0"/>
                </a:moveTo>
                <a:lnTo>
                  <a:pt x="24263" y="21600"/>
                </a:lnTo>
                <a:lnTo>
                  <a:pt x="22863" y="20200"/>
                </a:lnTo>
                <a:lnTo>
                  <a:pt x="22863" y="1400"/>
                </a:lnTo>
                <a:close/>
              </a:path>
              <a:path fill="darkenLess" w="24263" h="21600">
                <a:moveTo>
                  <a:pt x="24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3" y="20200"/>
                </a:lnTo>
                <a:close/>
              </a:path>
              <a:path fill="lighten" w="24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3" h="21600">
                <a:moveTo>
                  <a:pt x="12132" y="3837"/>
                </a:moveTo>
                <a:lnTo>
                  <a:pt x="14708" y="6448"/>
                </a:lnTo>
                <a:lnTo>
                  <a:pt x="14708" y="4707"/>
                </a:lnTo>
                <a:lnTo>
                  <a:pt x="16483" y="4707"/>
                </a:lnTo>
                <a:lnTo>
                  <a:pt x="16483" y="8224"/>
                </a:lnTo>
                <a:lnTo>
                  <a:pt x="19095" y="10800"/>
                </a:lnTo>
                <a:lnTo>
                  <a:pt x="17441" y="10800"/>
                </a:lnTo>
                <a:lnTo>
                  <a:pt x="17441" y="17989"/>
                </a:lnTo>
                <a:lnTo>
                  <a:pt x="6822" y="17989"/>
                </a:lnTo>
                <a:lnTo>
                  <a:pt x="6822" y="10800"/>
                </a:lnTo>
                <a:lnTo>
                  <a:pt x="5169" y="10800"/>
                </a:lnTo>
                <a:close/>
              </a:path>
              <a:path fill="darkenLess" w="24263" h="21600">
                <a:moveTo>
                  <a:pt x="14708" y="6448"/>
                </a:moveTo>
                <a:lnTo>
                  <a:pt x="14708" y="4707"/>
                </a:lnTo>
                <a:lnTo>
                  <a:pt x="16483" y="4707"/>
                </a:lnTo>
                <a:lnTo>
                  <a:pt x="16483" y="8224"/>
                </a:lnTo>
                <a:close/>
              </a:path>
              <a:path fill="darkenLess" w="24263" h="21600">
                <a:moveTo>
                  <a:pt x="11209" y="14299"/>
                </a:moveTo>
                <a:lnTo>
                  <a:pt x="13054" y="14299"/>
                </a:lnTo>
                <a:lnTo>
                  <a:pt x="13054" y="17989"/>
                </a:lnTo>
                <a:lnTo>
                  <a:pt x="17441" y="17989"/>
                </a:lnTo>
                <a:lnTo>
                  <a:pt x="17441" y="10800"/>
                </a:lnTo>
                <a:lnTo>
                  <a:pt x="6822" y="10800"/>
                </a:lnTo>
                <a:lnTo>
                  <a:pt x="6822" y="17989"/>
                </a:lnTo>
                <a:lnTo>
                  <a:pt x="11209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lastslide"/>
          </p:cNvPr>
          <p:cNvSpPr/>
          <p:nvPr/>
        </p:nvSpPr>
        <p:spPr>
          <a:xfrm>
            <a:off x="1258920" y="3933720"/>
            <a:ext cx="504720" cy="449280"/>
          </a:xfrm>
          <a:custGeom>
            <a:avLst/>
            <a:gdLst>
              <a:gd name="textAreaLeft" fmla="*/ 28800 w 504720"/>
              <a:gd name="textAreaRight" fmla="*/ 475920 w 504720"/>
              <a:gd name="textAreaTop" fmla="*/ 28800 h 449280"/>
              <a:gd name="textAreaBottom" fmla="*/ 420480 h 449280"/>
            </a:gdLst>
            <a:ahLst/>
            <a:rect l="textAreaLeft" t="textAreaTop" r="textAreaRight" b="textAreaBottom"/>
            <a:pathLst>
              <a:path w="24263" h="21600">
                <a:moveTo>
                  <a:pt x="0" y="0"/>
                </a:moveTo>
                <a:lnTo>
                  <a:pt x="24263" y="0"/>
                </a:lnTo>
                <a:lnTo>
                  <a:pt x="24263" y="21600"/>
                </a:lnTo>
                <a:lnTo>
                  <a:pt x="0" y="21600"/>
                </a:lnTo>
                <a:close/>
              </a:path>
              <a:path fill="lightenLess" w="24263" h="21600">
                <a:moveTo>
                  <a:pt x="0" y="0"/>
                </a:moveTo>
                <a:lnTo>
                  <a:pt x="24263" y="0"/>
                </a:lnTo>
                <a:lnTo>
                  <a:pt x="22863" y="1400"/>
                </a:lnTo>
                <a:lnTo>
                  <a:pt x="1400" y="1400"/>
                </a:lnTo>
                <a:close/>
              </a:path>
              <a:path fill="darken" w="24263" h="21600">
                <a:moveTo>
                  <a:pt x="24263" y="0"/>
                </a:moveTo>
                <a:lnTo>
                  <a:pt x="24263" y="21600"/>
                </a:lnTo>
                <a:lnTo>
                  <a:pt x="22863" y="20200"/>
                </a:lnTo>
                <a:lnTo>
                  <a:pt x="22863" y="1400"/>
                </a:lnTo>
                <a:close/>
              </a:path>
              <a:path fill="darkenLess" w="24263" h="21600">
                <a:moveTo>
                  <a:pt x="24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3" y="20200"/>
                </a:lnTo>
                <a:close/>
              </a:path>
              <a:path fill="lighten" w="24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3" h="21600">
                <a:moveTo>
                  <a:pt x="1213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63" h="21600">
                <a:moveTo>
                  <a:pt x="13237" y="14281"/>
                </a:moveTo>
                <a:lnTo>
                  <a:pt x="13237" y="12323"/>
                </a:lnTo>
                <a:cubicBezTo>
                  <a:pt x="13237" y="11496"/>
                  <a:pt x="13568" y="10800"/>
                  <a:pt x="14168" y="10800"/>
                </a:cubicBezTo>
                <a:cubicBezTo>
                  <a:pt x="15300" y="10800"/>
                  <a:pt x="16196" y="9434"/>
                  <a:pt x="16196" y="7849"/>
                </a:cubicBezTo>
                <a:cubicBezTo>
                  <a:pt x="16196" y="5534"/>
                  <a:pt x="14342" y="3794"/>
                  <a:pt x="12132" y="3794"/>
                </a:cubicBezTo>
                <a:cubicBezTo>
                  <a:pt x="9921" y="3794"/>
                  <a:pt x="8250" y="5534"/>
                  <a:pt x="8250" y="7849"/>
                </a:cubicBezTo>
                <a:lnTo>
                  <a:pt x="10104" y="7849"/>
                </a:lnTo>
                <a:cubicBezTo>
                  <a:pt x="10104" y="6709"/>
                  <a:pt x="11026" y="5821"/>
                  <a:pt x="12132" y="5821"/>
                </a:cubicBezTo>
                <a:cubicBezTo>
                  <a:pt x="13237" y="5821"/>
                  <a:pt x="14168" y="6709"/>
                  <a:pt x="14168" y="7849"/>
                </a:cubicBezTo>
                <a:cubicBezTo>
                  <a:pt x="14168" y="8589"/>
                  <a:pt x="13698" y="9320"/>
                  <a:pt x="13237" y="9320"/>
                </a:cubicBezTo>
                <a:cubicBezTo>
                  <a:pt x="12132" y="9320"/>
                  <a:pt x="11026" y="10800"/>
                  <a:pt x="11026" y="12323"/>
                </a:cubicBezTo>
                <a:lnTo>
                  <a:pt x="11026" y="14281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endshow"/>
          </p:cNvPr>
          <p:cNvSpPr/>
          <p:nvPr/>
        </p:nvSpPr>
        <p:spPr>
          <a:xfrm>
            <a:off x="83170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1258920" y="4510080"/>
            <a:ext cx="504720" cy="449280"/>
          </a:xfrm>
          <a:custGeom>
            <a:avLst/>
            <a:gdLst>
              <a:gd name="textAreaLeft" fmla="*/ 28800 w 504720"/>
              <a:gd name="textAreaRight" fmla="*/ 475920 w 504720"/>
              <a:gd name="textAreaTop" fmla="*/ 28800 h 449280"/>
              <a:gd name="textAreaBottom" fmla="*/ 420480 h 449280"/>
            </a:gdLst>
            <a:ahLst/>
            <a:rect l="textAreaLeft" t="textAreaTop" r="textAreaRight" b="textAreaBottom"/>
            <a:pathLst>
              <a:path w="24263" h="21600">
                <a:moveTo>
                  <a:pt x="0" y="0"/>
                </a:moveTo>
                <a:lnTo>
                  <a:pt x="24263" y="0"/>
                </a:lnTo>
                <a:lnTo>
                  <a:pt x="24263" y="21600"/>
                </a:lnTo>
                <a:lnTo>
                  <a:pt x="0" y="21600"/>
                </a:lnTo>
                <a:close/>
              </a:path>
              <a:path fill="lightenLess" w="24263" h="21600">
                <a:moveTo>
                  <a:pt x="0" y="0"/>
                </a:moveTo>
                <a:lnTo>
                  <a:pt x="24263" y="0"/>
                </a:lnTo>
                <a:lnTo>
                  <a:pt x="22863" y="1400"/>
                </a:lnTo>
                <a:lnTo>
                  <a:pt x="1400" y="1400"/>
                </a:lnTo>
                <a:close/>
              </a:path>
              <a:path fill="darken" w="24263" h="21600">
                <a:moveTo>
                  <a:pt x="24263" y="0"/>
                </a:moveTo>
                <a:lnTo>
                  <a:pt x="24263" y="21600"/>
                </a:lnTo>
                <a:lnTo>
                  <a:pt x="22863" y="20200"/>
                </a:lnTo>
                <a:lnTo>
                  <a:pt x="22863" y="1400"/>
                </a:lnTo>
                <a:close/>
              </a:path>
              <a:path fill="darkenLess" w="24263" h="21600">
                <a:moveTo>
                  <a:pt x="24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3" y="20200"/>
                </a:lnTo>
                <a:close/>
              </a:path>
              <a:path fill="lighten" w="24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3" h="21600">
                <a:moveTo>
                  <a:pt x="5125" y="7493"/>
                </a:moveTo>
                <a:lnTo>
                  <a:pt x="8633" y="7493"/>
                </a:lnTo>
                <a:lnTo>
                  <a:pt x="8633" y="12828"/>
                </a:lnTo>
                <a:cubicBezTo>
                  <a:pt x="8633" y="13751"/>
                  <a:pt x="9433" y="14482"/>
                  <a:pt x="10469" y="14482"/>
                </a:cubicBezTo>
                <a:lnTo>
                  <a:pt x="12132" y="14482"/>
                </a:lnTo>
                <a:cubicBezTo>
                  <a:pt x="13167" y="14482"/>
                  <a:pt x="13968" y="13751"/>
                  <a:pt x="13968" y="12828"/>
                </a:cubicBezTo>
                <a:lnTo>
                  <a:pt x="13968" y="7493"/>
                </a:lnTo>
                <a:lnTo>
                  <a:pt x="12132" y="7493"/>
                </a:lnTo>
                <a:lnTo>
                  <a:pt x="15639" y="3985"/>
                </a:lnTo>
                <a:lnTo>
                  <a:pt x="19312" y="7493"/>
                </a:lnTo>
                <a:lnTo>
                  <a:pt x="17476" y="7493"/>
                </a:lnTo>
                <a:lnTo>
                  <a:pt x="17476" y="12828"/>
                </a:lnTo>
                <a:cubicBezTo>
                  <a:pt x="17476" y="15596"/>
                  <a:pt x="14899" y="18155"/>
                  <a:pt x="12132" y="18155"/>
                </a:cubicBezTo>
                <a:lnTo>
                  <a:pt x="10469" y="18155"/>
                </a:lnTo>
                <a:cubicBezTo>
                  <a:pt x="7701" y="18155"/>
                  <a:pt x="5125" y="15596"/>
                  <a:pt x="5125" y="12828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8:19:06Z</dcterms:created>
  <dc:creator>kplus</dc:creator>
  <dc:description/>
  <dc:language>en-US</dc:language>
  <cp:lastModifiedBy>user</cp:lastModifiedBy>
  <dcterms:modified xsi:type="dcterms:W3CDTF">2015-03-18T07:53:33Z</dcterms:modified>
  <cp:revision>5</cp:revision>
  <dc:subject/>
  <dc:title>Саркомастигофоры </dc:title>
</cp:coreProperties>
</file>