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ADD1-18C1-436C-9112-3D37AEFD9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3851-63F4-4ECA-8E2C-98C29AC6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6B03-5E0E-43E5-AF50-BC8447E24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99B2-3E36-4968-95C2-1AB5BE6F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BD6E4-C1F2-4C32-8999-A1686192C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13B67-FDC2-4410-8C4A-184B64E4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ACCDF-6EAD-4129-8396-3D479406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E5C82-7CCB-4E35-8B3B-8ED5C3CB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38C5D-C8DB-401C-B371-9D72863D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347E9-0575-4905-8650-8CE6ED57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A2EEC-7114-4B68-9979-D8B3B1DD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942C-80B8-4761-B9BB-C675A83F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4A5D8-A082-4004-B7D2-35371B1E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A18AD-D73C-4D1E-A0F9-2D915DB1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93C97-C063-4E78-B8D6-CFDA2350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578A9-9BBE-4CA8-83FB-3930D8C99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E7BB6-31AE-4252-9055-26D5A61D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03FC-6ABC-4239-AB71-BE6DDF90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B7E9-8060-4F39-ADAA-EC4F3671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10BB-3F3A-4584-A7E9-18F56F45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49F1-4B24-4086-98BD-51FF6269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6B14-39FA-4CB8-B076-5BFA7336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490B-9D1F-4191-84C3-211E9EED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CB88-C1A1-40E5-A422-1EF9D217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31A7-D275-4C7F-A43D-2CF648C408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F62C-A33D-40FD-9D8F-195E1553C96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png"/><Relationship Id="rId3" Type="http://schemas.openxmlformats.org/officeDocument/2006/relationships/package" Target="../embeddings/oleObject2.pptx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Муниципальное</a:t>
            </a:r>
            <a:br>
              <a:rPr sz="4800"/>
            </a:b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общеобразовательное</a:t>
            </a:r>
            <a:br>
              <a:rPr sz="4800"/>
            </a:b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учреждение</a:t>
            </a:r>
            <a:br>
              <a:rPr sz="4800"/>
            </a:b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Худоеланская</a:t>
            </a:r>
            <a:br>
              <a:rPr sz="4800"/>
            </a:b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основная</a:t>
            </a:r>
            <a:br>
              <a:rPr sz="4800"/>
            </a:b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общеобразовательная</a:t>
            </a:r>
            <a:br>
              <a:rPr sz="4800"/>
            </a:b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школа.</a:t>
            </a:r>
            <a:br>
              <a:rPr sz="4800"/>
            </a:b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2010г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 наши дни школа двухэтажна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4" name="Object 5"/>
          <p:cNvGraphicFramePr/>
          <p:nvPr/>
        </p:nvGraphicFramePr>
        <p:xfrm>
          <a:off x="1405080" y="3313080"/>
          <a:ext cx="3095640" cy="21765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3313080"/>
                    <a:ext cx="3095640" cy="21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6"/>
          <p:cNvGraphicFramePr/>
          <p:nvPr/>
        </p:nvGraphicFramePr>
        <p:xfrm>
          <a:off x="4648320" y="3305160"/>
          <a:ext cx="3090600" cy="21607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0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305160"/>
                    <a:ext cx="309060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ИСКИ КОМПОЗИЦИ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843280" y="2784600"/>
            <a:ext cx="403380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ерб нашей школы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5" descr="гЕРБ 2измен"/>
          <p:cNvPicPr/>
          <p:nvPr/>
        </p:nvPicPr>
        <p:blipFill>
          <a:blip r:embed="rId1"/>
          <a:stretch/>
        </p:blipFill>
        <p:spPr>
          <a:xfrm>
            <a:off x="1835280" y="3295800"/>
            <a:ext cx="2808000" cy="20858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В год основания – 1931 – школа располагалась в 4-х деревянных домах, поэтому на гербе  - одноэтажное здание. Ветки завершают композицию, символизируют честь, славу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мблема -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Условное или символическое изображение какого-либо понятия, иде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оя эмблем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Я являюсь частью своей малой родины. Эмблема символизирует мои интересы в моём возрасте. Я люблю математику и биологию, люблю читать художественную и познавательную литературу, дружу со спортом, а также слушаю хорошую музы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сё это присутствует в моей эмблем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ИСКИ КОМПОЗИЦИ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2987640" y="2717640"/>
            <a:ext cx="3960720" cy="23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оя эмблем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2411280" y="2454120"/>
            <a:ext cx="42483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028 -0.49711 C -0.47552 -0.49064 -0.4658 -0.46937 -0.45225 -0.46336 C -0.44514 -0.45341 -0.43628 -0.4474 -0.42691 -0.44208 C -0.41962 -0.4326 -0.41093 -0.43376 -0.40139 -0.43168 C -0.38819 -0.4289 -0.36649 -0.41966 -0.35382 -0.41249 C -0.34774 -0.40902 -0.34635 -0.40486 -0.34114 -0.39977 C -0.33229 -0.39099 -0.3217 -0.3822 -0.31093 -0.37873 C -0.30781 -0.37596 -0.30503 -0.37179 -0.30139 -0.37018 C -0.29826 -0.36879 -0.29201 -0.36601 -0.29201 -0.36601 C -0.28385 -0.35584 -0.29479 -0.36809 -0.28246 -0.35977 C -0.28107 -0.35885 -0.28038 -0.35653 -0.27916 -0.35538 C -0.27396 -0.35075 -0.26736 -0.34867 -0.2618 -0.34497 C -0.25243 -0.33179 -0.26805 -0.35237 -0.25069 -0.33642 C -0.24757 -0.33364 -0.24583 -0.32879 -0.24271 -0.32578 C -0.24097 -0.32393 -0.23837 -0.32347 -0.23663 -0.32162 C -0.22951 -0.31515 -0.22135 -0.30428 -0.21423 -0.2985 C -0.20677 -0.29226 -0.19791 -0.28763 -0.19045 -0.28139 C -0.16927 -0.26451 -0.18021 -0.2696 -0.16805 -0.26451 C -0.15764 -0.25411 -0.14583 -0.24625 -0.13472 -0.237 C -0.12604 -0.22983 -0.11805 -0.21781 -0.10937 -0.21179 C -0.08698 -0.19607 -0.06406 -0.18197 -0.04114 -0.1674 C -0.02361 -0.1563 -0.00712 -0.14382 0.01111 -0.13573 C 0.01285 -0.13434 0.01424 -0.13272 0.01597 -0.13133 C 0.01788 -0.12971 0.02032 -0.12902 0.02222 -0.12717 C 0.04636 -0.10474 0.06875 -0.07376 0.09844 -0.0659 C 0.10521 -0.05896 0.11025 -0.05896 0.11754 -0.05318 C 0.13681 -0.03815 0.15729 -0.01711 0.17309 0.00393 C 0.17952 0.01248 0.18386 0.02358 0.18889 0.03352 C 0.19202 0.03977 0.2 0.0504 0.2 0.0504 C 0.20243 0.06358 0.21424 0.08046 0.22222 0.08855 C 0.22761 0.09364 0.23438 0.09641 0.2382 0.10335 C 0.24549 0.1163 0.25174 0.13202 0.26198 0.14127 C 0.26563 0.15306 0.26945 0.15815 0.27466 0.16878 C 0.28663 0.19399 0.29722 0.21734 0.31129 0.24069 C 0.31979 0.2548 0.3257 0.27029 0.3382 0.27861 C 0.34288 0.28855 0.3507 0.29433 0.35729 0.30196 C 0.36372 0.30959 0.36788 0.31838 0.37466 0.32532 C 0.37969 0.34335 0.3967 0.35653 0.40799 0.3674 C 0.41268 0.37179 0.41736 0.37572 0.4224 0.38011 C 0.42396 0.3815 0.42709 0.38451 0.42709 0.38451 C 0.42813 0.38659 0.42952 0.38844 0.43021 0.39075 C 0.43108 0.39352 0.43091 0.39676 0.43195 0.3993 C 0.43299 0.40185 0.44097 0.4141 0.44306 0.41618 C 0.45087 0.42404 0.45886 0.42612 0.46684 0.43306 C 0.47136 0.44115 0.47691 0.44786 0.48108 0.45618 C 0.49115 0.41618 0.4842 0.44578 0.4842 0.34219 C 0.4842 0.06381 0.48316 -0.21457 0.48247 -0.49295 C 0.47448 -0.48208 0.46684 -0.47006 0.45729 -0.46127 C 0.44028 -0.44555 0.46441 -0.47422 0.44132 -0.44648 C 0.43038 -0.43376 0.41806 -0.41896 0.40486 -0.41041 C 0.40313 -0.40833 0.40191 -0.40601 0.4 -0.40416 C 0.39722 -0.40093 0.39358 -0.39908 0.39063 -0.39561 C 0.38004 -0.38312 0.39115 -0.39006 0.38108 -0.38497 C 0.36719 -0.3637 0.3566 -0.33942 0.34306 -0.31746 C 0.33924 -0.31122 0.33403 -0.30659 0.33004 -0.30058 C 0.32813 -0.29734 0.32778 -0.29295 0.32552 -0.28994 C 0.30104 -0.25711 0.31945 -0.29018 0.30486 -0.26451 C 0.29514 -0.2474 0.28368 -0.23191 0.27466 -0.21388 C 0.26528 -0.19492 0.27292 -0.20301 0.26354 -0.19492 C 0.25903 -0.18636 0.25157 -0.17087 0.24618 -0.16301 C 0.23837 -0.15168 0.22813 -0.14289 0.2191 -0.13341 C 0.2 -0.11376 0.18386 -0.08856 0.16667 -0.0659 C 0.14341 -0.03468 0.11997 -0.00208 0.09358 0.02497 C 0.09167 0.02705 0.08976 0.02959 0.08733 0.03144 C 0.08334 0.03514 0.07865 0.03792 0.07466 0.04185 C 0.0507 0.0652 0.02691 0.08994 0.00313 0.11375 C -0.00434 0.12115 -0.01302 0.12601 -0.02048 0.13295 C -0.02656 0.13873 -0.03159 0.14682 -0.03802 0.15191 C -0.05625 0.16647 -0.07361 0.18243 -0.09201 0.1963 C -0.09826 0.20092 -0.10434 0.20763 -0.11093 0.2111 C -0.13159 0.22243 -0.1533 0.23352 -0.17465 0.24277 C -0.18489 0.24717 -0.19409 0.25618 -0.20468 0.25965 C -0.21111 0.26543 -0.21944 0.26774 -0.22534 0.27445 C -0.23472 0.28508 -0.2434 0.2911 -0.25382 0.29988 C -0.25885 0.30404 -0.26371 0.30913 -0.26805 0.31468 C -0.26909 0.31607 -0.27031 0.31769 -0.27135 0.31884 C -0.27708 0.32416 -0.28472 0.32925 -0.29045 0.33572 C -0.30121 0.34867 -0.29392 0.34451 -0.3033 0.34844 C -0.31076 0.35884 -0.32153 0.37063 -0.33177 0.37595 C -0.33593 0.38427 -0.34045 0.38982 -0.34774 0.39283 C -0.36076 0.40532 -0.37187 0.41965 -0.38559 0.43098 C -0.39132 0.43584 -0.39531 0.44416 -0.40139 0.44786 C -0.4158 0.45618 -0.43385 0.46034 -0.44913 0.46266 C -0.45694 0.4652 -0.46337 0.46728 -0.47135 0.4689 C -0.47448 0.46751 -0.47847 0.46797 -0.4809 0.46474 C -0.48194 0.46335 -0.47795 0.46243 -0.4776 0.46058 C -0.47621 0.45364 -0.47691 0.44624 -0.47604 0.4393 C -0.47587 0.43722 -0.475 0.43514 -0.47448 0.43306 C -0.46684 0.36092 -0.48385 0.27445 -0.46337 0.20462 C -0.46284 0.19977 -0.46284 0.19468 -0.4618 0.18982 C -0.46128 0.18751 -0.4592 0.18589 -0.45868 0.18358 C -0.45764 0.17873 -0.45764 0.17364 -0.45694 0.16878 C -0.45659 0.1667 -0.4559 0.16462 -0.45538 0.16254 C -0.45312 0.11468 -0.44305 0.06844 -0.43958 0.02081 C -0.43871 -0.04231 -0.44045 -0.06127 -0.43472 -0.10821 C -0.4342 -0.21318 -0.4342 -0.31815 -0.43316 -0.42312 C -0.43316 -0.42937 -0.39566 -0.44833 -0.38715 -0.44856 C -0.346 -0.44994 -0.30468 -0.44994 -0.26337 -0.45064 C -0.22517 -0.46312 -0.25503 -0.4548 -0.17153 -0.45688 C 0.03316 -0.44763 -2.49999999999903E-006 -0.52023 0.02084 -0.39353 C 0.02222 -0.37249 0.02535 -0.35307 0.02847 -0.33226 C 0.02813 -0.2363 0.02847 -0.14058 0.02709 -0.04463 C 0.02691 -0.03283 0.01702 -0.02058 0.01111 -0.01295 C 0.00782 -0.00833 -2.5E-006 -0.00023 -2.5E-006 -0.00023 E">
                                      <p:cBhvr>
                                        <p:cTn id="61" dur="1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ОГОТИП -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Специально разработанная стилизованная сокращённая форма названия фирмы, употребляемая как торговый знак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ой логотип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Свою будущую профессию мечтаю связать с юридической наукой, поэтому в логотипе моей будущей адвокатской конторы вы увидите уголовный кодекс, статую Фемиды – богини правосудия из греческой мифологии. Скрещённые мечи символизируют защиту от беззакония, а овальная форма всей композиции логотипа как форма без угловатостей означает справедливое отношение ко всем окружающим людя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ИСКИ КОМПОЗИЦИ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2773440" y="2978280"/>
            <a:ext cx="3600360" cy="23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Ш КРА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Герб. Эмблема. Логотип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оготип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2411280" y="2389320"/>
            <a:ext cx="49690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3ce2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Tahoma"/>
              </a:rPr>
              <a:t>До новых встреч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ffff"/>
                </a:solidFill>
                <a:latin typeface="Tahoma"/>
              </a:rPr>
              <a:t>Факультатив.</a:t>
            </a: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000" y="3141720"/>
            <a:ext cx="38113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99ffcc"/>
                </a:solidFill>
                <a:latin typeface="Tahoma"/>
              </a:rPr>
              <a:t>6 класс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99ffcc"/>
                </a:solidFill>
                <a:latin typeface="Tahoma"/>
              </a:rPr>
              <a:t>    </a:t>
            </a:r>
            <a:r>
              <a:rPr b="0" i="1" lang="ru-RU" sz="4800" spc="-1" strike="noStrike">
                <a:solidFill>
                  <a:srgbClr val="99ffcc"/>
                </a:solidFill>
                <a:latin typeface="Tahoma"/>
              </a:rPr>
              <a:t>Моисеенко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99ffcc"/>
                </a:solidFill>
                <a:latin typeface="Tahoma"/>
              </a:rPr>
              <a:t>Денис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11" descr="Изображение 141"/>
          <p:cNvPicPr/>
          <p:nvPr/>
        </p:nvPicPr>
        <p:blipFill>
          <a:blip r:embed="rId1"/>
          <a:stretch/>
        </p:blipFill>
        <p:spPr>
          <a:xfrm>
            <a:off x="4495680" y="1700280"/>
            <a:ext cx="274032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уководите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415584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влов С.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ЕРБ -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Условное изображение, являющееся символом и отличительным знаком государства, города, рода или отдельного лиц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ЕРБ СЕЛ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Tahoma"/>
              </a:rPr>
              <a:t>Я считаю, что наше село и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5400" spc="-1" strike="noStrike">
                <a:solidFill>
                  <a:srgbClr val="ffffff"/>
                </a:solidFill>
                <a:latin typeface="Tahoma"/>
              </a:rPr>
              <a:t>наша школа вправе иметь свой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Tahoma"/>
              </a:rPr>
              <a:t>герб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ОИСКИ КОМПОЗИЦИ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2266920" y="2389320"/>
            <a:ext cx="4897440" cy="30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Герб села. Мой проект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12" descr=""/>
          <p:cNvPicPr/>
          <p:nvPr/>
        </p:nvPicPr>
        <p:blipFill>
          <a:blip r:embed="rId1"/>
          <a:srcRect l="7859" t="0" r="7859" b="0"/>
          <a:stretch/>
        </p:blipFill>
        <p:spPr>
          <a:xfrm>
            <a:off x="1619280" y="2997360"/>
            <a:ext cx="2519280" cy="22539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716360" y="1125360"/>
            <a:ext cx="3600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Такую форму имеют гербы большинства российских городов. Композиция поделена 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2 части диагональю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Раньше на месте села был лес, потом появились первые до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се это есть в композиции, без излишеств.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222 -0.01086 C -0.17899 -0.03006 -0.13368 -0.01364 -0.08732 -0.01295 C -0.07396 -0.00855 -0.05972 -0.00693 -0.04618 -0.00462 C 0.04757 -0.00601 0.14132 -0.00624 0.2349 -0.00878 C 0.25643 -0.00948 0.27865 -0.01826 0.3 -0.0215 C 0.3132 -0.02636 0.32639 -0.02613 0.33959 -0.02982 C 0.36771 -0.03745 0.39549 -0.0437 0.42379 -0.04902 C 0.43403 -0.05341 0.44497 -0.05549 0.45556 -0.05734 C 0.46893 -0.06335 0.48299 -0.06613 0.49688 -0.06797 C 0.52031 -0.07676 0.54549 -0.08 0.56979 -0.08277 C 0.59896 -0.0904 0.62795 -0.09734 0.65712 -0.10381 C 0.66788 -0.11006 0.679 -0.11699 0.69045 -0.12092 C 0.69792 -0.12347 0.70261 -0.12485 0.70955 -0.12925 C 0.71424 -0.13549 0.7191 -0.14173 0.72379 -0.14821 C 0.72639 -0.15191 0.73177 -0.15884 0.73177 -0.15884 C 0.73559 -0.16925 0.74132 -0.17688 0.74601 -0.18636 C 0.74827 -0.19884 0.75226 -0.21133 0.75712 -0.22219 C 0.76111 -0.25456 0.76094 -0.28439 0.75712 -0.31745 C 0.75556 -0.3304 0.75313 -0.34774 0.74601 -0.35769 C 0.74219 -0.37318 0.73264 -0.39029 0.72066 -0.3956 C 0.71302 -0.40578 0.70729 -0.41433 0.69688 -0.41896 C 0.69011 -0.42774 0.68368 -0.43399 0.67466 -0.43792 C 0.66927 -0.44485 0.66528 -0.44578 0.65868 -0.45063 C 0.65365 -0.45433 0.64966 -0.46034 0.64445 -0.46335 C 0.63629 -0.46821 0.61667 -0.47214 0.60799 -0.47376 C 0.45243 -0.46751 0.2967 -0.46358 0.14132 -0.47167 C 0.11719 -0.47098 0.02466 -0.46913 -0.00642 -0.46751 C -0.02222 -0.46682 -0.03715 -0.46289 -0.05243 -0.45896 C -0.06041 -0.45688 -0.07621 -0.45271 -0.07621 -0.45271 C -0.08837 -0.44462 -0.10087 -0.43514 -0.11423 -0.43167 C -0.13472 -0.4178 -0.15139 -0.39445 -0.16979 -0.37665 C -0.19097 -0.35607 -0.21545 -0.33688 -0.23333 -0.31098 C -0.24844 -0.28902 -0.26128 -0.2615 -0.27465 -0.23699 C -0.28003 -0.22705 -0.28785 -0.21618 -0.29201 -0.20532 C -0.29844 -0.18844 -0.30035 -0.17063 -0.30642 -0.15468 C -0.30677 -0.15376 -0.31059 -0.14081 -0.31111 -0.1378 C -0.31232 -0.13086 -0.31423 -0.11653 -0.31423 -0.11653 C -0.31719 -0.07191 -0.31198 -0.02936 -0.30798 0.01457 C -0.30642 0.03168 -0.30573 0.05203 -0.3 0.06729 C -0.29722 0.09411 -0.296 0.12416 -0.28889 0.14983 C -0.28663 0.15815 -0.27552 0.17989 -0.27465 0.18151 C -0.26649 0.19838 -0.26389 0.21711 -0.25087 0.23006 C -0.24444 0.24694 -0.23507 0.25896 -0.22691 0.27445 C -0.22465 0.27861 -0.22326 0.28347 -0.22066 0.28717 C -0.21892 0.28971 -0.21614 0.2911 -0.21423 0.29341 C -0.21146 0.29665 -0.20885 0.30035 -0.20642 0.30405 C -0.19757 0.31746 -0.20434 0.3133 -0.18889 0.32948 C -0.18194 0.33688 -0.17569 0.34567 -0.16823 0.3526 C -0.16354 0.357 -0.15868 0.36116 -0.15399 0.36532 C -0.15278 0.36648 -0.15087 0.37179 -0.15087 0.36971 C -0.15087 0.36717 -0.1559 0.36278 -0.15399 0.36324 C -0.14566 0.36509 -0.13611 0.37711 -0.12864 0.3822 C -0.12465 0.37711 -0.12621 0.37665 -0.12066 0.38012 C -0.11632 0.38266 -0.10798 0.38867 -0.10798 0.38867 C -0.10052 0.38544 -0.10069 0.38983 -0.09357 0.39283 C -0.0967 0.38867 -0.11041 0.37434 -0.08889 0.38659 C -0.08107 0.39098 -0.07482 0.39977 -0.06666 0.40347 C -0.0651 0.40416 -0.06354 0.40486 -0.06198 0.40555 C -0.05729 0.41133 -0.05208 0.41364 -0.04618 0.41619 C -0.03923 0.42312 -0.03455 0.43006 -0.02691 0.43515 C -0.01128 0.45665 0.01111 0.47653 0.03334 0.4837 C 0.04288 0.49018 0.0467 0.49411 0.05712 0.49642 C 0.07014 0.50752 0.0849 0.51122 0.1 0.5133 C 0.11337 0.51954 0.11007 0.5237 0.12379 0.51769 C 0.13525 0.52509 0.14948 0.52624 0.16198 0.52809 C 0.18247 0.53503 0.20434 0.53804 0.22535 0.54081 C 0.24202 0.54798 0.25903 0.55006 0.27622 0.55353 C 0.30035 0.55838 0.32466 0.56324 0.34913 0.56624 C 0.39948 0.56393 0.45087 0.57249 0.5 0.55769 C 0.51111 0.55445 0.52084 0.54127 0.53177 0.53665 C 0.5375 0.52879 0.54775 0.5237 0.55243 0.51538 C 0.56406 0.49457 0.57691 0.47468 0.58889 0.45411 C 0.60035 0.43399 0.61059 0.41272 0.62222 0.39283 C 0.6349 0.3711 0.64948 0.35006 0.65868 0.32532 C 0.66163 0.30497 0.65799 0.32416 0.66511 0.30197 C 0.66823 0.29179 0.67014 0.2807 0.67309 0.27029 C 0.67552 0.24324 0.68108 0.21688 0.6842 0.18983 C 0.68368 0.15954 0.68351 0.12925 0.68247 0.09896 C 0.68212 0.08671 0.67778 0.07515 0.67622 0.06312 C 0.66736 -0.00924999999999999 0.64966 -0.06058 0.60313 -0.10173 C 0.59167 -0.11191 0.58177 -0.12277 0.56823 -0.12717 C 0.55903 -0.13318 0.55521 -0.13641 0.54445 -0.13988 C 0.53698 -0.14659 0.52934 -0.14844 0.52066 -0.15052 C 0.49948 -0.16439 0.47552 -0.16647 0.45243 -0.17156 C 0.43906 -0.17456 0.42587 -0.17896 0.41268 -0.18219 C 0.40417 -0.18428 0.39705 -0.18474 0.38889 -0.18844 C 0.13403 -0.18335 0.25035 -0.20578 0.17136 -0.18011 C 0.15695 -0.1704 0.14462 -0.15676 0.12865 -0.1526 C 0.12396 -0.14636 0.11736 -0.14058 0.11111 -0.1378 C 0.10955 -0.13641 0.10816 -0.13456 0.10643 -0.13341 C 0.1033 -0.13156 0.09688 -0.12925 0.09688 -0.12925 C 0.0849 -0.11399 0.1033 -0.13618 0.08889 -0.123 C 0.08698 -0.12139 0.08611 -0.11792 0.0842 -0.11653 C 0.07882 -0.11237 0.07344 -0.11399 0.06823 -0.10821 C 0.06094 -0.10011 0.05347 -0.08878 0.04445 -0.08485 C 0.04028 -0.07653 0.03542 -0.06867 0.03021 -0.06173 C 0.0283 -0.05341 0.01667 -0.03352 0.01111 -0.02982 C 0.00816 -0.02774 0.00156 -0.02566 0.00156 -0.02566 C 0.00052 -0.0215 -0.00208 -0.01734 -0.00156 -0.01295 C -0.00121 -0.00878 -2.5E-006 -0.00023 -2.5E-006 -0.00023 E">
                                      <p:cBhvr>
                                        <p:cTn id="22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Герб школы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Школа, в которой я учусь, как учреждение может иметь свой симво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Нашей школе в </a:t>
            </a:r>
            <a:r>
              <a:rPr b="1" lang="ru-RU" sz="4800" spc="-1" strike="noStrike">
                <a:solidFill>
                  <a:srgbClr val="99ffcc"/>
                </a:solidFill>
                <a:latin typeface="Tahoma"/>
              </a:rPr>
              <a:t>2011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г.</a:t>
            </a: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исполнится </a:t>
            </a:r>
            <a:r>
              <a:rPr b="1" i="1" lang="ru-RU" sz="4800" spc="-1" strike="noStrike">
                <a:solidFill>
                  <a:srgbClr val="99ffcc"/>
                </a:solidFill>
                <a:latin typeface="Tahoma"/>
              </a:rPr>
              <a:t>80 </a:t>
            </a: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лет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03:16:31Z</dcterms:created>
  <dc:creator>Ольга</dc:creator>
  <dc:description/>
  <dc:language>en-US</dc:language>
  <cp:lastModifiedBy>Win7</cp:lastModifiedBy>
  <dcterms:modified xsi:type="dcterms:W3CDTF">2015-03-18T19:52:08Z</dcterms:modified>
  <cp:revision>17</cp:revision>
  <dc:subject/>
  <dc:title>НАШ КРАЙ.</dc:title>
</cp:coreProperties>
</file>