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55F-4147-46B8-99DF-A168CAE8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53A-3563-430F-BE21-47E01E53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CCF-4B2B-44CB-A5A2-8AC89CB2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BC69-9A33-4B6F-A1D4-192C4C71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121D-0D5C-4556-981C-B95561E0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A3A0-8148-4ADE-B234-EF7D2281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1032-49AE-462E-9172-9D3897EB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4A58-778A-4695-8230-216ED0B2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5238-A921-406D-A045-22DA4413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0B97-3562-4606-BF18-3FB2409E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58D7-D82B-423F-97EA-329EDC67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220-9A76-41CE-A3E2-C7D42B06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B78D-A7F8-4C11-87E1-E6E48F39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4D4D-E8C4-4BFB-B749-6E77DE86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29EF-04FE-4021-AED9-67B4CFBF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7B2F-AC2D-4C61-9211-3DAD6F75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6D6D-92AF-4492-9B80-4298BE26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717-D038-4553-BA45-4D30AB5E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775-24F6-4FFB-BA81-439490A5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A7E-A4CD-409F-8005-62A73C80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48D-6F81-4A04-8C61-530762D3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4BB-EF95-4F9A-B2D8-A0B71082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1C28-9C03-476F-B75C-4F0F9B0F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84B-8E14-4B47-8F41-A9229A9E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9574-4E7D-457B-BFA7-36EDBE41DE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DBC5-F307-4339-B07B-5E2CFF0147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28880" y="1643040"/>
            <a:ext cx="6400800" cy="32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Нетрадиционные формы работы с родителями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«Филиал» семейного клуба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«Дружные ребята»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Тема: «Готовимся к школе»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ила: воспитатель МАДОУ ДС №37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овчикова Татьяна Иванов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Формы работ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лый сто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ктикум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нинг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мен семейного воспит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ео просмотры по организации жизни детей в учреждени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семейной деятельности детей и родите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Ожидаемые результат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здание положительной эмоциональной среды между детьми, родителями и педагог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ктивизация и общение педагогических знаний и умений родител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становление преемственности связи с выпускниками группы и их родителя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ышение рейтинга педагогов ДО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римерный план организации мероприятий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00000" y="1197000"/>
          <a:ext cx="7696440" cy="4889520"/>
        </p:xfrm>
        <a:graphic>
          <a:graphicData uri="http://schemas.openxmlformats.org/drawingml/2006/table">
            <a:tbl>
              <a:tblPr/>
              <a:tblGrid>
                <a:gridCol w="2565360"/>
                <a:gridCol w="2565720"/>
                <a:gridCol w="2565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ид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орма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аст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астерская волшеб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к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и, дети, воспитате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Занимательные зву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гопедический 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и, дети, логопед-дефектолог, воспитате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Игры на развитие личностных  возможностей ребен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глый ст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и, педагог-психолог, воспитате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Здоровье ребен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н семейного опы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и, воспитатели, инструктор по плаванию, инструктор по физкультур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Что ребенок знает о себе и своей семье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генеалогического др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и, дети, воспитате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8"/>
          <p:cNvSpPr txBox="1"/>
          <p:nvPr/>
        </p:nvSpPr>
        <p:spPr>
          <a:xfrm>
            <a:off x="1403280" y="2421000"/>
            <a:ext cx="6769080" cy="17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703dff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703dff"/>
                </a:solidFill>
                <a:miter/>
              </a:ln>
              <a:solidFill>
                <a:srgbClr val="703d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870960" cy="10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емья – это самое главное педагогическое учреждение, воспитывающее живым делом, а не словом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(П. Ф. Каптерева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ошкольный возраст заканчивается к 7годам.  Этот период характерен тем, что дети еще завершают свой первый «университет». Но в отличии от студентов настоящего университета малыш учится сразу на всех факультетах. Он постигает (конечно, в разумных ему пределах) тайны живого мира и мира неживого, усваивает азы математики и грамоты, музыки и изобразительного искусства. Это в плане образования. А если говорить о воспитании – то все идет от детства, от семьи. Какова семья – таким, по большей части, будет ребенок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4"/>
          <p:cNvSpPr/>
          <p:nvPr/>
        </p:nvSpPr>
        <p:spPr>
          <a:xfrm flipV="1" rot="10792200">
            <a:off x="826200" y="3502080"/>
            <a:ext cx="741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емье он учится  любить, терпеть, радоваться, сочувствовать. Любая педагогическая система без семьи – чистая абстракция. В условиях семьи складывается эмоционально-нравственный опыт, семья определяет уровень и содержание эмоционального и социального развития ребенка. Поэтому так важно помочь родителям понять, что развитие личности ребенка не должно идти стихийным путе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7696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ип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ктико-ориентированный, долгосрочный, открыты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астники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и ДОУ, (воспитатели, логопед - дефектолог, педагог – психолог),  воспитанники и их родите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словия реализации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интересованность детей и родителей, регулярность и систематичность работы клуб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Цель проекта: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крепление партнерских отношений семей воспитанников через создание атмосферы общности интересов, направленных на вовлечение родителей в воспитательно-образовательный процес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вать положительную эмоциональную среду общения между детьми, родителями и педагог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изировать и обогащать педагогические знания и умения родите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ать психолого-педагогическую культуру родите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креативные способности детей и родителей в совместн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бщать опыт семейного воспита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ринципы: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 участники рассматриваются, как активные субъекты совместной деятельности. Реальное сотрудничество, творческие начал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ет индивидуальных особенностей участников (просвещение по определенным группам проблем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а просвещения родителей должна носить не только актуальный, но и опережающий характер. Систему просвещения родителей создать с учетом всего периода воспитания и обучения ребенк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четания репродуктивного и творческого начала, исходя из особенностей своей ситуации и индивидуальности ребенка. Задача педагогов заключается в том, чтобы родитель не усвоил чужие знания, а постарался построить свою концепцию семейного воспитани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Основные направл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696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новых форм общественно – семейного взаимодейств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азание помощи семье в выполнении воспитательной функц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педагогических знаний родителей детей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римерное содержание клуба: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ивное участие родителей в жизни ребенка  не только дома, но и в детском в саду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азание помощи родителям со стороны педагогов с целью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 принять и реализовать личностно – ориентировочную позицию в воспитании ребен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  сформировать у родителей позитивную установку на подготовку к обучению в школ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а клуба организуется с учетом индивидуальности дет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клуба носит рекомендательный характе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Направление деятельност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ветительское (предоставление информации для повышения психолого-педагогической культуры родителей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чески-действенное (повышение, заинтересованность родителей в выполнении общего дела). Это и творческие способности, и полноценное эмоциональное обще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03:35:03Z</dcterms:created>
  <dc:creator>1</dc:creator>
  <dc:description/>
  <dc:language>en-US</dc:language>
  <cp:lastModifiedBy>Admin</cp:lastModifiedBy>
  <dcterms:modified xsi:type="dcterms:W3CDTF">2015-03-14T14:22:12Z</dcterms:modified>
  <cp:revision>3</cp:revision>
  <dc:subject/>
  <dc:title>Нетрадиционные формы работы с родителями. «Филиал» семейного клуба  «Дружные ребята» Тема: «Готовимся к школе»</dc:title>
</cp:coreProperties>
</file>