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6EE-F202-4E86-910D-82D197B7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71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71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4E6-E9DA-410B-AA0F-D663C216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100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3A6-38D5-4C1A-8A4A-B0533E71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4680" y="160020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60020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4680" y="396432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396432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711-2303-4683-8F17-F79D1549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C167-90FC-474A-9419-2D9A86C5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E15C-21C1-491F-837D-86318CB7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9781-3D6E-406C-B78B-F596DF78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D7B-6B2B-47FD-B0D5-379C78EF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3953-E1D2-4943-8A22-A648CA6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7640" y="274320"/>
            <a:ext cx="71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C88C-DE70-41F0-B0D5-250249E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DEBD-07DD-4B0F-B46A-741E23E9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EF3-033F-408F-B4F5-FA41939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7100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E1EE-052A-4B6E-B583-524A2CD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71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FB42-67FF-4DB0-93E2-D01B6C1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71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71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8F19-A3D8-4810-91B5-F9B491D0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7100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5E9-F36E-4EA2-A589-EB66A602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4680" y="160020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60020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24680" y="396432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3964320"/>
            <a:ext cx="23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ACD3-7AB4-4C51-A488-A903E383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9C9-9A1D-49DC-BFA3-50882C8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668-9804-4F65-8E9D-5933D75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9EA-143C-4BB0-9C1A-A86953BD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7640" y="274320"/>
            <a:ext cx="71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303-B9C7-4D66-B15C-F54FC57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9FE-255B-4E25-BC69-8BAF24B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1000" y="396432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E6D-AC52-46C4-8ACC-7BF513F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000" y="1600200"/>
            <a:ext cx="348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71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277-6517-4B81-81EB-0CAF805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246-154E-4793-B953-FFCF1ABBE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2E2E-0A0E-4443-952E-ABEAD3290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загруженное (1)"/>
          <p:cNvPicPr/>
          <p:nvPr/>
        </p:nvPicPr>
        <p:blipFill>
          <a:blip r:embed="rId1"/>
          <a:stretch/>
        </p:blipFill>
        <p:spPr>
          <a:xfrm>
            <a:off x="5148360" y="3429000"/>
            <a:ext cx="3348000" cy="250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36baeead6c0"/>
          <p:cNvPicPr/>
          <p:nvPr/>
        </p:nvPicPr>
        <p:blipFill>
          <a:blip r:embed="rId2"/>
          <a:stretch/>
        </p:blipFill>
        <p:spPr>
          <a:xfrm>
            <a:off x="1258920" y="3141720"/>
            <a:ext cx="3024000" cy="295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images"/>
          <p:cNvPicPr/>
          <p:nvPr/>
        </p:nvPicPr>
        <p:blipFill>
          <a:blip r:embed="rId3"/>
          <a:stretch/>
        </p:blipFill>
        <p:spPr>
          <a:xfrm>
            <a:off x="5292720" y="765000"/>
            <a:ext cx="2952720" cy="2222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ataka-otbita20140315"/>
          <p:cNvPicPr/>
          <p:nvPr/>
        </p:nvPicPr>
        <p:blipFill>
          <a:blip r:embed="rId4"/>
          <a:stretch/>
        </p:blipFill>
        <p:spPr>
          <a:xfrm>
            <a:off x="684360" y="260280"/>
            <a:ext cx="4190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06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 путях я вижу сор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зко скачущих со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Этот вид мне очень д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редь неведомых доро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oroka"/>
          <p:cNvPicPr/>
          <p:nvPr/>
        </p:nvPicPr>
        <p:blipFill>
          <a:blip r:embed="rId1"/>
          <a:stretch/>
        </p:blipFill>
        <p:spPr>
          <a:xfrm>
            <a:off x="0" y="4290840"/>
            <a:ext cx="3851280" cy="2567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orogi"/>
          <p:cNvPicPr/>
          <p:nvPr/>
        </p:nvPicPr>
        <p:blipFill>
          <a:blip r:embed="rId2"/>
          <a:stretch/>
        </p:blipFill>
        <p:spPr>
          <a:xfrm>
            <a:off x="3851280" y="4292640"/>
            <a:ext cx="5292720" cy="256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загруженное"/>
          <p:cNvPicPr/>
          <p:nvPr/>
        </p:nvPicPr>
        <p:blipFill>
          <a:blip r:embed="rId3"/>
          <a:stretch/>
        </p:blipFill>
        <p:spPr>
          <a:xfrm>
            <a:off x="1258920" y="0"/>
            <a:ext cx="63374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Мы узн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844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800"/>
                </a:solidFill>
                <a:latin typeface="Arial"/>
              </a:rPr>
              <a:t>1.Продолж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фоэпия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800"/>
                </a:solidFill>
                <a:latin typeface="Arial"/>
              </a:rPr>
              <a:t>2.Найди ошиб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фавИт, процЕнт, досУг, зв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800"/>
                </a:solidFill>
                <a:latin typeface="Arial"/>
              </a:rPr>
              <a:t>3.Найди лишн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, скворечник, скучный, гречн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800"/>
                </a:solidFill>
                <a:latin typeface="Arial"/>
              </a:rPr>
              <a:t>4.Исправь ошиб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, каш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мин, порт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1412640"/>
            <a:ext cx="6400800" cy="21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Теоретический матери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316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ранить нарушения произносительных н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31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ить слова в зависимости от правил их произ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фоэпия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орфо» - правильный, «эпос»-р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41672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ринципами орфоэ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авильно ставить ударение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авильно произносить сочетания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равиль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96800" y="3087000"/>
            <a:ext cx="845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??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сть территории населённого пункта, ограниченная соседними улиц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713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mages (1)"/>
          <p:cNvPicPr/>
          <p:nvPr/>
        </p:nvPicPr>
        <p:blipFill>
          <a:blip r:embed="rId1"/>
          <a:stretch/>
        </p:blipFill>
        <p:spPr>
          <a:xfrm>
            <a:off x="6516720" y="404640"/>
            <a:ext cx="2266920" cy="2019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95120" y="-36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утник он, невидимка-моло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ук! – и ударил в безударный слог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сразу же исчез огромный зам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появился маленький зам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загруженное (3)"/>
          <p:cNvPicPr/>
          <p:nvPr/>
        </p:nvPicPr>
        <p:blipFill>
          <a:blip r:embed="rId2"/>
          <a:stretch/>
        </p:blipFill>
        <p:spPr>
          <a:xfrm>
            <a:off x="0" y="0"/>
            <a:ext cx="22478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588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Молодежь, молод, молоденький, помолод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Дорогой, дорого, дороже, дорогова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Переносит, носит, разносит, перено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07640" y="1600200"/>
            <a:ext cx="71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роп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сел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хлоп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73124"/>
          <p:cNvPicPr/>
          <p:nvPr/>
        </p:nvPicPr>
        <p:blipFill>
          <a:blip r:embed="rId1"/>
          <a:stretch/>
        </p:blipFill>
        <p:spPr>
          <a:xfrm>
            <a:off x="0" y="4508640"/>
            <a:ext cx="3851280" cy="234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selo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pro_utyug_hlopok_i_belye_maechki_2"/>
          <p:cNvPicPr/>
          <p:nvPr/>
        </p:nvPicPr>
        <p:blipFill>
          <a:blip r:embed="rId3"/>
          <a:stretch/>
        </p:blipFill>
        <p:spPr>
          <a:xfrm>
            <a:off x="0" y="0"/>
            <a:ext cx="37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7557203"/>
          <p:cNvPicPr/>
          <p:nvPr/>
        </p:nvPicPr>
        <p:blipFill>
          <a:blip r:embed="rId4"/>
          <a:stretch/>
        </p:blipFill>
        <p:spPr>
          <a:xfrm>
            <a:off x="0" y="1628640"/>
            <a:ext cx="19256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837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лфавит, фарфо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аталог, библиотека, красиве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вонит, приговор, сред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илометр, документ, свекла, нача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суг, процент, магаз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837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1800"/>
                </a:solidFill>
                <a:latin typeface="Arial"/>
              </a:rPr>
              <a:t>Что, чтобы, скучный, конечн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1800"/>
                </a:solidFill>
                <a:latin typeface="Arial"/>
              </a:rPr>
              <a:t>скворечник, яичниц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1800"/>
                </a:solidFill>
                <a:latin typeface="Arial"/>
              </a:rPr>
              <a:t>гречневый, пустя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55640" y="549360"/>
          <a:ext cx="7777080" cy="55767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27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ий согласный перед 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ый согласный перед 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37:55Z</dcterms:created>
  <dc:creator>ppsworld.ru</dc:creator>
  <dc:description/>
  <cp:keywords>тема для power point</cp:keywords>
  <dc:language>en-US</dc:language>
  <cp:lastModifiedBy>sch1788_9</cp:lastModifiedBy>
  <dcterms:modified xsi:type="dcterms:W3CDTF">2014-12-02T05:38:31Z</dcterms:modified>
  <cp:revision>5</cp:revision>
  <dc:subject/>
  <dc:title>Слайд 1</dc:title>
</cp:coreProperties>
</file>