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4D4F-AA91-4103-96EE-2DCB511B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5160"/>
            <a:ext cx="61704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1C2F-A405-4648-9657-26963DC4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5160"/>
            <a:ext cx="3011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285160"/>
            <a:ext cx="3011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DEB9-040E-43CA-BE9A-C12B912B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198648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133360"/>
            <a:ext cx="198648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133360"/>
            <a:ext cx="198648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5160"/>
            <a:ext cx="198648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285160"/>
            <a:ext cx="198648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285160"/>
            <a:ext cx="198648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34E5-0649-4402-AFA1-E9E3BAE5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360"/>
            <a:ext cx="61704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2358-3ED3-486C-917D-D004B0E0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DD0F-0C86-4082-90E4-0BDDB258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A20-5DAD-4F72-8C46-5C69A242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193F-7E28-4A29-B60E-BBAE5AA3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171360"/>
            <a:ext cx="6170400" cy="88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9A96-6E8A-4B4C-9710-A145CB3B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5160"/>
            <a:ext cx="3011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44D-BA14-491A-A393-CF18B848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285160"/>
            <a:ext cx="3011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7326-D261-4652-8922-657EF7B2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5160"/>
            <a:ext cx="61704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EF40-DEB4-4DA4-95F0-52C0209F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61704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1063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298440"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298440" indent="-298440">
              <a:spcBef>
                <a:spcPts val="1063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98440" indent="-298440"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98440" indent="-298440"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98440" indent="-298440"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98440" indent="-298440"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080"/>
            <a:ext cx="2170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F05A91-C9A9-46DE-AD76-CC3AA138680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360360" y="179280"/>
            <a:ext cx="6300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Segoe Print"/>
              </a:rPr>
              <a:t>Покормите птиц зимой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Segoe Print"/>
              <a:ea typeface="Segoe Print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900000" y="1440000"/>
            <a:ext cx="485928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Покормите птиц зимой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Пусть со всех концов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К вам слетятся, как домой стайки на крыльц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Не богаты их корма: горсть зерна нуж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Горсть одна – и не страш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Будет им зим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Сколько гибнет их – не счесть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Видеть тяжело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А ведь в нашем сердце е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И для птиц тепл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Разве можно забывать улететь мог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А остались зимовать заодно с людь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Приучите птиц в мороз к своему окну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Чтоб без песен не пришлос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Нам встречать весн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1800360" y="4859280"/>
            <a:ext cx="3055680" cy="414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360360" y="179280"/>
            <a:ext cx="909324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Можно соорудить для птиц вкусные гирлянды. Для этго нуж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нанизать на ворсистую пеньку орешки, сухофрукты, баранк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сухарик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Зимой и ранней весной птицам нужна калорийная пища -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маргарин и несоленое сал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720720" y="1440000"/>
            <a:ext cx="2340000" cy="27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3746520" y="1440000"/>
            <a:ext cx="2340000" cy="2700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-900000" y="4319640"/>
            <a:ext cx="908676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Segoe Print"/>
              </a:rPr>
              <a:t>Очень необычные, интересные и простые кормушки получаются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Segoe Print"/>
              </a:rPr>
              <a:t>из плотного картона. Для этого произвольные фигурки из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Segoe Print"/>
              </a:rPr>
              <a:t>картона (колечки, сердечки, ромбики) нужно обмазать мучным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Segoe Print"/>
              </a:rPr>
              <a:t> </a:t>
            </a:r>
            <a:r>
              <a:rPr b="1" lang="ru-RU" sz="1500" spc="-1" strike="noStrike">
                <a:solidFill>
                  <a:srgbClr val="ffffff"/>
                </a:solidFill>
                <a:latin typeface="Segoe Print"/>
              </a:rPr>
              <a:t>клейстером, а затем густо обсыпать с двух сторон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Segoe Print"/>
              </a:rPr>
              <a:t>различными мелкими сухими зёрнышками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Segoe Print"/>
              </a:rPr>
              <a:t>Когда такие фигурки просохнут, они легк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Segoe Print"/>
              </a:rPr>
              <a:t> </a:t>
            </a:r>
            <a:r>
              <a:rPr b="1" lang="ru-RU" sz="1500" spc="-1" strike="noStrike">
                <a:solidFill>
                  <a:srgbClr val="ffffff"/>
                </a:solidFill>
                <a:latin typeface="Segoe Print"/>
              </a:rPr>
              <a:t>развешиваются на веточках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4"/>
          <a:stretch/>
        </p:blipFill>
        <p:spPr>
          <a:xfrm>
            <a:off x="1666800" y="6119640"/>
            <a:ext cx="3524400" cy="25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539640" y="371520"/>
            <a:ext cx="57596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b8ff"/>
                </a:solidFill>
                <a:latin typeface="Segoe Print"/>
              </a:rPr>
              <a:t>Зимушка — зима пришл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b8ff"/>
                </a:solidFill>
                <a:latin typeface="Segoe Print"/>
              </a:rPr>
              <a:t>Много снега принесла.</a:t>
            </a:r>
            <a:br>
              <a:rPr sz="1200"/>
            </a:br>
            <a:br>
              <a:rPr sz="1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1359000" y="1260360"/>
            <a:ext cx="4140000" cy="2880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979640" y="4178160"/>
            <a:ext cx="3060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Птицам холодно зимой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Птицам голодно зимой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Кто, скажите, им поможет? Может мы или прохожий?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И работа закипела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Дружно все взялись за дело</a:t>
            </a:r>
            <a:r>
              <a:rPr b="1" lang="ru-RU" sz="1400" spc="-1" strike="noStrike">
                <a:solidFill>
                  <a:srgbClr val="000000"/>
                </a:solidFill>
                <a:latin typeface="Segoe Print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639720" y="5759280"/>
            <a:ext cx="5576760" cy="324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-1764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1434960" y="179280"/>
            <a:ext cx="39639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Мы решили с ребятней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Им кормушки смастерить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И столовую открыть.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На помощь родителей позвали.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Резали, пилили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тучали, клеили, лепили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1000080" y="1800360"/>
            <a:ext cx="4857840" cy="3538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900000" y="5481720"/>
            <a:ext cx="504036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И такую красоту для птичек смастерили.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Радости не описать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279360" y="6348240"/>
            <a:ext cx="6300720" cy="21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281160" y="179280"/>
            <a:ext cx="6297480" cy="2880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1260360" y="3273480"/>
            <a:ext cx="4800600" cy="20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Segoe Print"/>
              </a:rPr>
              <a:t>Осталось корм для птиц собрать. </a:t>
            </a:r>
            <a:br>
              <a:rPr sz="1500"/>
            </a:br>
            <a:r>
              <a:rPr b="1" lang="ru-RU" sz="1500" spc="-1" strike="noStrike">
                <a:solidFill>
                  <a:srgbClr val="ffffff"/>
                </a:solidFill>
                <a:latin typeface="Segoe Print"/>
              </a:rPr>
              <a:t>Для синичек принесли сала и пшена, </a:t>
            </a:r>
            <a:br>
              <a:rPr sz="1500"/>
            </a:br>
            <a:r>
              <a:rPr b="1" lang="ru-RU" sz="1500" spc="-1" strike="noStrike">
                <a:solidFill>
                  <a:srgbClr val="ffffff"/>
                </a:solidFill>
                <a:latin typeface="Segoe Print"/>
              </a:rPr>
              <a:t>Для воробышка насыпали горсточку зерна. </a:t>
            </a:r>
            <a:br>
              <a:rPr sz="1500"/>
            </a:br>
            <a:r>
              <a:rPr b="1" lang="ru-RU" sz="1500" spc="-1" strike="noStrike">
                <a:solidFill>
                  <a:srgbClr val="ffffff"/>
                </a:solidFill>
                <a:latin typeface="Segoe Print"/>
              </a:rPr>
              <a:t>Семечки, зернятки, рябинки горько-сладкой. </a:t>
            </a:r>
            <a:br>
              <a:rPr sz="1500"/>
            </a:br>
            <a:r>
              <a:rPr b="1" lang="ru-RU" sz="1500" spc="-1" strike="noStrike">
                <a:solidFill>
                  <a:srgbClr val="ffffff"/>
                </a:solidFill>
                <a:latin typeface="Segoe Print"/>
              </a:rPr>
              <a:t>Прилетайте поскорей! Рады мы вам птицы! Корма хватит всем, всем, всем! </a:t>
            </a:r>
            <a:br>
              <a:rPr sz="1500"/>
            </a:br>
            <a:r>
              <a:rPr b="1" lang="ru-RU" sz="1500" spc="-1" strike="noStrike">
                <a:solidFill>
                  <a:srgbClr val="ffffff"/>
                </a:solidFill>
                <a:latin typeface="Segoe Print"/>
              </a:rPr>
              <a:t>Хотите угоститься? </a:t>
            </a:r>
            <a:br>
              <a:rPr sz="1400"/>
            </a:br>
            <a:br>
              <a:rPr sz="1200"/>
            </a:b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4"/>
          <a:stretch/>
        </p:blipFill>
        <p:spPr>
          <a:xfrm>
            <a:off x="914400" y="5040360"/>
            <a:ext cx="5029200" cy="3903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-1764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720720" y="190440"/>
            <a:ext cx="55800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Вот и гостья первая прилетела к нам.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Всех вкусностей отведала и благодарна нам.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Тень-трень, тень-трень, трень!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Как хорош морозный день! </a:t>
            </a:r>
            <a:br>
              <a:rPr sz="1600"/>
            </a:br>
            <a:br>
              <a:rPr sz="12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079640" y="1260360"/>
            <a:ext cx="4679640" cy="3060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1812960" y="4297320"/>
            <a:ext cx="330660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Скорей на помощь, дети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Вот в этот самый трудный ча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Спасенье птицы ждут от на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Кормите их! Согрейте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Повесьте домик на суку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Рассыпьте крошки на снегу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А то и манной кашки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И оживут бедняжки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1138320" y="6119640"/>
            <a:ext cx="458136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"/>
          <p:cNvSpPr/>
          <p:nvPr/>
        </p:nvSpPr>
        <p:spPr>
          <a:xfrm>
            <a:off x="0" y="179280"/>
            <a:ext cx="7013520" cy="88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0" rIns="738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Segoe Print"/>
              </a:rPr>
              <a:t>В старину по приметам определяли погод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- Если гусь стоит на одной ноге – жди мороз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- Вороны и галки садятся на вершины деревьев – к мороз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- Синички подымают с утра писк – ожидай моро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- Снегирь поёт зимой на снег, вьюгу и сляко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- Ворона кричит зимой – к метел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- Воробьи дружно расчирикались – к оттепел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- Зимою вороны летают и кружатся стаями – к мороз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- Галки на вечер собираются гурьбой и кричат - к ясной погод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- Воробьи прячутся в хворост - на мороз или перед метель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- Вороны и галки зимою вьются в воздухе – перед снегом; садятся на землю – к оттепел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- Куры стоят на одной ноге – к стуже, вертят хвостами – к метел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1000080" y="5491080"/>
            <a:ext cx="4857840" cy="33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1401840" y="179280"/>
            <a:ext cx="417816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Segoe Print"/>
              </a:rPr>
              <a:t>Зимующие птиц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646200" y="709560"/>
            <a:ext cx="277488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Все тропинки занесл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нег блестит, искрится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тукнула в мое ок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Клювиком синиц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За окно повешу 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Я кусочек сал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Чтоб теплей и весе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Бедной птахе стал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3419640" y="739800"/>
            <a:ext cx="2697120" cy="21398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3078000" y="3060720"/>
            <a:ext cx="37800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тынут лапки на морозе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У сосны и ел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Что за чудо? – на берез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Яблоки поспел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Подойду поближе к не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И глазам не верится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тайка алых снегир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Облепила деревц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900000" y="3060720"/>
            <a:ext cx="2519640" cy="2160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0" y="5219640"/>
            <a:ext cx="3530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99ff"/>
                </a:solidFill>
                <a:latin typeface="Segoe Print"/>
              </a:rPr>
              <a:t>Кружат снежные метел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99ff"/>
                </a:solidFill>
                <a:latin typeface="Segoe Print"/>
              </a:rPr>
              <a:t>По ночам трещит моро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99ff"/>
                </a:solidFill>
                <a:latin typeface="Segoe Print"/>
              </a:rPr>
              <a:t>На вершине пышной е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99ff"/>
                </a:solidFill>
                <a:latin typeface="Segoe Print"/>
              </a:rPr>
              <a:t>Ловко шишку лущит клес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4"/>
          <a:stretch/>
        </p:blipFill>
        <p:spPr>
          <a:xfrm>
            <a:off x="539640" y="6300720"/>
            <a:ext cx="2219400" cy="2700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9"/>
          <p:cNvSpPr/>
          <p:nvPr/>
        </p:nvSpPr>
        <p:spPr>
          <a:xfrm>
            <a:off x="3968640" y="5149800"/>
            <a:ext cx="234324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99ff"/>
                </a:solidFill>
                <a:latin typeface="Segoe Print"/>
              </a:rPr>
              <a:t>Чик – чирик!</a:t>
            </a:r>
            <a:br>
              <a:rPr sz="1600"/>
            </a:br>
            <a:r>
              <a:rPr b="1" lang="ru-RU" sz="1600" spc="-1" strike="noStrike">
                <a:solidFill>
                  <a:srgbClr val="0099ff"/>
                </a:solidFill>
                <a:latin typeface="Segoe Print"/>
              </a:rPr>
              <a:t>К зернышкам прыг!</a:t>
            </a:r>
            <a:br>
              <a:rPr sz="1600"/>
            </a:br>
            <a:r>
              <a:rPr b="1" lang="ru-RU" sz="1600" spc="-1" strike="noStrike">
                <a:solidFill>
                  <a:srgbClr val="0099ff"/>
                </a:solidFill>
                <a:latin typeface="Segoe Print"/>
              </a:rPr>
              <a:t>Клюй, не робей!</a:t>
            </a:r>
            <a:br>
              <a:rPr sz="1600"/>
            </a:br>
            <a:r>
              <a:rPr b="1" lang="ru-RU" sz="1600" spc="-1" strike="noStrike">
                <a:solidFill>
                  <a:srgbClr val="0099ff"/>
                </a:solidFill>
                <a:latin typeface="Segoe Print"/>
              </a:rPr>
              <a:t>Кто это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0" descr=""/>
          <p:cNvPicPr/>
          <p:nvPr/>
        </p:nvPicPr>
        <p:blipFill>
          <a:blip r:embed="rId5"/>
          <a:stretch/>
        </p:blipFill>
        <p:spPr>
          <a:xfrm>
            <a:off x="3602160" y="6300720"/>
            <a:ext cx="269712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"/>
          <p:cNvSpPr/>
          <p:nvPr/>
        </p:nvSpPr>
        <p:spPr>
          <a:xfrm>
            <a:off x="1260360" y="3273480"/>
            <a:ext cx="480060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79280" y="179280"/>
            <a:ext cx="3835440" cy="18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1600" spc="-1" strike="noStrike">
                <a:solidFill>
                  <a:srgbClr val="0099ff"/>
                </a:solidFill>
                <a:latin typeface="Segoe Print"/>
                <a:ea typeface="Microsoft YaHei"/>
              </a:rPr>
              <a:t>- Кар-кар-кар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1600" spc="-1" strike="noStrike">
                <a:solidFill>
                  <a:srgbClr val="0099ff"/>
                </a:solidFill>
                <a:latin typeface="Segoe Print"/>
              </a:rPr>
              <a:t>Кричит плутов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1600" spc="-1" strike="noStrike">
                <a:solidFill>
                  <a:srgbClr val="0099ff"/>
                </a:solidFill>
                <a:latin typeface="Segoe Print"/>
              </a:rPr>
              <a:t> </a:t>
            </a:r>
            <a:r>
              <a:rPr b="1" lang="ru-RU" sz="1600" spc="-1" strike="noStrike">
                <a:solidFill>
                  <a:srgbClr val="0099ff"/>
                </a:solidFill>
                <a:latin typeface="Segoe Print"/>
              </a:rPr>
              <a:t>Ну и ловкая воровка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1600" spc="-1" strike="noStrike">
                <a:solidFill>
                  <a:srgbClr val="0099ff"/>
                </a:solidFill>
                <a:latin typeface="Segoe Print"/>
              </a:rPr>
              <a:t>Все блестящие вещиц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1600" spc="-1" strike="noStrike">
                <a:solidFill>
                  <a:srgbClr val="0099ff"/>
                </a:solidFill>
                <a:latin typeface="Segoe Print"/>
              </a:rPr>
              <a:t>Очень любит эта птица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1600" spc="-1" strike="noStrike">
                <a:solidFill>
                  <a:srgbClr val="0099ff"/>
                </a:solidFill>
                <a:latin typeface="Segoe Print"/>
              </a:rPr>
              <a:t> </a:t>
            </a:r>
            <a:r>
              <a:rPr b="1" lang="ru-RU" sz="1600" spc="-1" strike="noStrike">
                <a:solidFill>
                  <a:srgbClr val="0099ff"/>
                </a:solidFill>
                <a:latin typeface="Segoe Print"/>
              </a:rPr>
              <a:t>И она вам всем знаком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1600" spc="-1" strike="noStrike">
                <a:solidFill>
                  <a:srgbClr val="0099ff"/>
                </a:solidFill>
                <a:latin typeface="Segoe Print"/>
              </a:rPr>
              <a:t>Как зовут ее? 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3959280" y="176040"/>
            <a:ext cx="2340000" cy="1984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419640" y="2646360"/>
            <a:ext cx="26096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Непоседа пестрая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Птица длиннохвостая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Птица говорливая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амая болтлив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539640" y="2073240"/>
            <a:ext cx="2878200" cy="2425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855720" y="4319640"/>
            <a:ext cx="3103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Хоть я не молоток 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По дереву стучу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В нем каждый уголок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Обследовать хочу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Хожу я в шапке красн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И акробат прекрасны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4"/>
          <a:stretch/>
        </p:blipFill>
        <p:spPr>
          <a:xfrm>
            <a:off x="3814920" y="3959280"/>
            <a:ext cx="2125440" cy="270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5"/>
          <a:stretch/>
        </p:blipFill>
        <p:spPr>
          <a:xfrm>
            <a:off x="384120" y="6480000"/>
            <a:ext cx="3036960" cy="25765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0"/>
          <p:cNvSpPr/>
          <p:nvPr/>
        </p:nvSpPr>
        <p:spPr>
          <a:xfrm>
            <a:off x="2879640" y="6912000"/>
            <a:ext cx="424980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Птица Свиристел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ела на ель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Гнездо мастерит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"сви-ри-ри!" кричит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к земле слетает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мох собирает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его в гнездо несет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песню поет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1260360" y="3273480"/>
            <a:ext cx="480060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401840" y="181080"/>
            <a:ext cx="41781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99ff"/>
                </a:solidFill>
                <a:uFillTx/>
                <a:latin typeface="Segoe Print"/>
              </a:rPr>
              <a:t>Кормушк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0" y="539640"/>
            <a:ext cx="917244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0" rIns="378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99ff"/>
                </a:solidFill>
                <a:latin typeface="Segoe Print"/>
              </a:rPr>
              <a:t>В зимнее время птицам особенно нужны кормушки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99ff"/>
                </a:solidFill>
                <a:latin typeface="Segoe Print"/>
              </a:rPr>
              <a:t>в период сильных морозов и снегопадов, когда найти кор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99ff"/>
                </a:solidFill>
                <a:latin typeface="Segoe Print"/>
              </a:rPr>
              <a:t>значительно труднее, чем лет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Самая простая кормушка для синиц — из молочного паке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Прорежьте леток, зацепите бумажную пирамидку за вершину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и повесьте на дерев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382680" y="1619280"/>
            <a:ext cx="2857320" cy="234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3600360" y="1619280"/>
            <a:ext cx="2879640" cy="2340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1346040" y="4859280"/>
            <a:ext cx="909324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Очень простая и интересная  конструкц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получается из двух упаковок от сок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Воробьев такие раскачивающие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кормушки отпугивают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egoe Print"/>
              </a:rPr>
              <a:t>а синицы будут посещать их с удовольстви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4"/>
          <a:stretch/>
        </p:blipFill>
        <p:spPr>
          <a:xfrm>
            <a:off x="2201760" y="6119640"/>
            <a:ext cx="2452680" cy="288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13:34:41Z</dcterms:created>
  <dc:creator>User</dc:creator>
  <dc:description/>
  <dc:language>en-US</dc:language>
  <cp:lastModifiedBy>acer-pc</cp:lastModifiedBy>
  <dcterms:modified xsi:type="dcterms:W3CDTF">2015-03-18T15:13:08Z</dcterms:modified>
  <cp:revision>4</cp:revision>
  <dc:subject/>
  <dc:title>Слайд 1</dc:title>
</cp:coreProperties>
</file>