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7D9-FAF1-4C79-B872-DDD10E29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A62-C348-4FF5-A154-8DF3F5F1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3FA-AFEE-42B9-9C1C-491E6A7E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EBF-5719-44E1-A30F-6234AC7B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AF40-3ECE-418A-8466-0D17A9C9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CA33-FFBA-44F0-8A1D-F17CF1EC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776B-B1EC-4A48-9C9C-E23DF7CE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72E7-68B1-4B6B-A95D-385049DA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65C1-B5CD-4DA4-9CE1-A89619F4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CD7F-DC7E-4236-909C-7685DFC0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6DFF-34BC-4829-AE44-9898D634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595-9800-4D34-9F47-90E15FD1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C8A2-F7FE-4007-8137-B49BC5A3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5BBE-B489-4183-B4F9-79AC6307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2FB2-68F1-43CD-933A-684F4958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064A-A318-47A2-A8F5-4EA936EF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DF91-7395-46C9-AD1E-459E3C17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B20A-3D9E-4239-8B3C-0FEBCD2D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4EFB-DCCD-401B-9B04-CDDF49BA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6F68C-FDBC-4152-8C84-B7EA32AA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AE7BD-5706-49CC-8FBA-E4CCBA7D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29C2-B1B8-4B53-AD05-031DDEE0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2CE-3929-4885-AEF6-A221A92E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05E7-D3A1-49FA-A83C-05EA94B3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22B0D-F683-41E2-8997-A988924A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32AF-02ED-43B1-8273-00CADC48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FE05F-4979-4843-8F37-6F0E5A85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F8AD5-668D-487A-9F5E-AB77E4AD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60297-7B7D-4FC1-9C7F-5337C52C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F00F4-1EE0-403D-B196-27DC4C99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F35-9478-4EDF-9FDA-4B03DFC7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34F-4D85-41A1-B64B-BC252986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F8A-91EC-4F3D-B106-0F7CE933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2A4-8598-4884-A42D-90BB0B5C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A8C-143C-407D-BB20-7E75A17E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0D8-6939-46AD-BB84-65C2130B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9FFB-7D7F-4B3F-9004-851E327A6F49}" type="slidenum">
              <a:rPr b="0" lang="en-US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2AA5-757E-4882-A5E5-805D5470D3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A2D3-1C7E-43B1-BF88-048805613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85480" y="428760"/>
            <a:ext cx="8286840" cy="30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Viner Hand ITC"/>
              </a:rPr>
              <a:t>Проект создания  виртуального альманаха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Viner Hand ITC"/>
              </a:rPr>
              <a:t>«К истокам земли Олонхо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659640" y="3854520"/>
            <a:ext cx="2260440" cy="3003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492360" y="4581360"/>
            <a:ext cx="29527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39640" y="3789360"/>
            <a:ext cx="232416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7e7ff"/>
                </a:solidFill>
                <a:latin typeface="Arial"/>
              </a:rPr>
              <a:t>Ожидаемые результаты и социальный эффект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высить эффективность процесса воспитания подлинного интернационализма, основанного на знаниях, понимания и уважения к труду и таланту народа, гражданско-патриотического воспитания в образовательном учреждении путём включения учащихся в социально значимые виды деятельности на основе эффективного использования информационных технолог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ить материалы виртуального альманаха педагогами разных предметов: истории, литературы и русского языка, географии, изобразительного искусства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овать материалы виртуального альманаха «К истокам земли Олонхо» в воспитательной работе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вить умения учащихся самостоятельно добывать материал и использовать в практической деятель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формировать широкий кругозор и профессиональные интересы в области исторического, литературного и географического краеведения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7e7ff"/>
                </a:solidFill>
                <a:latin typeface="Arial"/>
              </a:rPr>
              <a:t>Перспективы дальнейшего развития проект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трудничество с другими образовательными учреждениями, занимающимися поисковой и проектной деятельностью, обмен опытом работы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ие в различных конкурсах, в историко-краеведческих мероприятиях школы и всего райо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ние образовательного мультимедийного проекта с целью обобщения и распространения опы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Arial Rounded MT Bold"/>
              </a:rPr>
              <a:t>Актуальность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равственный аспек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хранение духовных и культурных традиций народов Север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емственность подрастающего поколения и семь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уществление помощи в пропаганде лучших духовных и культурных традиций среди жителей города и населения район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оспитательный и познавательный аспек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ремление к позитивному преображению своей «малой Родины», посильный вклад в изменение жизни собственной школы и родного город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буждение родителей к стремлению делиться опытом сохранения национальных традиций, воспитания моральных ценнос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здание условий для освоения учащимися гражданской позиции на основе возрождения народной культуры, духовности, нравственности и патриотизм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дачи проек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витие способности учащихся к взаимопониманию, дружбе, взаимовыручке, толерантности, умению выделять более интересные сведения об окружающем мире, потребность беречь и ценить 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витие школьникам через конкретную практическую исследовательскую деятельность интереса к самобытной культуре Республики Саха (Якутия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уважения к историко-культурному наследию  народов Саха (Якутии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спитание гражданина, любящего свой край, свою школу, якутский народ с его самобытными культурными традициями. Осуществление деятельности по воспитанию, развитию, обучению и социализации учащих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Цели проект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рез формы и методы современной учебной деятельности, использования иновационно-коммуникативных технологий, процесс познания самобытной культуры и исторического наследия Республики С(Я) воспитание у учащихся  нравственных качеств, активной гражданской пози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одоление изолированности ребенка от окружающей его культурно- исторической сред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ирование духовной, творческой личности посредством краеведческого, исследовательского и просветительского образ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Методы реализации проект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увлечь коллектив перспективой создания Альманаха, необходимо провести разъяснительную работу среди учащихся и родителей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овые бесед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ление учителя  с лекцией о самобытной культуре народов Севера на классном часе и родительском  собран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лечение краеведческого материала для проведения внеклассных мероприятий и клубов выходного дн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скурсии в краеведческий музей гор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блиотечный ур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классного уголка, посвященного якутской национальной культу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конкурсов, вечеров, соревнований, праздников, недели якутской национальной культу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результатам проведенных мероприятий, собранного материала создани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тра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7e7ff"/>
                </a:solidFill>
                <a:latin typeface="Arial"/>
              </a:rPr>
              <a:t>Для дальнейшей реализации проекта необходимо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состава учащихся школы  избрать актив альманаха и определить функции деятельности каждого его чле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значить тематик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траниц виртуального альманах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ировать поисково-творческие группы для изучения литературно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сторических и других источник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бщить и систематизировать собранны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ть работу по созданию и оформлению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трани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тически пополнят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траницы виртуального альманах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7e7ff"/>
                </a:solidFill>
                <a:latin typeface="Arial"/>
              </a:rPr>
              <a:t>Поэтапный рабочий план</a:t>
            </a:r>
            <a:br>
              <a:rPr sz="4000"/>
            </a:br>
            <a:r>
              <a:rPr b="1" i="1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b7e7ff"/>
                </a:solidFill>
                <a:latin typeface="Arial"/>
              </a:rPr>
              <a:t>I</a:t>
            </a:r>
            <a:r>
              <a:rPr b="1" i="1" lang="ru-RU" sz="4000" spc="-1" strike="noStrike">
                <a:solidFill>
                  <a:srgbClr val="b7e7ff"/>
                </a:solidFill>
                <a:latin typeface="Arial"/>
              </a:rPr>
              <a:t> этап - подготовительный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ирование групп по интересам, распределение функций дея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здание семейного клуб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означение тематических вечер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здание фору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бор материала, его классификац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7e7ff"/>
                </a:solidFill>
                <a:latin typeface="Arial"/>
              </a:rPr>
              <a:t>II</a:t>
            </a:r>
            <a:r>
              <a:rPr b="1" i="1" lang="ru-RU" sz="4000" spc="-1" strike="noStrike">
                <a:solidFill>
                  <a:srgbClr val="b7e7ff"/>
                </a:solidFill>
                <a:latin typeface="Arial"/>
              </a:rPr>
              <a:t> этап-реализация проекта через изучение  блоков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ография Якут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мволика Якут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тения и животные Якут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новные занятия северных нар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мыслы народов Сев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кутский фолькл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уховное наследие Якут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циональная кухн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ременная культура и искусство Якут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рои-якутя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Arial"/>
              </a:rPr>
              <a:t>III </a:t>
            </a:r>
            <a:r>
              <a:rPr b="1" i="1" lang="ru-RU" sz="4400" spc="-1" strike="noStrike">
                <a:solidFill>
                  <a:srgbClr val="b7e7ff"/>
                </a:solidFill>
                <a:latin typeface="Arial"/>
              </a:rPr>
              <a:t>этап -обобщающий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ение и систематизация собранного материа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ение работы по созданию и оформлению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страни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виртуальных разделов  альманаха «К истокам земли Олонхо»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0-11-16T09:18:32Z</dcterms:modified>
  <cp:revision>64</cp:revision>
  <dc:subject/>
  <dc:title>Слайд 1</dc:title>
</cp:coreProperties>
</file>