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362-C4B4-4D1F-A440-2FB32D585AA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3992-AAC0-435D-8B00-9AA19C7A6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7CB-C1F6-4B28-88A7-17C29008466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76F-FCC6-4905-8424-96FD4A40C9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723-23E4-43A4-A4BE-60DD51B7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0A5-B373-438C-B6B6-AE78343B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1D5-5D37-468D-8AE6-4552E626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A42-9A8E-4F6E-B487-9EF49271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CD0F-374A-4DDF-A882-69017E72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0B64-5AE7-482E-9D90-06FFA67B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B556-4479-475E-B2B5-18FDF55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C317-88C1-4A41-91A3-D31D102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3E23-DD9D-4267-B544-3297FD81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4DEE-51B6-425A-968F-2E1A5984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CFA9-1E84-4CBA-8BC2-4EDACEF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C6B-5F37-4661-B067-F3EABBB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544-2B2B-460A-A142-AE7E9C4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B267-968D-46A5-B667-C1E3BDF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0B50-7C49-4B2F-A020-5AEE6BE3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7C8-7D49-472A-B575-A18A1B39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1E21-82A0-4002-8F9B-A821F4D7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AE3-700C-4F40-8587-CF79C8F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793-59A1-42FF-979A-C607095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BE8-6B24-4C51-BF7E-0F8BE79D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2F1-3F1D-4E64-9F4B-7B14CC7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2F2-36FC-4895-8CC0-9797D0C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2C9-2351-4A63-8DF5-6AC70FA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3CA-2518-4140-B6C9-EA9E8AD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9E7-C4ED-4BE0-BA25-823BCEE87957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A2C-B51F-423E-BF80-D09F2044689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EC9-31F2-4705-ADC1-928EC9C0AF9B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A0DE-D6A3-487F-8358-E0C0256BAEC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1365120" y="4432320"/>
            <a:ext cx="778536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" descr=""/>
          <p:cNvPicPr/>
          <p:nvPr/>
        </p:nvPicPr>
        <p:blipFill>
          <a:blip r:embed="rId3"/>
          <a:stretch/>
        </p:blipFill>
        <p:spPr>
          <a:xfrm>
            <a:off x="249120" y="1085760"/>
            <a:ext cx="864576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7797960" cy="140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29760" y="1412640"/>
            <a:ext cx="8813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Какое из подчёркнутых слов имеет следующее лексическое зна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уховная разрядка (через испытание страха, жалости, сострадания)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спытываемая зрителем, читателем в результате сопереживания героям драмы, трагедии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равственное очищ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1"/>
          <p:cNvPicPr/>
          <p:nvPr/>
        </p:nvPicPr>
        <p:blipFill>
          <a:blip r:embed="rId2"/>
          <a:stretch/>
        </p:blipFill>
        <p:spPr>
          <a:xfrm>
            <a:off x="65160" y="260280"/>
            <a:ext cx="314280" cy="53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"/>
          <p:cNvPicPr/>
          <p:nvPr/>
        </p:nvPicPr>
        <p:blipFill>
          <a:blip r:embed="rId3"/>
          <a:stretch/>
        </p:blipFill>
        <p:spPr>
          <a:xfrm>
            <a:off x="379440" y="260280"/>
            <a:ext cx="30960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782640" y="5373720"/>
            <a:ext cx="7931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рси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Какое из подчёркнутых слов имеет следующее лексическое значе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c0e0d"/>
                </a:solidFill>
                <a:latin typeface="Times New Roman"/>
                <a:ea typeface="Times New Roman"/>
              </a:rPr>
              <a:t>Произведение оскорбительного, клеветнического характера в публицистической или беллетристической форме (близкой к памфлету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65160" y="260280"/>
            <a:ext cx="314280" cy="5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3"/>
          <p:cNvPicPr/>
          <p:nvPr/>
        </p:nvPicPr>
        <p:blipFill>
          <a:blip r:embed="rId2"/>
          <a:stretch/>
        </p:blipFill>
        <p:spPr>
          <a:xfrm>
            <a:off x="379440" y="260280"/>
            <a:ext cx="376200" cy="55404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755640" y="5740560"/>
            <a:ext cx="7931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скви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Какое из подчёркнутых слов имеет следующее лексическое значение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c0e0d"/>
                </a:solidFill>
                <a:latin typeface="Times New Roman"/>
                <a:ea typeface="Times New Roman"/>
              </a:rPr>
              <a:t>Мучение, страдание, невзгоды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1"/>
          <p:cNvPicPr/>
          <p:nvPr/>
        </p:nvPicPr>
        <p:blipFill>
          <a:blip r:embed="rId1"/>
          <a:stretch/>
        </p:blipFill>
        <p:spPr>
          <a:xfrm>
            <a:off x="65160" y="260280"/>
            <a:ext cx="314280" cy="53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4"/>
          <p:cNvPicPr/>
          <p:nvPr/>
        </p:nvPicPr>
        <p:blipFill>
          <a:blip r:embed="rId2"/>
          <a:stretch/>
        </p:blipFill>
        <p:spPr>
          <a:xfrm>
            <a:off x="379440" y="217440"/>
            <a:ext cx="304920" cy="61596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900000" y="5373720"/>
            <a:ext cx="7931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Мы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рст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-6480" y="36360"/>
            <a:ext cx="7023240" cy="970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-360" y="1125000"/>
            <a:ext cx="866124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онимы — это слова, разные по значению, но сходные, близкие по звучанию: искусный — искусственный, нетерпимый — нестерпимый и т.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 как паронимы сходны по звучанию, их часто неправильно употребляют в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яя это задание, следует помнить, что лексическое значение слова можно понять через подбор синонимов, антонимов, однокоренных слов, истолкование слова, а затем сделать смысловой анализ предложений и определить верный отв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"/>
          <p:cNvPicPr/>
          <p:nvPr/>
        </p:nvPicPr>
        <p:blipFill>
          <a:blip r:embed="rId3"/>
          <a:stretch/>
        </p:blipFill>
        <p:spPr>
          <a:xfrm>
            <a:off x="378000" y="260280"/>
            <a:ext cx="30924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7645680" cy="127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) В Англии XVIII—XIX веков таможенников и вербовщиков в королевский флот презрительно называли акулами за их АКУЛИЙ характе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) Коварные АКУЛЬИ повадки хорошо известны ныряльщикам за жемчуг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3) В океанариуме живут свыше двадцати семейств АКУЛЬИХ рыб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4) Ему снились проклятые АКУЛЬИ пасти, и тогда он вновь переживал ужасы тех четырёх час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7715160" y="536400"/>
            <a:ext cx="1177920" cy="10922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3"/>
          <p:cNvPicPr/>
          <p:nvPr/>
        </p:nvPicPr>
        <p:blipFill>
          <a:blip r:embed="rId3"/>
          <a:stretch/>
        </p:blipFill>
        <p:spPr>
          <a:xfrm>
            <a:off x="379440" y="260280"/>
            <a:ext cx="3762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808992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) Собирая БАРСКУЮ ягоду, крепостные женщины п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) БАРСКАЯ осанка и походка Лигова невольно привлекали вним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) Крестьянские ребятишки старались избегать игр с БАРСКИМ сы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) БАРСКИЙ указ вызвал бунт не только у него в имениях, но и во всей губер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7885080" y="907920"/>
            <a:ext cx="1104840" cy="11318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4"/>
          <p:cNvPicPr/>
          <p:nvPr/>
        </p:nvPicPr>
        <p:blipFill>
          <a:blip r:embed="rId3"/>
          <a:stretch/>
        </p:blipFill>
        <p:spPr>
          <a:xfrm>
            <a:off x="379440" y="217440"/>
            <a:ext cx="304920" cy="6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722952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) Нобелевская премия — ПРИЗНАНИЕ выдающихся заслуг физика Жореса Алферо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) Его любовное ПРИЗНАНИЕ смутило женщину до слез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3) Учительница горячо защищала Вовку, и он испытывал к ней глубокое чувство ПРИЗНА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4) Мальчишки бросились врассыпную, и это было ПРИЗНАНИЕМ несомненной моей побе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Овал 3"/>
          <p:cNvSpPr/>
          <p:nvPr/>
        </p:nvSpPr>
        <p:spPr>
          <a:xfrm>
            <a:off x="7572240" y="476280"/>
            <a:ext cx="1176480" cy="11523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5"/>
          <p:cNvPicPr/>
          <p:nvPr/>
        </p:nvPicPr>
        <p:blipFill>
          <a:blip r:embed="rId3"/>
          <a:stretch/>
        </p:blipFill>
        <p:spPr>
          <a:xfrm>
            <a:off x="379440" y="260280"/>
            <a:ext cx="44748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1779480" y="109440"/>
            <a:ext cx="7371000" cy="10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04640" y="1197000"/>
            <a:ext cx="8739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c2d1"/>
                </a:solidFill>
                <a:latin typeface="Times New Roman"/>
              </a:rPr>
              <a:t>(1)... (2) Прежде всего, письменная речь не ограничена временем общения, в то время как устное высказывание воспринимается и понимается слушающим по мере того, как говорящий его произносит. (3) Кроме того, письменная речь не может быть связана определённым физическим пространством общения, психологическим состоянием её участников и требованием немедленного ответа. (4) Дело в том, что письменная речь монологична: когда мы пишем, то только внутренне представляем нашего читателя-собеседника с его ответами и поэтому имеем возможность обдумать и переделать наше высказывание, не стесняясь ограничениями во времени и пространстве. (5) Одно и то же письменное высказывание может быть прочитано многократно, разными лицами и в разное время, поэтому в нём можно обнаружить и исправить допущенные грамматические ошибки и неясности выражения мысли. (6)... эти различия необходимо учитывать в процессе устного и письменного общ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6"/>
          <p:cNvPicPr/>
          <p:nvPr/>
        </p:nvPicPr>
        <p:blipFill>
          <a:blip r:embed="rId3"/>
          <a:stretch/>
        </p:blipFill>
        <p:spPr>
          <a:xfrm>
            <a:off x="341280" y="260280"/>
            <a:ext cx="43200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1359000" y="231840"/>
            <a:ext cx="7900920" cy="1547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) связанный с постановкой знаков препин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) связанный с правописанием сл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) связанный с правильным произношением слов  и форм сло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)связанный с нормами изменения слов и построения словосочетаний и предлож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2"/>
          <p:cNvPicPr/>
          <p:nvPr/>
        </p:nvPicPr>
        <p:blipFill>
          <a:blip r:embed="rId2"/>
          <a:stretch/>
        </p:blipFill>
        <p:spPr>
          <a:xfrm>
            <a:off x="69840" y="260280"/>
            <a:ext cx="309600" cy="523800"/>
          </a:xfrm>
          <a:prstGeom prst="rect">
            <a:avLst/>
          </a:prstGeom>
          <a:ln w="0">
            <a:noFill/>
          </a:ln>
        </p:spPr>
      </p:pic>
      <p:sp>
        <p:nvSpPr>
          <p:cNvPr id="156" name="Объект 5"/>
          <p:cNvSpPr/>
          <p:nvPr/>
        </p:nvSpPr>
        <p:spPr>
          <a:xfrm>
            <a:off x="7740720" y="689040"/>
            <a:ext cx="1224000" cy="12254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7"/>
          <p:cNvPicPr/>
          <p:nvPr/>
        </p:nvPicPr>
        <p:blipFill>
          <a:blip r:embed="rId3"/>
          <a:stretch/>
        </p:blipFill>
        <p:spPr>
          <a:xfrm>
            <a:off x="379440" y="260280"/>
            <a:ext cx="37620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тавьте ударение в словах орфоэпического минимума, подлежащего проверке на ЕГ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3"/>
          <p:cNvPicPr/>
          <p:nvPr/>
        </p:nvPicPr>
        <p:blipFill>
          <a:blip r:embed="rId2"/>
          <a:stretch/>
        </p:blipFill>
        <p:spPr>
          <a:xfrm>
            <a:off x="31680" y="260280"/>
            <a:ext cx="376200" cy="554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1"/>
          <p:cNvPicPr/>
          <p:nvPr/>
        </p:nvPicPr>
        <p:blipFill>
          <a:blip r:embed="rId3"/>
          <a:stretch/>
        </p:blipFill>
        <p:spPr>
          <a:xfrm>
            <a:off x="366840" y="258840"/>
            <a:ext cx="31428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-133200" y="109440"/>
            <a:ext cx="8130960" cy="1042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</a:rPr>
              <a:t>Слова: </a:t>
            </a:r>
            <a:r>
              <a:rPr b="0" i="1" lang="ru-RU" sz="5400" spc="-1" strike="noStrike">
                <a:solidFill>
                  <a:srgbClr val="ffffff"/>
                </a:solidFill>
                <a:latin typeface="Times New Roman"/>
              </a:rPr>
              <a:t>ледник, парить, рефлекторный, наголо, видение, проклятый, хоры, языковая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2"/>
          <a:stretch/>
        </p:blipFill>
        <p:spPr>
          <a:xfrm>
            <a:off x="0" y="115920"/>
            <a:ext cx="28728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6924960" cy="1067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д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(в горах) — л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ник (погреб); п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ть (репу) — пар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ь (в облаках); рефл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рный (о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флекто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— рефлект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ный (о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флек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; нагол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держать шашки) — 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 (остричь); вид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е (призрак) — в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ние (точка зрения); прокл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й (ненавистный) — пр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ятый (подвергшийся проклятью); хор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алкон в верхней части зала) — х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ы (певческие коллективы); языков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(подготовка) — язык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я (колбаса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2"/>
          <p:cNvPicPr/>
          <p:nvPr/>
        </p:nvPicPr>
        <p:blipFill>
          <a:blip r:embed="rId2"/>
          <a:stretch/>
        </p:blipFill>
        <p:spPr>
          <a:xfrm>
            <a:off x="108000" y="115920"/>
            <a:ext cx="503280" cy="8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6132600" cy="970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рфоэп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раздел языкознания, занимающийся изучением нормативного произнош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кси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здел языкознания, изучающий словарный запа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3"/>
          <p:cNvPicPr/>
          <p:nvPr/>
        </p:nvPicPr>
        <p:blipFill>
          <a:blip r:embed="rId2"/>
          <a:stretch/>
        </p:blipFill>
        <p:spPr>
          <a:xfrm>
            <a:off x="250920" y="189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5"/>
          <p:cNvPicPr/>
          <p:nvPr/>
        </p:nvPicPr>
        <p:blipFill>
          <a:blip r:embed="rId2"/>
          <a:stretch/>
        </p:blipFill>
        <p:spPr>
          <a:xfrm>
            <a:off x="179280" y="189000"/>
            <a:ext cx="43200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8"/>
          <p:cNvSpPr/>
          <p:nvPr/>
        </p:nvSpPr>
        <p:spPr>
          <a:xfrm>
            <a:off x="324000" y="170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русского словесного ударения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638280" y="343836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о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номестно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жно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рмы произнош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принятые в общественной языковой практике правила произношения отдельных звуковых сочетаний, произношение звуков в тех или иных грамматических формах в группах сл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6"/>
          <p:cNvPicPr/>
          <p:nvPr/>
        </p:nvPicPr>
        <p:blipFill>
          <a:blip r:embed="rId1"/>
          <a:stretch/>
        </p:blipFill>
        <p:spPr>
          <a:xfrm>
            <a:off x="179280" y="260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6132600" cy="970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 каком слове верно выделена буква, обозначающ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дарный гласный звук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5" descr="8"/>
          <p:cNvPicPr/>
          <p:nvPr/>
        </p:nvPicPr>
        <p:blipFill>
          <a:blip r:embed="rId2"/>
          <a:stretch/>
        </p:blipFill>
        <p:spPr>
          <a:xfrm>
            <a:off x="200160" y="189000"/>
            <a:ext cx="390240" cy="576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5394240" y="3602160"/>
            <a:ext cx="349416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1652760" y="-152280"/>
            <a:ext cx="7497720" cy="1414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213920"/>
            <a:ext cx="89708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Раздаточный материал №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вьте ударение  в выделенных слов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читайте вслу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метьте случаи, когда литературный язык допускает вариативное произнош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ое из слов имеет устаревший вариант произнош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9"/>
          <p:cNvPicPr/>
          <p:nvPr/>
        </p:nvPicPr>
        <p:blipFill>
          <a:blip r:embed="rId2"/>
          <a:stretch/>
        </p:blipFill>
        <p:spPr>
          <a:xfrm>
            <a:off x="65160" y="189000"/>
            <a:ext cx="546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206360" y="55440"/>
            <a:ext cx="7944120" cy="114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01760" y="1196640"/>
            <a:ext cx="8742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тель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а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ольствие в покупке для своих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чи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анишек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р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к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пеленок д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жд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чери, которую он видел толь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к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е аг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го не компроме(н)тировала принадлежность 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ристокр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ов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он хранил вместе с фотографи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ш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яди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е позволяло ему меня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ытыва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си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ебывания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т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атра, чита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в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носи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е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лияло изучение традиций русской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пис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идетельств о посмертн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т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ств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ши и размышление о близос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пок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си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ощущал себя н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ретик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и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ес и виде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н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них времен в каждом нов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1"/>
          <p:cNvPicPr/>
          <p:nvPr/>
        </p:nvPicPr>
        <p:blipFill>
          <a:blip r:embed="rId2"/>
          <a:stretch/>
        </p:blipFill>
        <p:spPr>
          <a:xfrm>
            <a:off x="65160" y="260280"/>
            <a:ext cx="314280" cy="53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"/>
          <p:cNvPicPr/>
          <p:nvPr/>
        </p:nvPicPr>
        <p:blipFill>
          <a:blip r:embed="rId3"/>
          <a:stretch/>
        </p:blipFill>
        <p:spPr>
          <a:xfrm>
            <a:off x="379440" y="260280"/>
            <a:ext cx="30492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5:33:32Z</dcterms:created>
  <dc:creator>1</dc:creator>
  <dc:description/>
  <dc:language>en-US</dc:language>
  <cp:lastModifiedBy>Zver</cp:lastModifiedBy>
  <dcterms:modified xsi:type="dcterms:W3CDTF">2011-11-02T12:02:39Z</dcterms:modified>
  <cp:revision>61</cp:revision>
  <dc:subject/>
  <dc:title> Готовимся к ЕГЭ </dc:title>
</cp:coreProperties>
</file>