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B2E-C44F-48BA-BD40-54EEBDAF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E0C-B3EE-4191-8525-DE2BF297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7FF-9F37-47F0-ACA9-6E9CF9D9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5E8-0966-4D47-8167-ECE9CCB1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8E80-990D-40C5-958F-D29CB0D6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1B51-2F7B-4D08-A204-BB089326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00FF-3885-44BB-873A-72552991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1457-5D8B-4D75-A168-0B957E4A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DB1F-4D9D-4AC2-8782-27C274B1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2938-EF9C-43F5-A8E2-9BA9878F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78E3-D442-44C5-B9CE-95C347A2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B803-D403-441B-A99A-3E479CBB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E7EC-F98B-4030-A80A-A16BA035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9EEB-7CEB-45EA-B973-425D8618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1447-5B98-4095-92BC-F81F035F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CD96-0F44-4E47-B988-5E3700D1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8539-35B0-4892-9559-AA2E908F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5A5-0C33-44C5-A8C5-8D3274FE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D2D-C21A-4CE2-AC09-6C78F300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C70-9107-410B-9497-82F5110E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58A-620D-4913-9133-E0F9AD3F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6E1-37FC-4519-9428-BE9DEA09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7D4-49B0-400B-9C24-2E49D788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664-CC02-4D2A-A344-47362718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4AEA-17F6-4FEB-8EC1-690552D46E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C448-435D-4678-B187-B4025C67A6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60520" y="901800"/>
            <a:ext cx="8076960" cy="2176200"/>
          </a:xfrm>
          <a:prstGeom prst="rect">
            <a:avLst/>
          </a:prstGeom>
          <a:ln w="0">
            <a:noFill/>
          </a:ln>
        </p:spPr>
      </p:pic>
      <p:grpSp>
        <p:nvGrpSpPr>
          <p:cNvPr id="83" name="Подзаголовок 2"/>
          <p:cNvGrpSpPr/>
          <p:nvPr/>
        </p:nvGrpSpPr>
        <p:grpSpPr>
          <a:xfrm>
            <a:off x="1249200" y="2779560"/>
            <a:ext cx="6499440" cy="1225800"/>
            <a:chOff x="1249200" y="2779560"/>
            <a:chExt cx="6499440" cy="1225800"/>
          </a:xfrm>
        </p:grpSpPr>
        <p:pic>
          <p:nvPicPr>
            <p:cNvPr id="84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1249200" y="2779560"/>
              <a:ext cx="649944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403280" y="2930400"/>
              <a:ext cx="619308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17375e"/>
                  </a:solidFill>
                  <a:latin typeface="Calibri"/>
                </a:rPr>
                <a:t>Урок математики во 2 класс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Рисунок 3" descr=""/>
          <p:cNvPicPr/>
          <p:nvPr/>
        </p:nvPicPr>
        <p:blipFill>
          <a:blip r:embed="rId3"/>
          <a:stretch/>
        </p:blipFill>
        <p:spPr>
          <a:xfrm>
            <a:off x="1351080" y="4365720"/>
            <a:ext cx="64990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827840" cy="957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24000" y="1413000"/>
            <a:ext cx="84247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46" name="Прямоугольник 2"/>
          <p:cNvSpPr/>
          <p:nvPr/>
        </p:nvSpPr>
        <p:spPr>
          <a:xfrm>
            <a:off x="2092320" y="3354480"/>
            <a:ext cx="1306440" cy="1296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ый треугольник 4"/>
          <p:cNvSpPr/>
          <p:nvPr/>
        </p:nvSpPr>
        <p:spPr>
          <a:xfrm>
            <a:off x="561960" y="3357720"/>
            <a:ext cx="1441440" cy="129528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5"/>
          <p:cNvSpPr/>
          <p:nvPr/>
        </p:nvSpPr>
        <p:spPr>
          <a:xfrm>
            <a:off x="5334120" y="3373560"/>
            <a:ext cx="2016000" cy="1322280"/>
          </a:xfrm>
          <a:prstGeom prst="rect">
            <a:avLst/>
          </a:prstGeom>
          <a:solidFill>
            <a:srgbClr val="390f3d"/>
          </a:solidFill>
          <a:ln w="25560">
            <a:solidFill>
              <a:srgbClr val="390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6"/>
          <p:cNvSpPr/>
          <p:nvPr/>
        </p:nvSpPr>
        <p:spPr>
          <a:xfrm>
            <a:off x="7518240" y="3386160"/>
            <a:ext cx="1295640" cy="12985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Шестиугольник 7"/>
          <p:cNvSpPr/>
          <p:nvPr/>
        </p:nvSpPr>
        <p:spPr>
          <a:xfrm>
            <a:off x="3614760" y="3354480"/>
            <a:ext cx="1501920" cy="1322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827840" cy="957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24000" y="1413000"/>
            <a:ext cx="84247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7542360" y="3375000"/>
            <a:ext cx="1306440" cy="12970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ый треугольник 4"/>
          <p:cNvSpPr/>
          <p:nvPr/>
        </p:nvSpPr>
        <p:spPr>
          <a:xfrm>
            <a:off x="4327560" y="3362400"/>
            <a:ext cx="1440000" cy="129708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457200" y="3362400"/>
            <a:ext cx="2016000" cy="1322280"/>
          </a:xfrm>
          <a:prstGeom prst="rect">
            <a:avLst/>
          </a:prstGeom>
          <a:solidFill>
            <a:srgbClr val="390f3d"/>
          </a:solidFill>
          <a:ln w="25560">
            <a:solidFill>
              <a:srgbClr val="390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6"/>
          <p:cNvSpPr/>
          <p:nvPr/>
        </p:nvSpPr>
        <p:spPr>
          <a:xfrm>
            <a:off x="2771640" y="3362400"/>
            <a:ext cx="1295640" cy="12985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Шестиугольник 7"/>
          <p:cNvSpPr/>
          <p:nvPr/>
        </p:nvSpPr>
        <p:spPr>
          <a:xfrm>
            <a:off x="5867280" y="3336840"/>
            <a:ext cx="1501920" cy="1322640"/>
          </a:xfrm>
          <a:prstGeom prst="hexagon">
            <a:avLst>
              <a:gd name="adj" fmla="val 24998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Заголовок 1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229600" cy="95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68360" y="2349000"/>
            <a:ext cx="822960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6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6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6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6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827840" cy="957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324000" y="1413000"/>
            <a:ext cx="84247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7542360" y="3375000"/>
            <a:ext cx="1306440" cy="12970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ый треугольник 4"/>
          <p:cNvSpPr/>
          <p:nvPr/>
        </p:nvSpPr>
        <p:spPr>
          <a:xfrm>
            <a:off x="4327560" y="3362400"/>
            <a:ext cx="1440000" cy="129708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457200" y="3362400"/>
            <a:ext cx="2016000" cy="1322280"/>
          </a:xfrm>
          <a:prstGeom prst="rect">
            <a:avLst/>
          </a:prstGeom>
          <a:solidFill>
            <a:srgbClr val="390f3d"/>
          </a:solidFill>
          <a:ln w="25560">
            <a:solidFill>
              <a:srgbClr val="390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6"/>
          <p:cNvSpPr/>
          <p:nvPr/>
        </p:nvSpPr>
        <p:spPr>
          <a:xfrm>
            <a:off x="2771640" y="3362400"/>
            <a:ext cx="1295640" cy="12985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Шестиугольник 7"/>
          <p:cNvSpPr/>
          <p:nvPr/>
        </p:nvSpPr>
        <p:spPr>
          <a:xfrm>
            <a:off x="5867280" y="3336840"/>
            <a:ext cx="1501920" cy="1322640"/>
          </a:xfrm>
          <a:prstGeom prst="hexagon">
            <a:avLst>
              <a:gd name="adj" fmla="val 24998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Объект 5" descr=""/>
          <p:cNvPicPr/>
          <p:nvPr/>
        </p:nvPicPr>
        <p:blipFill>
          <a:blip r:embed="rId1"/>
          <a:stretch/>
        </p:blipFill>
        <p:spPr>
          <a:xfrm>
            <a:off x="249120" y="1268280"/>
            <a:ext cx="3527640" cy="5424480"/>
          </a:xfrm>
          <a:prstGeom prst="rect">
            <a:avLst/>
          </a:prstGeom>
          <a:ln w="0">
            <a:noFill/>
          </a:ln>
        </p:spPr>
      </p:pic>
      <p:pic>
        <p:nvPicPr>
          <p:cNvPr id="168" name="Заголовок 1" descr=""/>
          <p:cNvPicPr/>
          <p:nvPr/>
        </p:nvPicPr>
        <p:blipFill>
          <a:blip r:embed="rId2"/>
          <a:stretch/>
        </p:blipFill>
        <p:spPr>
          <a:xfrm>
            <a:off x="3060720" y="0"/>
            <a:ext cx="3005280" cy="1163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284360" y="1413000"/>
            <a:ext cx="46083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9da"/>
                </a:solidFill>
                <a:latin typeface="Calibri"/>
              </a:rPr>
              <a:t>1. У этой геометрической фигуры нет углов.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9da"/>
                </a:solidFill>
                <a:latin typeface="Calibri"/>
              </a:rPr>
              <a:t>2. Что получится, если длину умножить на ширину?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9da"/>
                </a:solidFill>
                <a:latin typeface="Calibri"/>
              </a:rPr>
              <a:t>3. Геометрическая фигура с тремя углами.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9da"/>
                </a:solidFill>
                <a:latin typeface="Calibri"/>
              </a:rPr>
              <a:t>4. Сумма длин всех сторон.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9da"/>
                </a:solidFill>
                <a:latin typeface="Calibri"/>
              </a:rPr>
              <a:t>5. Фигура, у которой противоположные стороны равны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9da"/>
                </a:solidFill>
                <a:latin typeface="Calibri"/>
              </a:rPr>
              <a:t>6. Раздел математики, изучающий фигуры и их построение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132000" y="290160"/>
            <a:ext cx="5112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россворд</a:t>
            </a:r>
            <a:endParaRPr b="0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17375e"/>
              </a:solidFill>
              <a:latin typeface="Calibri"/>
            </a:endParaRPr>
          </a:p>
        </p:txBody>
      </p:sp>
      <p:pic>
        <p:nvPicPr>
          <p:cNvPr id="173" name="Рисунок 4" descr=""/>
          <p:cNvPicPr/>
          <p:nvPr/>
        </p:nvPicPr>
        <p:blipFill>
          <a:blip r:embed="rId1"/>
          <a:stretch/>
        </p:blipFill>
        <p:spPr>
          <a:xfrm>
            <a:off x="2722680" y="1268280"/>
            <a:ext cx="3435120" cy="52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907640" y="160128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7375e"/>
                </a:solidFill>
                <a:latin typeface="Calibri"/>
              </a:rPr>
              <a:t>1 см =        мм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7375e"/>
                </a:solidFill>
                <a:latin typeface="Calibri"/>
              </a:rPr>
              <a:t>5 см =        мм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7375e"/>
                </a:solidFill>
                <a:latin typeface="Calibri"/>
              </a:rPr>
              <a:t>23 мм =   см    мм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7375e"/>
                </a:solidFill>
                <a:latin typeface="Calibri"/>
              </a:rPr>
              <a:t>81 мм =     см    мм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7375e"/>
                </a:solidFill>
                <a:latin typeface="Calibri"/>
              </a:rPr>
              <a:t>1 м =              см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780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10     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50 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17375e"/>
              </a:buClr>
              <a:buFont typeface="Calibri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17375e"/>
              </a:buClr>
              <a:buFont typeface="Calibri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100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Дети пришли в школу к половине девятого. Выходя из школы, каждый посмотрел на часы. Сколько времени он провел в школе?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Варя                      Влад                       Лена                        Коля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</p:txBody>
      </p:sp>
      <p:pic>
        <p:nvPicPr>
          <p:cNvPr id="92" name="Рисунок 2" descr=""/>
          <p:cNvPicPr/>
          <p:nvPr/>
        </p:nvPicPr>
        <p:blipFill>
          <a:blip r:embed="rId2"/>
          <a:stretch/>
        </p:blipFill>
        <p:spPr>
          <a:xfrm>
            <a:off x="314280" y="2708280"/>
            <a:ext cx="1774800" cy="18352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"/>
          <p:cNvPicPr/>
          <p:nvPr/>
        </p:nvPicPr>
        <p:blipFill>
          <a:blip r:embed="rId3"/>
          <a:stretch/>
        </p:blipFill>
        <p:spPr>
          <a:xfrm>
            <a:off x="2335320" y="2708280"/>
            <a:ext cx="1798560" cy="18590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"/>
          <p:cNvPicPr/>
          <p:nvPr/>
        </p:nvPicPr>
        <p:blipFill>
          <a:blip r:embed="rId4"/>
          <a:stretch/>
        </p:blipFill>
        <p:spPr>
          <a:xfrm>
            <a:off x="4572000" y="2708280"/>
            <a:ext cx="1798560" cy="1859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"/>
          <p:cNvPicPr/>
          <p:nvPr/>
        </p:nvPicPr>
        <p:blipFill>
          <a:blip r:embed="rId5"/>
          <a:stretch/>
        </p:blipFill>
        <p:spPr>
          <a:xfrm>
            <a:off x="6781680" y="2711520"/>
            <a:ext cx="1798920" cy="18572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"/>
          <p:cNvPicPr/>
          <p:nvPr/>
        </p:nvPicPr>
        <p:blipFill>
          <a:blip r:embed="rId6"/>
          <a:stretch/>
        </p:blipFill>
        <p:spPr>
          <a:xfrm>
            <a:off x="2843280" y="5157720"/>
            <a:ext cx="80964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"/>
          <p:cNvPicPr/>
          <p:nvPr/>
        </p:nvPicPr>
        <p:blipFill>
          <a:blip r:embed="rId7"/>
          <a:stretch/>
        </p:blipFill>
        <p:spPr>
          <a:xfrm>
            <a:off x="682560" y="5103720"/>
            <a:ext cx="906480" cy="14814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9" descr=""/>
          <p:cNvPicPr/>
          <p:nvPr/>
        </p:nvPicPr>
        <p:blipFill>
          <a:blip r:embed="rId8"/>
          <a:stretch/>
        </p:blipFill>
        <p:spPr>
          <a:xfrm>
            <a:off x="7164360" y="5122800"/>
            <a:ext cx="1108080" cy="14749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0" descr=""/>
          <p:cNvPicPr/>
          <p:nvPr/>
        </p:nvPicPr>
        <p:blipFill>
          <a:blip r:embed="rId9"/>
          <a:stretch/>
        </p:blipFill>
        <p:spPr>
          <a:xfrm>
            <a:off x="4906800" y="5052960"/>
            <a:ext cx="1011240" cy="15908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1"/>
          <p:cNvSpPr/>
          <p:nvPr/>
        </p:nvSpPr>
        <p:spPr>
          <a:xfrm>
            <a:off x="225360" y="5229360"/>
            <a:ext cx="45720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Прямая со стрелкой 13"/>
          <p:cNvCxnSpPr/>
          <p:nvPr/>
        </p:nvCxnSpPr>
        <p:spPr>
          <a:xfrm flipV="1">
            <a:off x="1187280" y="3212280"/>
            <a:ext cx="216720" cy="36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Прямая со стрелкой 17"/>
          <p:cNvCxnSpPr/>
          <p:nvPr/>
        </p:nvCxnSpPr>
        <p:spPr>
          <a:xfrm flipV="1">
            <a:off x="1201320" y="2997360"/>
            <a:ext cx="1080" cy="576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Прямая со стрелкой 19"/>
          <p:cNvCxnSpPr/>
          <p:nvPr/>
        </p:nvCxnSpPr>
        <p:spPr>
          <a:xfrm flipV="1">
            <a:off x="3235320" y="3212280"/>
            <a:ext cx="3340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Прямая со стрелкой 21"/>
          <p:cNvCxnSpPr/>
          <p:nvPr/>
        </p:nvCxnSpPr>
        <p:spPr>
          <a:xfrm>
            <a:off x="3231720" y="3584160"/>
            <a:ext cx="546480" cy="306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Прямая со стрелкой 23"/>
          <p:cNvCxnSpPr/>
          <p:nvPr/>
        </p:nvCxnSpPr>
        <p:spPr>
          <a:xfrm flipV="1">
            <a:off x="5472000" y="3357000"/>
            <a:ext cx="324720" cy="268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Прямая со стрелкой 25"/>
          <p:cNvCxnSpPr/>
          <p:nvPr/>
        </p:nvCxnSpPr>
        <p:spPr>
          <a:xfrm flipH="1" flipV="1">
            <a:off x="5002920" y="3284280"/>
            <a:ext cx="469080" cy="34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Прямая со стрелкой 28"/>
          <p:cNvCxnSpPr/>
          <p:nvPr/>
        </p:nvCxnSpPr>
        <p:spPr>
          <a:xfrm flipV="1">
            <a:off x="7682040" y="3357000"/>
            <a:ext cx="388080" cy="268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Прямая со стрелкой 30"/>
          <p:cNvCxnSpPr/>
          <p:nvPr/>
        </p:nvCxnSpPr>
        <p:spPr>
          <a:xfrm flipH="1">
            <a:off x="7019280" y="3625560"/>
            <a:ext cx="6627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980640"/>
            <a:ext cx="8229600" cy="46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Лыжник ехал 3 часа с одинаковой скоростью. За это время он проехал 21 км. Сколько километров он проезжал за 1 час?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                       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                           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? -1ч</a:t>
            </a:r>
            <a:endParaRPr b="0" lang="en-US" sz="28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3ч</a:t>
            </a:r>
            <a:endParaRPr b="0" lang="en-US" sz="18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1 км</a:t>
            </a:r>
            <a:endParaRPr b="0" lang="en-US" sz="28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Calibri"/>
            </a:endParaRPr>
          </a:p>
        </p:txBody>
      </p:sp>
      <p:cxnSp>
        <p:nvCxnSpPr>
          <p:cNvPr id="111" name="Прямая со стрелкой 4"/>
          <p:cNvCxnSpPr/>
          <p:nvPr/>
        </p:nvCxnSpPr>
        <p:spPr>
          <a:xfrm>
            <a:off x="1186920" y="4508280"/>
            <a:ext cx="6481080" cy="1080"/>
          </a:xfrm>
          <a:prstGeom prst="straightConnector1">
            <a:avLst/>
          </a:prstGeom>
          <a:ln w="604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2" name="Овал 5"/>
          <p:cNvSpPr/>
          <p:nvPr/>
        </p:nvSpPr>
        <p:spPr>
          <a:xfrm>
            <a:off x="1187280" y="4365720"/>
            <a:ext cx="289080" cy="287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"/>
          <p:cNvSpPr/>
          <p:nvPr/>
        </p:nvSpPr>
        <p:spPr>
          <a:xfrm>
            <a:off x="7380360" y="4365720"/>
            <a:ext cx="287280" cy="287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3419640" y="429264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12"/>
          <p:cNvSpPr/>
          <p:nvPr/>
        </p:nvSpPr>
        <p:spPr>
          <a:xfrm>
            <a:off x="5580000" y="429264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Левая фигурная скобка 18"/>
          <p:cNvSpPr/>
          <p:nvPr/>
        </p:nvSpPr>
        <p:spPr>
          <a:xfrm rot="16200000">
            <a:off x="4186800" y="1794600"/>
            <a:ext cx="478080" cy="6121440"/>
          </a:xfrm>
          <a:custGeom>
            <a:avLst/>
            <a:gdLst>
              <a:gd name="textAreaLeft" fmla="*/ 305640 w 478080"/>
              <a:gd name="textAreaRight" fmla="*/ 478440 w 478080"/>
              <a:gd name="textAreaTop" fmla="*/ 12240 h 6121440"/>
              <a:gd name="textAreaBottom" fmla="*/ 6109200 h 612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1"/>
                  <a:pt x="10800" y="141"/>
                </a:cubicBezTo>
                <a:lnTo>
                  <a:pt x="10800" y="10659"/>
                </a:lnTo>
                <a:cubicBezTo>
                  <a:pt x="10800" y="10730"/>
                  <a:pt x="5400" y="10800"/>
                  <a:pt x="0" y="10800"/>
                </a:cubicBezTo>
                <a:cubicBezTo>
                  <a:pt x="5400" y="10800"/>
                  <a:pt x="10800" y="10871"/>
                  <a:pt x="10800" y="10941"/>
                </a:cubicBezTo>
                <a:lnTo>
                  <a:pt x="10800" y="21459"/>
                </a:lnTo>
                <a:cubicBezTo>
                  <a:pt x="10800" y="2153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9" descr=""/>
          <p:cNvPicPr/>
          <p:nvPr/>
        </p:nvPicPr>
        <p:blipFill>
          <a:blip r:embed="rId2"/>
          <a:stretch/>
        </p:blipFill>
        <p:spPr>
          <a:xfrm>
            <a:off x="1619280" y="3298680"/>
            <a:ext cx="1152360" cy="702000"/>
          </a:xfrm>
          <a:prstGeom prst="rect">
            <a:avLst/>
          </a:prstGeom>
          <a:ln w="0">
            <a:noFill/>
          </a:ln>
        </p:spPr>
      </p:pic>
      <p:sp>
        <p:nvSpPr>
          <p:cNvPr id="118" name="Стрелка вправо 20"/>
          <p:cNvSpPr/>
          <p:nvPr/>
        </p:nvSpPr>
        <p:spPr>
          <a:xfrm>
            <a:off x="1365120" y="4149720"/>
            <a:ext cx="1838520" cy="44280"/>
          </a:xfrm>
          <a:prstGeom prst="rightArrow">
            <a:avLst>
              <a:gd name="adj1" fmla="val 50000"/>
              <a:gd name="adj2" fmla="val 50170"/>
            </a:avLst>
          </a:prstGeom>
          <a:solidFill>
            <a:srgbClr val="ffff00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827840" cy="957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24000" y="1413000"/>
            <a:ext cx="84247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379440" y="3357720"/>
            <a:ext cx="1306440" cy="1295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ый треугольник 4"/>
          <p:cNvSpPr/>
          <p:nvPr/>
        </p:nvSpPr>
        <p:spPr>
          <a:xfrm>
            <a:off x="1901880" y="3357720"/>
            <a:ext cx="1441440" cy="129528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5"/>
          <p:cNvSpPr/>
          <p:nvPr/>
        </p:nvSpPr>
        <p:spPr>
          <a:xfrm>
            <a:off x="3559320" y="3357720"/>
            <a:ext cx="2016000" cy="1320480"/>
          </a:xfrm>
          <a:prstGeom prst="rect">
            <a:avLst/>
          </a:prstGeom>
          <a:solidFill>
            <a:srgbClr val="390f3d"/>
          </a:solidFill>
          <a:ln w="25560">
            <a:solidFill>
              <a:srgbClr val="390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6"/>
          <p:cNvSpPr/>
          <p:nvPr/>
        </p:nvSpPr>
        <p:spPr>
          <a:xfrm>
            <a:off x="5791320" y="3354480"/>
            <a:ext cx="1295280" cy="12985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Шестиугольник 7"/>
          <p:cNvSpPr/>
          <p:nvPr/>
        </p:nvSpPr>
        <p:spPr>
          <a:xfrm>
            <a:off x="7246800" y="3357720"/>
            <a:ext cx="1501920" cy="132048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229600" cy="957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8360" y="2349000"/>
            <a:ext cx="822960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6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6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6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6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827840" cy="957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324000" y="1413000"/>
            <a:ext cx="84247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379440" y="3357720"/>
            <a:ext cx="1306440" cy="1295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ый треугольник 4"/>
          <p:cNvSpPr/>
          <p:nvPr/>
        </p:nvSpPr>
        <p:spPr>
          <a:xfrm>
            <a:off x="1901880" y="3357720"/>
            <a:ext cx="1441440" cy="129528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5"/>
          <p:cNvSpPr/>
          <p:nvPr/>
        </p:nvSpPr>
        <p:spPr>
          <a:xfrm>
            <a:off x="3559320" y="3357720"/>
            <a:ext cx="2016000" cy="1320480"/>
          </a:xfrm>
          <a:prstGeom prst="rect">
            <a:avLst/>
          </a:prstGeom>
          <a:solidFill>
            <a:srgbClr val="390f3d"/>
          </a:solidFill>
          <a:ln w="25560">
            <a:solidFill>
              <a:srgbClr val="390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6"/>
          <p:cNvSpPr/>
          <p:nvPr/>
        </p:nvSpPr>
        <p:spPr>
          <a:xfrm>
            <a:off x="5791320" y="3354480"/>
            <a:ext cx="1295280" cy="12985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Шестиугольник 7"/>
          <p:cNvSpPr/>
          <p:nvPr/>
        </p:nvSpPr>
        <p:spPr>
          <a:xfrm>
            <a:off x="7246800" y="3357720"/>
            <a:ext cx="1501920" cy="132048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827840" cy="957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324000" y="1413000"/>
            <a:ext cx="84247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2092320" y="3354480"/>
            <a:ext cx="1306440" cy="1296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ый треугольник 4"/>
          <p:cNvSpPr/>
          <p:nvPr/>
        </p:nvSpPr>
        <p:spPr>
          <a:xfrm>
            <a:off x="561960" y="3357720"/>
            <a:ext cx="1441440" cy="129528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5334120" y="3373560"/>
            <a:ext cx="2016000" cy="1322280"/>
          </a:xfrm>
          <a:prstGeom prst="rect">
            <a:avLst/>
          </a:prstGeom>
          <a:solidFill>
            <a:srgbClr val="390f3d"/>
          </a:solidFill>
          <a:ln w="25560">
            <a:solidFill>
              <a:srgbClr val="390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6"/>
          <p:cNvSpPr/>
          <p:nvPr/>
        </p:nvSpPr>
        <p:spPr>
          <a:xfrm>
            <a:off x="7518240" y="3386160"/>
            <a:ext cx="1295640" cy="12985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Шестиугольник 7"/>
          <p:cNvSpPr/>
          <p:nvPr/>
        </p:nvSpPr>
        <p:spPr>
          <a:xfrm>
            <a:off x="3614760" y="3354480"/>
            <a:ext cx="1501920" cy="1322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229600" cy="957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68360" y="2349000"/>
            <a:ext cx="822960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6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6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6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6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7:23:27Z</dcterms:created>
  <dc:creator>Comp</dc:creator>
  <dc:description/>
  <dc:language>en-US</dc:language>
  <cp:lastModifiedBy>Матвей</cp:lastModifiedBy>
  <dcterms:modified xsi:type="dcterms:W3CDTF">2015-03-18T06:23:46Z</dcterms:modified>
  <cp:revision>20</cp:revision>
  <dc:subject/>
  <dc:title>Слайд 1</dc:title>
</cp:coreProperties>
</file>