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FA3-3227-450C-B523-54139995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F26-4822-4A7B-9160-7396A54B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80A-565E-4626-935B-3F9A80F4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DBA-9954-4F7C-B473-51905841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9AF-8A5C-4D9F-BAC9-EBAF5B70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3B8-F2F1-47A3-89B4-4FF62CA7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F2E-4AD0-49DF-8D0F-BBC76FD2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0FE-D6BC-4264-9BF2-A1C3CACD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700-D2FB-4E61-B4C5-627D477E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10D-2B3E-4BCD-A9DF-174575E7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47F-EBBE-406D-BB48-E864AA4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F28-CFB3-4BCD-84A0-E5C3B96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059C-08F9-4B20-8F9F-4F59CB498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а межличностных отношений в подростковой среде (конфликты)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ученица 9 «б» класса Гурбач Светл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конфлик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арактер конфликта зависит от специфики противоположных сторон, а также от тех условий, в которых развертывается их борь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фликты бываю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конфликты — это взаимодействие противоположных сторон внутри данного объекта, например, внутри данного вида животных (внутривидовая борьба). Процесс развития объекта характеризуется не только развертыванием внутренних конфликтов, но и постоянным взаимодействием его с внешними условиями, со сре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неш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конфликты — это взаимодействие противоположностей, относящихся к разным объектам, например между обществом и природой, организмом и средой и т. 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нтагонистическ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конфликты — это взаимодействие между непримиримо враждебными социальными группами и силами. Термин «антагонизм» распространен в биологии и медицине: антагонизм ядов, лекарств, микробов, антагонизм мышц, зубов и т. п. Математики рассматривают антагонизм как такую противоположность интересов (имеется в виду теория игр), при которой выигрыш одной стороны равен проигрышу другой, то есть равенство по величине и противоположность по знаку. В своем чистом виде антагонизм проявляется редко — в ситуации рыночной конкуренции, войны, революции, спортивных состязаний и т. 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Clearing the Air When Conflict Arises - Colin Martin"/>
          <p:cNvPicPr/>
          <p:nvPr/>
        </p:nvPicPr>
        <p:blipFill>
          <a:blip r:embed="rId1"/>
          <a:stretch/>
        </p:blipFill>
        <p:spPr>
          <a:xfrm>
            <a:off x="179280" y="189000"/>
            <a:ext cx="1897200" cy="1360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Виды и причины социальных конфликтов Практическая психология"/>
          <p:cNvPicPr/>
          <p:nvPr/>
        </p:nvPicPr>
        <p:blipFill>
          <a:blip r:embed="rId2"/>
          <a:stretch/>
        </p:blipFill>
        <p:spPr>
          <a:xfrm>
            <a:off x="7020000" y="115920"/>
            <a:ext cx="1871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азы конфлик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, осознание участниками общения ситуации как конфлик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стратегии поведения в конфликт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способов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3D Meeting Conflict Flickr - Photo Sharing!"/>
          <p:cNvPicPr/>
          <p:nvPr/>
        </p:nvPicPr>
        <p:blipFill>
          <a:blip r:embed="rId1"/>
          <a:stretch/>
        </p:blipFill>
        <p:spPr>
          <a:xfrm>
            <a:off x="6156360" y="3500280"/>
            <a:ext cx="2674800" cy="267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Поджигатели московских машин приехали из Калуги Автомолва"/>
          <p:cNvPicPr/>
          <p:nvPr/>
        </p:nvPicPr>
        <p:blipFill>
          <a:blip r:embed="rId2"/>
          <a:stretch/>
        </p:blipFill>
        <p:spPr>
          <a:xfrm>
            <a:off x="2050920" y="4724280"/>
            <a:ext cx="29768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атегии поведения в конфликтной ситу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временной конфликтологии выделены пять стратегий поведения в конфликтной ситу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испособление — одна сторона во всём соглашается с другой, но имеет своё мнение, которое боится высказ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Избегание — уход от конфликтн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Компромисс — приемлемое для обеих сторон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Соперничество — активное противостояние другой ст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Сотрудничество — обсуждение и реализация взаимовыгодного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Сельские тунеядцы грабят среди бела дня - Новости Кировограда - Кировоградский городской портал"/>
          <p:cNvPicPr/>
          <p:nvPr/>
        </p:nvPicPr>
        <p:blipFill>
          <a:blip r:embed="rId1"/>
          <a:stretch/>
        </p:blipFill>
        <p:spPr>
          <a:xfrm>
            <a:off x="5435640" y="3933720"/>
            <a:ext cx="2014560" cy="154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Sleem Вмешивается в судьбу &amp;laquo;Люблю женатого&amp;raquo; (eco…"/>
          <p:cNvPicPr/>
          <p:nvPr/>
        </p:nvPicPr>
        <p:blipFill>
          <a:blip r:embed="rId2"/>
          <a:stretch/>
        </p:blipFill>
        <p:spPr>
          <a:xfrm>
            <a:off x="3851280" y="4221000"/>
            <a:ext cx="1392120" cy="158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CEO Message @ HeatTechWin"/>
          <p:cNvPicPr/>
          <p:nvPr/>
        </p:nvPicPr>
        <p:blipFill>
          <a:blip r:embed="rId3"/>
          <a:stretch/>
        </p:blipFill>
        <p:spPr>
          <a:xfrm>
            <a:off x="179280" y="4292640"/>
            <a:ext cx="1435320" cy="201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я и ... кто-то еще кроме меня))) - isa - Photo.Qip.ru / id: fvas"/>
          <p:cNvPicPr/>
          <p:nvPr/>
        </p:nvPicPr>
        <p:blipFill>
          <a:blip r:embed="rId4"/>
          <a:stretch/>
        </p:blipFill>
        <p:spPr>
          <a:xfrm>
            <a:off x="1763640" y="4221000"/>
            <a:ext cx="2235240" cy="1643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Межличностные отношения в коллективе: как не нажить врагов"/>
          <p:cNvPicPr/>
          <p:nvPr/>
        </p:nvPicPr>
        <p:blipFill>
          <a:blip r:embed="rId5"/>
          <a:stretch/>
        </p:blipFill>
        <p:spPr>
          <a:xfrm>
            <a:off x="6732720" y="515772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Причины конфли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ные ситуации возникают из – за невнимательности, неуважения, недопонимания и неумения слушать не только себя, но и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KnightPage - LaPrincess"/>
          <p:cNvPicPr/>
          <p:nvPr/>
        </p:nvPicPr>
        <p:blipFill>
          <a:blip r:embed="rId1"/>
          <a:stretch/>
        </p:blipFill>
        <p:spPr>
          <a:xfrm>
            <a:off x="6300720" y="3141720"/>
            <a:ext cx="2328840" cy="3166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How To Manage Conflict With Your Boss"/>
          <p:cNvPicPr/>
          <p:nvPr/>
        </p:nvPicPr>
        <p:blipFill>
          <a:blip r:embed="rId2"/>
          <a:stretch/>
        </p:blipFill>
        <p:spPr>
          <a:xfrm>
            <a:off x="611280" y="3860640"/>
            <a:ext cx="2185920" cy="2068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Ссоры с братом или сестрой расшатывают душевное здоровье? / Казахстанский агрегатор новостей"/>
          <p:cNvPicPr/>
          <p:nvPr/>
        </p:nvPicPr>
        <p:blipFill>
          <a:blip r:embed="rId3"/>
          <a:stretch/>
        </p:blipFill>
        <p:spPr>
          <a:xfrm>
            <a:off x="2987640" y="4076640"/>
            <a:ext cx="3048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Способы ре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м лучшим способом решения конфликта является компромисс. Компромисс – это приемлемое решение для двух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Блог Андрея Харланова Page 10"/>
          <p:cNvPicPr/>
          <p:nvPr/>
        </p:nvPicPr>
        <p:blipFill>
          <a:blip r:embed="rId2"/>
          <a:stretch/>
        </p:blipFill>
        <p:spPr>
          <a:xfrm>
            <a:off x="971640" y="3860640"/>
            <a:ext cx="3673440" cy="2452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Пользователи в онлайн - Конференция ЮрКлуба"/>
          <p:cNvPicPr/>
          <p:nvPr/>
        </p:nvPicPr>
        <p:blipFill>
          <a:blip r:embed="rId3"/>
          <a:stretch/>
        </p:blipFill>
        <p:spPr>
          <a:xfrm>
            <a:off x="5435640" y="3284640"/>
            <a:ext cx="2614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Рекоменд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конфликтных ситуаций не возникало необходимо почаще быть вместе рядом и заниматься одним общим делом в котором каждому хватит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Канадские социологи: склонность доверять людям является приз…"/>
          <p:cNvPicPr/>
          <p:nvPr/>
        </p:nvPicPr>
        <p:blipFill>
          <a:blip r:embed="rId1"/>
          <a:stretch/>
        </p:blipFill>
        <p:spPr>
          <a:xfrm>
            <a:off x="5796000" y="2492280"/>
            <a:ext cx="2903400" cy="1933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Толерантность и знаки зодиака:) PoZnaku.ru - все о знаках зодиака и гороскопах"/>
          <p:cNvPicPr/>
          <p:nvPr/>
        </p:nvPicPr>
        <p:blipFill>
          <a:blip r:embed="rId2"/>
          <a:stretch/>
        </p:blipFill>
        <p:spPr>
          <a:xfrm>
            <a:off x="468360" y="2781360"/>
            <a:ext cx="211284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Рефераты по психологии &quot; Страница 70 - Xreferat.ru - Банк ре…"/>
          <p:cNvPicPr/>
          <p:nvPr/>
        </p:nvPicPr>
        <p:blipFill>
          <a:blip r:embed="rId3"/>
          <a:stretch/>
        </p:blipFill>
        <p:spPr>
          <a:xfrm>
            <a:off x="3059280" y="3789360"/>
            <a:ext cx="2447640" cy="1536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Groups"/>
          <p:cNvPicPr/>
          <p:nvPr/>
        </p:nvPicPr>
        <p:blipFill>
          <a:blip r:embed="rId4"/>
          <a:stretch/>
        </p:blipFill>
        <p:spPr>
          <a:xfrm>
            <a:off x="324000" y="4581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True Game - Role Play Просмотр темы - Общение Общая курилка."/>
          <p:cNvPicPr/>
          <p:nvPr/>
        </p:nvPicPr>
        <p:blipFill>
          <a:blip r:embed="rId5"/>
          <a:stretch/>
        </p:blipFill>
        <p:spPr>
          <a:xfrm>
            <a:off x="5724360" y="4653000"/>
            <a:ext cx="29037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 истиной дружбы жизнь – нич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ть меру следует во всём, везде. Знать меру надо в дружбе и вра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руга ищут, с трудом находят и трудно его сохра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б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ы любим друзей за их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эзлитт.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Good Relationships - JoBSPapa.com"/>
          <p:cNvPicPr/>
          <p:nvPr/>
        </p:nvPicPr>
        <p:blipFill>
          <a:blip r:embed="rId1"/>
          <a:stretch/>
        </p:blipFill>
        <p:spPr>
          <a:xfrm>
            <a:off x="6948360" y="189000"/>
            <a:ext cx="1008360" cy="1004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Политическая система общества: понятие, структура, классификация :: SYL.ru"/>
          <p:cNvPicPr/>
          <p:nvPr/>
        </p:nvPicPr>
        <p:blipFill>
          <a:blip r:embed="rId2"/>
          <a:stretch/>
        </p:blipFill>
        <p:spPr>
          <a:xfrm>
            <a:off x="2484360" y="115920"/>
            <a:ext cx="1441440" cy="1082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bstract puzzle background with one piece missing из FotolEdhar, Роялти-фри стоковое фото #30355574 на Fotolia.ru"/>
          <p:cNvPicPr/>
          <p:nvPr/>
        </p:nvPicPr>
        <p:blipFill>
          <a:blip r:embed="rId3"/>
          <a:stretch/>
        </p:blipFill>
        <p:spPr>
          <a:xfrm>
            <a:off x="3924360" y="189000"/>
            <a:ext cx="1295280" cy="1033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Ассоциация психологов Республики Казахстан - Статьи"/>
          <p:cNvPicPr/>
          <p:nvPr/>
        </p:nvPicPr>
        <p:blipFill>
          <a:blip r:embed="rId4"/>
          <a:stretch/>
        </p:blipFill>
        <p:spPr>
          <a:xfrm>
            <a:off x="5219640" y="115920"/>
            <a:ext cx="1681200" cy="1119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Blog.mir.kg"/>
          <p:cNvPicPr/>
          <p:nvPr/>
        </p:nvPicPr>
        <p:blipFill>
          <a:blip r:embed="rId5"/>
          <a:stretch/>
        </p:blipFill>
        <p:spPr>
          <a:xfrm>
            <a:off x="7885080" y="189000"/>
            <a:ext cx="1038240" cy="10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Отношения ребенка с одноклассниками (проблемы с одноклассниками) Незнание еще не повод."/>
          <p:cNvPicPr/>
          <p:nvPr/>
        </p:nvPicPr>
        <p:blipFill>
          <a:blip r:embed="rId6"/>
          <a:stretch/>
        </p:blipFill>
        <p:spPr>
          <a:xfrm>
            <a:off x="108000" y="0"/>
            <a:ext cx="1224000" cy="1147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Открытая лекция Вадима Артуровича Петровского &quot;Трансактный анализ межличностных взаимоотношений&quot; - лекция в Москве, 27 июля 2011"/>
          <p:cNvPicPr/>
          <p:nvPr/>
        </p:nvPicPr>
        <p:blipFill>
          <a:blip r:embed="rId7"/>
          <a:stretch/>
        </p:blipFill>
        <p:spPr>
          <a:xfrm>
            <a:off x="1258920" y="115920"/>
            <a:ext cx="1225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читаю эту тему актуальной, потому что я тоже подросток и довольно часто, по разным причинам, у мня либо у другого подростка возникают конфликтные ситуации. Я считаю просто необходимым разобраться в причинах недопонимания между подростками и выяснить из – за чего происходят конфликтные ситуации в подростковой среде, а также найти способ их избе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путей преодоления конфликтов между подрос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азобраться в причинах конфли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йти способ решения конфли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Создать рекоменд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исслед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зучение специальн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актическая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жличностные отношения – э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ли́чностные отноше́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совокупность взаимодействий между людьми. Эти отношения преимущественно основаны на связях, существующих между членами общества благодаря разным видам общения: в первую очередь визуальному (или невербальным связям, которые включают в себя как внешний вид, так и телодвижения, жесты), лингвистическому (устная речь), аффективному, а также языкам, построенным в результате развития сложных обществ (экономических, политических и т. 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кие отношения фундаментальны для индивидуального интеллектуального развития, так как благодаря им образуются как малые и простые общества (такие как село), так и крупные и сложные (как мегалополис). Человеческие отношения подразумевают связь как минимум между двумя индив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ассификация межличностн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ичные отношения: те, что устанавливаются между людьми как сами по себе необходи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торичные отношения: те, что зарождаются в необходимости помощи или какой-либо функции, которую одно лицо выполняет в отношении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характер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фициальные (формальные): характеризуются наличием обязательных норм, отсутствием права выбора партнёра по общению, низкой эмоциона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фициальные (неформальные): свойственны право выбора партнёра, широкая эмоциональная основа, отсутствие чётких норм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фликт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́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наиболее острый способ разрешения противоречий в интересах, целях, взглядах, возникающих в процессе социального взаимодействия, заключающийся в противодействии участников этого взаимодействия и обычно сопровождающийся негативными эмоциями, выходящий за рамки правил и норм. Конфликты являются предметом изучения науки конфликтоло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 – ситуация, в которой каждая из сторон стремится занять позицию, несовместимую и противоположную по отношению к интересам другой стороны. Конфликт – особое взаимодействие индивидов, групп, объединений, которое возникает при их несовместимых взглядах, позициях и интер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Почему у меня такое плохое настроение? Центр комфортного общения Натальи Шеиной"/>
          <p:cNvPicPr/>
          <p:nvPr/>
        </p:nvPicPr>
        <p:blipFill>
          <a:blip r:embed="rId1"/>
          <a:stretch/>
        </p:blipFill>
        <p:spPr>
          <a:xfrm>
            <a:off x="6516720" y="115920"/>
            <a:ext cx="2305080" cy="155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Межличностные конфликты Работа для няни, репититора, воспита…"/>
          <p:cNvPicPr/>
          <p:nvPr/>
        </p:nvPicPr>
        <p:blipFill>
          <a:blip r:embed="rId2"/>
          <a:stretch/>
        </p:blipFill>
        <p:spPr>
          <a:xfrm>
            <a:off x="468360" y="260280"/>
            <a:ext cx="1657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конфли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поля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полярность, или оппозиция, представляет противостояние и одновременно взаимосвязанность, содержит в себе внутренний потенциал противоречия, но сама по себе не означает столкновения или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сть — другой признак конфликта, но только та активность, которая синонимична понятиям «борьбы» и «противодействия», активность невозможна без некоторого импульса, задаваемого осознанием ситуации со стороны субъекта конфли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ы конфли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личие субъектов конфликта — ещё один признак, субъект — это активная сторона, способная создавать конфликтную ситуацию и влиять на ход конфликта в зависимости от своих интересов. Как правило, субъекты конфликта обладают особым типом мышления — конфликтным. Противоречие представляет собой источник конфликтных ситуаций только для субъектов-носителей конфликтного типа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В чем причина межконфессиональных конфликтов?"/>
          <p:cNvPicPr/>
          <p:nvPr/>
        </p:nvPicPr>
        <p:blipFill>
          <a:blip r:embed="rId1"/>
          <a:stretch/>
        </p:blipFill>
        <p:spPr>
          <a:xfrm>
            <a:off x="6227640" y="5749920"/>
            <a:ext cx="2737080" cy="1108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Реферат на тему: Методы регулирования межличностных конфликтов"/>
          <p:cNvPicPr/>
          <p:nvPr/>
        </p:nvPicPr>
        <p:blipFill>
          <a:blip r:embed="rId2"/>
          <a:stretch/>
        </p:blipFill>
        <p:spPr>
          <a:xfrm>
            <a:off x="108000" y="0"/>
            <a:ext cx="17254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11:10:55Z</dcterms:created>
  <dc:creator>USER</dc:creator>
  <dc:description/>
  <dc:language>en-US</dc:language>
  <cp:lastModifiedBy>USER</cp:lastModifiedBy>
  <dcterms:modified xsi:type="dcterms:W3CDTF">2015-01-16T13:47:30Z</dcterms:modified>
  <cp:revision>2</cp:revision>
  <dc:subject/>
  <dc:title>Проблема межличностных отношений между подростками. </dc:title>
</cp:coreProperties>
</file>