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20.jpeg" ContentType="image/jpeg"/>
  <Override PartName="/ppt/media/image9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13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26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6F2-6660-4858-9CD9-8CF5D803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E49-1C2E-4676-93C5-77780CD7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5EC-E33F-44A2-8930-FBBC0436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DCC-5054-48D6-B990-1A0045CD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B234-66AF-40D9-95BA-C26890A1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1E6C-E2BD-4AEA-B1F6-214E0487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790B-4A47-4B64-91C4-51BD26A8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92EC-2D1D-4FE1-962F-C8F81F5A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97B9-2A70-4F6F-A480-0744080B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829C-12B2-4294-B00E-58F1C567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125B-1391-4549-92F0-412864F1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47E-A1E2-4022-8D03-BED6EFFC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B975-2726-4BA9-B377-DD953DFA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302A-1173-4476-9C63-3A56ECA7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7503-250B-45A0-9161-AB7FF484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4A23-D8EC-411A-A56E-E231D2AA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9B36-0357-49FD-BFC0-7E153C70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8DB-8D4D-4869-962C-79816616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EAC-80CA-4B8E-AF5F-EA64F0E2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D6B-39EA-46EE-9734-EB3976DF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0FC-BC04-4D44-B1ED-FE62629A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A87-C4E8-4070-A799-7647D08B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310-E9DC-4D86-80D2-52DA66DC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5C6-0CAB-47E7-B42B-62860961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A86E-BB12-4FBE-B720-B30C14754D86}" type="slidenum">
              <a:rPr b="0" lang="en-US" sz="1000" spc="-1" strike="noStrike">
                <a:solidFill>
                  <a:srgbClr val="ffffcc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CFC6-DC00-460A-97EC-CFC145483E47}" type="slidenum">
              <a:rPr b="0" lang="en-US" sz="1000" spc="-1" strike="noStrike">
                <a:solidFill>
                  <a:srgbClr val="ffffcc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likar.info/coolhealth/articles/84.htm/" TargetMode="External"/><Relationship Id="rId2" Type="http://schemas.openxmlformats.org/officeDocument/2006/relationships/hyperlink" Target="http://www.likar.info/coolhealth/articles/84.htm/" TargetMode="External"/><Relationship Id="rId3" Type="http://schemas.openxmlformats.org/officeDocument/2006/relationships/hyperlink" Target="http://www.likar.info/coolhealth/articles/81/htm/" TargetMode="External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25280" y="2276640"/>
            <a:ext cx="6318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«Боевой потенциал»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домашней пыли: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как ему противостоять?</a:t>
            </a:r>
            <a:br>
              <a:rPr sz="3600"/>
            </a:b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64000" y="5229000"/>
            <a:ext cx="3600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оект подготовил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ащиеся 8 «Д» класс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2016000" cy="3311280"/>
          </a:xfrm>
          <a:prstGeom prst="rect">
            <a:avLst/>
          </a:prstGeom>
          <a:ln w="57240">
            <a:solidFill>
              <a:srgbClr val="ffff66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809720" cy="180000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Как пыль влияет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          на наше здоровье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19280" y="2565000"/>
            <a:ext cx="572436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Каждый день с воздухом человек только дома вдыхает до 3.000.000.000 (трёх миллиардов) пылинок (1-2 столовые ложки) вредоносной и болезнетворной микропыли, содержащей частицы различных аллергенов, обрывков волокон разных тканей, частицы металлов и бумаги, волос и шерсти домашних животных, пуха и пыльцы растений, бактерий, вирусов, канцерогенных и других веществ, табачного дыма, различных газов и запахов – которые провоцирует многие болезни у детей и взрослых.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58920" y="2276640"/>
            <a:ext cx="1946160" cy="2450880"/>
          </a:xfrm>
          <a:prstGeom prst="rect">
            <a:avLst/>
          </a:prstGeom>
          <a:ln w="38160">
            <a:solidFill>
              <a:srgbClr val="66ccff"/>
            </a:solidFill>
            <a:miter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Как пыль влияет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          на наше здоровье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Любая домашняя пыль – комплексный набор аллергенов, главным из которых является микроскопический клещ.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 flipV="1" rot="10808400">
            <a:off x="1042560" y="2851560"/>
            <a:ext cx="46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Не сами клещи, а продукты их жизнедеятельности содержат аллергены, являющиеся причиной астмы, экземы и воспаления слизистой оболочки носоглотки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4797360"/>
            <a:ext cx="7993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Основным питанием для клеща являются омертвевшие клетки кожи. В год человек теряет до двух кг кожи, основная масса которой остается на постельном белье. Поэтому основным местом обитания и размножения является постель, ковры с натуральным ворсом и т.д. В Вашей постели живут до 2 млн. клещей, это оптимальная среда для их обитания и размножения.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012000" y="2781360"/>
            <a:ext cx="2519280" cy="1852560"/>
          </a:xfrm>
          <a:prstGeom prst="rect">
            <a:avLst/>
          </a:prstGeom>
          <a:ln w="38160">
            <a:solidFill>
              <a:srgbClr val="66ccff"/>
            </a:solidFill>
            <a:miter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Как пыль влияет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          на наше здоровье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32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Плесневые грибки являются еще одной причиной аллергии и вместе с клещами создают "взаимовыгодное товарищество". Грибки склеивают кератиновые кожные чешуйки, распад которых образует продукты, обеспечивающие питание домашних пылевых клещей. 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4365720"/>
            <a:ext cx="53294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Теплота и влажность способствует росту плесневых грибков. Aspergillus, показанный здесь (увеличение в 1000 раз) способен вызвать заболевание легких. Миллионы его пор, находящихся в окружающем воздухе, попадают в легкие при дыхании.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164360" y="4437000"/>
            <a:ext cx="1408320" cy="178452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Как пыль влияет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          на наше здоровье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920" y="3068280"/>
            <a:ext cx="566568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В домах, где держат кошек или собак, обнаруживается от 1000 до 1000000 нг аллергена на грамм чистой пыли. Аллергенные свойства шерсти и перхоти животных не зависят от породы или длины шерсти, - это относится и к собакам, и к кошкам. Сильнейшими аллергенными свойствами отличается слюна кошек, которой животное смачивает свою шерсть при умывании. 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1200"/>
            </a:b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08720" y="4365720"/>
            <a:ext cx="1540080" cy="2016000"/>
          </a:xfrm>
          <a:prstGeom prst="rect">
            <a:avLst/>
          </a:prstGeom>
          <a:ln w="38160">
            <a:solidFill>
              <a:srgbClr val="66cc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1044360" cy="1548000"/>
          </a:xfrm>
          <a:prstGeom prst="rect">
            <a:avLst/>
          </a:prstGeom>
          <a:ln w="38160">
            <a:solidFill>
              <a:srgbClr val="66ccff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730920" y="1844640"/>
            <a:ext cx="2413080" cy="188604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7466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Где у нас в квартире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                больше всего пыли?</a:t>
            </a:r>
            <a:br>
              <a:rPr sz="3200"/>
            </a:b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Знаете ли Вы о том, что в стандартной трехкомнатной квартире в год образуется до 40 кг. пыли. Человек за сутки вдыхает до 12 тыс. литров воздуха, в одном литре которого содержится до 500 тыс. пылинок.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Мы решили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оценить относительную запылённость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у себя дома: в спальне, в гостиной, в кухне. Для этого Даша и Дима изготовили ловушки для пыли, укрепили их на высоте 1,5 метров от пола на выбранных участках, а затем с помощью микроскопа подсчитали, сколько пылевых частиц попало в каждую ловушку за 15 минут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Повторный подсчёт провели после тщательной влажной уборки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Используя средние значения, построили диаграмму, которая показывает: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  больше всего пыли в спальне;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  количество пыли сокращается после влажной уборки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Где у нас в квартире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                больше всего пыли?</a:t>
            </a:r>
            <a:br>
              <a:rPr sz="3200"/>
            </a:b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58920" y="2743200"/>
          <a:ext cx="7543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743200"/>
                    <a:ext cx="7543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332000" y="2060640"/>
            <a:ext cx="75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Относительная запылённость воздуха у нас дома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Как бороться с пылью?</a:t>
            </a:r>
            <a:br>
              <a:rPr sz="4000"/>
            </a:b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Наши выводы и рекомендации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7740720" y="0"/>
            <a:ext cx="75596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79280" y="4221000"/>
            <a:ext cx="3097440" cy="226404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3564000" y="5157720"/>
            <a:ext cx="5832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Ковры нужно регулярно чистить пылесосом или выбивать на улице палкой, хорошо очищать от пыли с помощью снега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87640" y="3933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Держите  книги на застеклённых полках и в шкафах, регулярно чистите их пылесосом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1916280"/>
            <a:ext cx="8101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Регулярно проводите влажную уборку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Чаще проветривайте комнаты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Хорошо проветривайте и просушивайте постель. Чаще меняйте постельное бельё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Как бороться с пылью?</a:t>
            </a:r>
            <a:br>
              <a:rPr sz="4000"/>
            </a:b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Наши выводы и рекомендации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Источником опасного запыления является старый поролон в креслах и диванах. Поролон необходимо заменять каждые 5 – 7 лет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Старайтесь избавиться от безделушек, которые собирают пыль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По возможности установите в квартире прибор для увлажнения и очищения воздуха.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4869000"/>
            <a:ext cx="5834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ahoma"/>
              </a:rPr>
              <a:t>Эти правила помогут уменьшить концентрацию пыли в воздухе. Применяя их постоянно, вы ОДЕРЖИТЕ ПОБЕДУ В БОРЬБЕ С ПЫЛЬЮ!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621480" y="4965840"/>
            <a:ext cx="2343240" cy="175716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Информационные ресурсы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03280" y="2133360"/>
            <a:ext cx="722016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убов Д. П. Экология жилища и здоровье человека. Уфа: Слово, 1995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://www.likar.info/coolhealth/articles/84.htm/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(статья Падалко И. Б. Клещи под кроватью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http://www.likar.info/coolhealth/articles/81/htm/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(статья Падалко И. Б. Экология жилища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еличковский Б. Т., Суравегина И. Т., Цыпленкова Т. Т. Здоровье и окружающая среда. – М.: НПЦ, Экология и образование, 1992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68360" y="5157720"/>
            <a:ext cx="1584360" cy="153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Наши гипотезы</a:t>
            </a: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ыль – смесь частиц органического и неорганического происхождения – вызывает раздражение дыхательных путей и аллергию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Количество частиц пыли в воздухе резко сокращается после влажной уборки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885080" y="486900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План исследования</a:t>
            </a: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Что такое пыль?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Исследуем состав пыли под микроскопом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ткуда берётся пыль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Выявляем источники пылевого загрязнения у нас дома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ак мы чувствуем себя в запылённом помещении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Анализируем данные о влиянии пыли на здоровь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Где у нас в квартире  больше всего пыли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Оцениваем относительную запылённость разных  жилых помещений.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ак бороться с пылью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Наши выводы и рекомендации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763640" cy="117324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Что такое пыль?</a:t>
            </a: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81010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ыль – мельчайшие сухие частицы, носящиеся в воздухе или скапливающиеся на поверхности чего-нибудь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Ожегов С. И. и Шведова Н. Ю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Толковый словарь русского языка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4365720"/>
            <a:ext cx="1428840" cy="15714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1187280" y="60213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Домашняя пыль (увеличение в 200 раз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Что такое пыль?</a:t>
            </a:r>
            <a:endParaRPr b="1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Исследуем состав пыли под микроскопом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Оборудование: микроскоп, предметное и покровное стёкла, сосуд с водой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Ход работы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Нанесём каплю воды на чисто вымытое предметное стекло и оставим на 15 минут на столике в гостиной (Данила), на тумбочке в спальне (Катя)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Затем осторожно накроем покровным стеклом и рассмотрим под микроскопом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57080" cy="11098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Из чего же состоит пыль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824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ahoma"/>
              </a:rPr>
              <a:t>Рассмотрев пыль под микроскопом, мы обнаружили в её составе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ahoma"/>
              </a:rPr>
              <a:t>обрывки  волокон разных тканей, частицы бумаги, металлов, почвы, пыльцу растений, чешуйки человеческой кожи, а также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3068640"/>
            <a:ext cx="1079640" cy="10796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236000" y="4797360"/>
            <a:ext cx="1066680" cy="135252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195640" y="3068640"/>
            <a:ext cx="1039680" cy="103968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572000" y="3573360"/>
            <a:ext cx="1428840" cy="153360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7380360" y="3068640"/>
            <a:ext cx="1439640" cy="114768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692360" y="4941720"/>
            <a:ext cx="1727280" cy="124812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900000" y="422100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4149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шерсть животных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62373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бактерии (увел. 2000 раз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5084640"/>
            <a:ext cx="28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сапрофитных пылевых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клещей (увел. 600 раз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56360" y="4292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табачный дым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0" y="62164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плесневые грибки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(увел. 1000 раз)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Откуда берётся пыль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Знаете ли вы, что.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592360" y="2924280"/>
            <a:ext cx="655164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пыль накапливается даже в квартире, где никто не живет. Даже в плотно запертой квартире с закрытыми окнами за две недели набирается около 12 тысяч пылевых частиц на квадратном сантиметре и горизонтальных поверхностях. Анализы показали, что 35% пыли составляли минеральные частицы, 12% - текстильные и бумажные волокна, 19% - кожные чешуйки, 7% - цветочная пыльца, 3% - частицы сажи и дыма, и происхождение 24% частиц установить не удалось.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403280" cy="18446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1719360" cy="25635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Откуда берётся пыль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8077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Источники пылевого загрязнения у нас дом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116000" y="2492280"/>
          <a:ext cx="7848720" cy="4219560"/>
        </p:xfrm>
        <a:graphic>
          <a:graphicData uri="http://schemas.openxmlformats.org/drawingml/2006/table">
            <a:tbl>
              <a:tblPr/>
              <a:tblGrid>
                <a:gridCol w="3822840"/>
                <a:gridCol w="4025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астицы пыли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Источники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брывки текстильных волокон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дежда, постельные принадлежности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астички поролона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Мягкая мебель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Микроскопические клещи и продукты их жизнедеятельности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душки, матрацы, одеяла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Шерсть, перхоть, перья животных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ошки, собаки, попугаи и другие домашние питомцы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ыльца растений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ружный воздух, комнатные растения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шуйки отшелушенного эпидермиса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Люди, живущие в квартире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Как пыль влияет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                 на наше здоровье?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6000" y="234936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Любой человек, попадая в запылённое помещение, контактируя с пыльными вещами, начинает чихать. Это естественная реакция. Однако у больного аллергическим насморком и бронхиальной астмой домашняя пыль вызывает особое, аллергическое воспаление слизистой оболочки носа, глаз и бронхов. Следствием является кашель, затруднённое дыхание, образование вязкой слизи в бронхах, чихание, насморк, заложенность носа, слёзотечение, покраснение глаз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225440" cy="1181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28520" y="4724280"/>
            <a:ext cx="1238400" cy="19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0:50:51Z</dcterms:created>
  <dc:creator>Илья</dc:creator>
  <dc:description/>
  <dc:language>en-US</dc:language>
  <cp:lastModifiedBy>user</cp:lastModifiedBy>
  <dcterms:modified xsi:type="dcterms:W3CDTF">2015-03-18T06:58:09Z</dcterms:modified>
  <cp:revision>50</cp:revision>
  <dc:subject/>
  <dc:title>Слайд 1</dc:title>
</cp:coreProperties>
</file>