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B3C3-11B1-421B-A49A-41006705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623C-D996-4B3C-A92E-F9868BCD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4828F-A039-4B91-8241-6DDC7F23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DBF33-90C5-4667-8AA3-6FBFE28C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59BF0-935E-4E94-86B8-A550EC25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1A8F3-A262-4A41-9A39-DF4990F3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19148-C692-4CBC-960E-D9D661D2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A76B2-CBA7-4F07-AD9C-63191EDE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D41CB-5AA2-4EC9-B5C7-D130BE30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25529-A215-4BC7-BACA-5A908072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E450D-CBBC-4AAF-827A-8B4A290D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F30C-1310-479E-86ED-36AACC06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740-3FAF-42BB-8A83-4E0F9C0B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2916-DA0B-428A-95CC-A16B4460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9CDD-69BD-4301-9B95-7874D53B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A7FF-0E4B-4021-AA51-8DFCE4F3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7D42-4E96-4DED-B989-68C5226C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4E43-77E0-43F2-A651-94CCA151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0B90-A23D-4A15-99E9-B73BF4FA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50AB-8AF3-4A93-899A-7C662413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8A7-1F9C-47BA-995C-FF31E8C6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7F20-EB8A-404E-91F1-6E2495AE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5ADB-8069-41FC-AF1F-57E38317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4DC4-C598-4963-95C8-94679FE3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6002-274F-47FF-84EA-2E30EDE3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24D5-4D71-44AE-9E29-3BAEF9FF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9C626-1BFE-4473-9B88-B78A7E3A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63A4B-1E75-4B92-8F0E-8141FCC3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9BC37-3BEF-45B5-8158-78DCB040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C5CAA-442B-44BD-825B-509E4C3F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9E78C-CDC8-4A83-9773-44E8C33B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5FB1-00DB-4AF7-AF26-13858572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3713C-000E-4B55-B6AD-5FBE3F55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997F5-BDAB-4E20-974F-9C476BED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09135-6AFD-494C-A124-CD5CB613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4E903-7A1A-4DF9-A9A6-A16C1798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9EE1E-715B-4927-85AD-84C9DA26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E2364-6C4A-4850-8C48-0BA22AB1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A67BD-BBA0-4136-B883-C2D430B4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35338-487C-40BA-8F89-8243CB7C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CB832-7826-4D4F-BCC7-FF90ABFE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84D71-6349-41C7-AABA-3C757970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819-EDA8-45E1-B5EE-65E4FD1C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1DC82-48AA-49AA-BA4F-8D30732D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1F1B6-E1F7-481E-B755-43BEE4AE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AD306-22A0-477A-B5D9-D2058136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B5AE4-D8C5-4BDB-BE3E-F1C94D22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6F6D1-212A-44B6-B9CC-0B604938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3692E-D8BA-4AB0-84F0-A3E4B607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7B08D-C750-44DF-99DA-896CAF61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B751E-61EE-4F6A-AB7F-FFB98519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9FCF6-93B7-4E0D-BC94-054B035C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C409F-8342-48F2-911D-63481395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C25-96BD-4CC5-8BB7-CEE8B4AC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50C5C-E01B-4C87-BA5B-D289C786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9D2A6-2C18-4A3E-887B-F8A3332C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E1980-EDD0-4AA2-AEE7-2A39690B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EB61A-4C09-43D9-9371-E5AFACC6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B1967-0344-46C1-AC04-FD70F324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1F916-3A06-489C-943C-802BEEB8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91893-A625-4F9E-ADB6-818C0AA1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57CA5-E28C-4E52-AB3C-D86E9CB9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8599A-2D87-43DD-B457-51828346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A0A0A-A011-42AC-8AA8-F06C1589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4852-A45D-408E-8F92-73EC1188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89CCC-E8E7-4F31-9898-2FBD186B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018CC-A1BC-4541-8D02-7BA00AE4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D54A5-CC4C-46F9-97A6-E9D42034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78BAA-D60D-4564-8D23-9DC3B07F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D72EF-422F-427F-99B5-98FA4326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89CEC-A107-4529-A703-F52C7684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50B23-D000-4DFB-BE2B-51C6FA30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C28F3-D7E7-498A-BBAE-D48C531D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BA018-E0F2-450B-AAB2-83A466DA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768EE-14A2-4B3C-82B8-E3FDA4C3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9AD3-265D-4929-8E35-4FC705D1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82AB3-E0CC-4180-8770-C6673348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8C7BC-78F1-4850-B499-AF6F7E82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9DF2E-6575-4519-97FE-FEFA77AB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C5FC9-3F38-4A17-97DF-71AD1A75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6D35A-0EB4-4838-831D-1F2409AE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CAE97-1C07-465C-BEB6-4E4D9553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B7156-483F-4AA8-8F40-1F5C40EF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13572-2704-4468-BD1D-8A6E9B75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78D32-ACBC-465A-8C3A-78773FFB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69089-7BAE-41A3-8B73-495E7C50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C3B5-1F89-4DF2-8CCA-3BF989E8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389A4-95D6-4793-9A09-538F4D04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685F1-8516-4D07-8809-5F08F3D5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EA576-C49D-46C2-A9F0-83767193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2394E-461A-4F7E-A4C2-7171A4AE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6D500-0515-400F-8FE7-86AC16E3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6670B-F461-428E-94FA-B98DE245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B11A9-1F4B-4F87-84E1-F2FDA731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F1D46-6409-4A73-993D-ABF3F3C8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47A9F-E281-4C8A-9297-CB11B714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3CC58-846B-4E68-9948-BF0687CB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F64E-6F71-4194-980A-3A726A7A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26C3D-2000-4237-93AF-A3AF9B14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57A4B-F799-4F2E-B60C-892C340E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A4829-0C55-40F8-A8D8-DADB5C6D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90B3A-063E-4D38-BBFE-F27F94B8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A01F7-1285-4E05-9910-93CFC0B3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FCD14-5B9A-452E-A7C2-7B7B358C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9E626-8A37-4697-A9FD-617AA4CA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4F9A0-A087-4967-BC1A-FD7EDDD8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D6E1C-249A-4D16-BCC0-4B6DBBF7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59E77-01DA-4888-9EF5-614C09D9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4292-639B-4F98-A7DE-86392ABDD444}" type="slidenum">
              <a:rPr b="0" lang="ru-RU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Скругленный прямоугольник 6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2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C7FB-99E2-4046-B775-8059D0537226}" type="slidenum">
              <a:rPr b="0" lang="ru-RU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Скругленный прямоугольник 6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87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BD9F-B2DD-43A1-B304-36FF7F55B975}" type="slidenum">
              <a:rPr b="0" lang="ru-RU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Скругленный прямоугольник 6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32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2C23-0D9B-4834-B4A6-56E97D4005BE}" type="slidenum">
              <a:rPr b="0" lang="ru-RU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Скругленный прямоугольник 6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77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59CA-F48E-4DEE-8C08-1F36B9BD54FE}" type="slidenum">
              <a:rPr b="0" lang="ru-RU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Скругленный прямоугольник 6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222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7031-ED73-4857-8ADB-B4416BFA8003}" type="slidenum">
              <a:rPr b="0" lang="ru-RU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Скругленный прямоугольник 6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267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DB75-9F78-4A5E-B54A-3E9DB6119D00}" type="slidenum">
              <a:rPr b="0" lang="ru-RU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Скругленный прямоугольник 6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312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9AA8-7F60-4412-B52D-12DA75785E90}" type="slidenum">
              <a:rPr b="0" lang="ru-RU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Скругленный прямоугольник 6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357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D33D-CFF6-4124-BE53-2F5DDB06C1AA}" type="slidenum">
              <a:rPr b="0" lang="ru-RU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Горизонтальный свиток 4"/>
          <p:cNvSpPr/>
          <p:nvPr/>
        </p:nvSpPr>
        <p:spPr>
          <a:xfrm>
            <a:off x="1476360" y="549360"/>
            <a:ext cx="6335640" cy="221436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МБДОУ «ЦРР – детский сад№8 «Огоне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10082"/>
                </a:solidFill>
                <a:latin typeface="Monotype Corsiva"/>
              </a:rPr>
              <a:t>Предметно-развивающая среда</a:t>
            </a:r>
            <a:br>
              <a:rPr sz="4400"/>
            </a:br>
            <a:r>
              <a:rPr b="1" lang="ru-RU" sz="4400" spc="-1" strike="noStrike">
                <a:solidFill>
                  <a:srgbClr val="410082"/>
                </a:solidFill>
                <a:latin typeface="Monotype Corsiva"/>
              </a:rPr>
              <a:t>во второй младшей групп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371600" y="3573360"/>
            <a:ext cx="6400800" cy="32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10082"/>
                </a:solidFill>
                <a:latin typeface="Monotype Corsiva"/>
              </a:rPr>
              <a:t>Воспитат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10082"/>
                </a:solidFill>
                <a:latin typeface="Monotype Corsiva"/>
              </a:rPr>
              <a:t>Морозова Т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10082"/>
                </a:solidFill>
                <a:latin typeface="Monotype Corsiva"/>
              </a:rPr>
              <a:t>2014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6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Уголок экспериментирования и познавательно-исследовательской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деятельности.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Monotype Corsiva"/>
              </a:rPr>
              <a:t>Задачи:</a:t>
            </a: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 </a:t>
            </a:r>
            <a:r>
              <a:rPr b="0" lang="ru-RU" sz="1800" spc="-1" strike="noStrike">
                <a:solidFill>
                  <a:srgbClr val="002060"/>
                </a:solidFill>
                <a:latin typeface="Monotype Corsiva"/>
              </a:rPr>
              <a:t>развитие первичных естественно-научных представлений, наблюдательности, любознательности, активности, мыслительных операций (анализ, сравнение, обобщение, классификация, наблюдение), формирование умения комплексно обследовать предме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Уголок продуктивной деятельности.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Monotype Corsiva"/>
              </a:rPr>
              <a:t>Задачи:</a:t>
            </a: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 </a:t>
            </a:r>
            <a:r>
              <a:rPr b="0" lang="ru-RU" sz="1800" spc="-1" strike="noStrike">
                <a:solidFill>
                  <a:srgbClr val="002060"/>
                </a:solidFill>
                <a:latin typeface="Monotype Corsiva"/>
              </a:rPr>
              <a:t>развитие интереса и желания заниматься творческой деятельностью; закрепление умений и навыков в рисовании, лепке, аппликации; расширение представлений о цвете, свойствах и качествах различных материалов, развитие пальцевой моторики, творческого воображ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Уголок Юного патриота.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Monotype Corsiva"/>
              </a:rPr>
              <a:t>Задачи:</a:t>
            </a: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 </a:t>
            </a:r>
            <a:r>
              <a:rPr b="0" lang="ru-RU" sz="1800" spc="-1" strike="noStrike">
                <a:solidFill>
                  <a:srgbClr val="002060"/>
                </a:solidFill>
                <a:latin typeface="Monotype Corsiva"/>
              </a:rPr>
              <a:t>всестороннее изучение родного края; расширение области социально-нравственных чувств и ориентаций, пробуждение любви к родной станице, краю, стране, воспитание патриотических чувст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22160" y="47628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В нашей группе создана прекрасная предметно- развивающая среда, которая служит интересам и потребностям каждого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Предметно – развивающая среда группы создает комфортное настроение, способствует эмоциональному благополучию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Дети очень восприимчивы к окружающему, поэтому вся обстановка группы имеет большое воспитательн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4"/>
          <p:cNvSpPr/>
          <p:nvPr/>
        </p:nvSpPr>
        <p:spPr>
          <a:xfrm>
            <a:off x="611280" y="1997280"/>
            <a:ext cx="75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Monotype Corsiva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10082"/>
                </a:solidFill>
                <a:latin typeface="Monotype Corsiva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0082"/>
                </a:solidFill>
                <a:latin typeface="Monotype Corsiva"/>
              </a:rPr>
              <a:t>создание комфортных, благоприятных условий для развития ребенка в самостоятельной и совместной деятельности, обеспечивающей разные виды его актив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100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47880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В  группе мы учитываем: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- возрастные особенности детей,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- социально-психологические особенности детей,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- поло-ролевые особенности детей данного возраста,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-интересы, потребности детей данной группы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Наряду с этим осуществляется работа по эстетическому оформлению группы, которая делится на два этапа: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- теоретическая проработка и проведение поискового эксперимента по моделированию пространства группы на плане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- практическая работа по зонированию группы на основе теоретически или экспериментально созданной модели.</a:t>
            </a:r>
            <a:br>
              <a:rPr sz="2000"/>
            </a:br>
            <a:br>
              <a:rPr sz="2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6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22160" y="54900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2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1) 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Содержательная насыщенност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Насыщенность предметно-пространственной среды группы соответствует возможностям детей . Образовательное пространство оснащено необходимыми средствами обучения и воспитания: учебным, исследовательским, игровым и спортивным инвентарем, оздоровительным оборудо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Предметно-пространственная среда группы обеспечивает игровую, познавательную, исследовательскую и творческую активность всех воспитанников. Для этого в группе созданы образовательная, игровая, исследовательская  зоны, а также зоны эстетического развития и отдыха (релакс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2) 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Трансформируем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В группе предусмотрена возможность изменения предметно-пространственной среды в зависимости от образовательной ситуации, в том числе от меняющихся интересов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2216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3) 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Полифункциональность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В группе имеется возможность разнообразного использования различных составляющих предметно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4) 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Вариа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В группе регулярно происходит сменяемость игрового материала, а также обеспечено появление новых предметов, стимулирующих игровую, двигательную, познавательную и исследовательскую активност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5) 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В группе обеспечен свободный доступ воспитанников к играм, игрушкам, материалам, пособиям, обеспечивающим все основные виды детской акти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6) 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Предметно-пространственная среда группы в целом и все ее элементы в отдельности соответствуют требованиям по обеспечению надежности и безопасности их ис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Спортивный уголок.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Monotype Corsiva"/>
              </a:rPr>
              <a:t>Задачи:</a:t>
            </a: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 </a:t>
            </a:r>
            <a:r>
              <a:rPr b="0" lang="ru-RU" sz="1800" spc="-1" strike="noStrike">
                <a:solidFill>
                  <a:srgbClr val="002060"/>
                </a:solidFill>
                <a:latin typeface="Monotype Corsiva"/>
              </a:rPr>
              <a:t>продолжать работу по укреплению здоровья: закаливать организм, совершенствовать основные движения, формировать правильную осанку, воспитывать гигиенические привычки, поддерживать интерес к разным видам спорта, развивать двигательную активность дет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Уголок ролевых и режиссерских игр.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Monotype Corsiva"/>
              </a:rPr>
              <a:t>Задачи:</a:t>
            </a:r>
            <a:r>
              <a:rPr b="0" lang="ru-RU" sz="1800" spc="-1" strike="noStrike">
                <a:solidFill>
                  <a:srgbClr val="002060"/>
                </a:solidFill>
                <a:latin typeface="Monotype Corsiva"/>
              </a:rPr>
              <a:t> развитие игрового опыта каждого ребенка, воспитание коммуникативных навыков, потребности в общении, формирование умения соблюдать в игре определенные правила, развитие творческого воображения, креативного мышления; закрепление в игре социального, речевого поведения; воспитание культуры повед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Уголок музыкально-театрализованной деятельности.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Monotype Corsiva"/>
              </a:rPr>
              <a:t>Задачи:</a:t>
            </a: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 </a:t>
            </a:r>
            <a:r>
              <a:rPr b="0" lang="ru-RU" sz="1800" spc="-1" strike="noStrike">
                <a:solidFill>
                  <a:srgbClr val="002060"/>
                </a:solidFill>
                <a:latin typeface="Monotype Corsiva"/>
              </a:rPr>
              <a:t>развитие музыкальных  и творческих способностей; совершенствование навыков игры на музыкальных инструментах; развитие музыкального слуха, внимания, эмоциональной отзывчивости; приобщение детей к истокам музыкального творчества; развитие умения перевоплощаться с использованием мимики, пантомимики, голоса, интонации; развитие творческого воображения и подражате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Уголок конструирования.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Monotype Corsiva"/>
              </a:rPr>
              <a:t>Задачи:</a:t>
            </a: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 </a:t>
            </a:r>
            <a:r>
              <a:rPr b="0" lang="ru-RU" sz="1800" spc="-1" strike="noStrike">
                <a:solidFill>
                  <a:srgbClr val="002060"/>
                </a:solidFill>
                <a:latin typeface="Monotype Corsiva"/>
              </a:rPr>
              <a:t>развитие пространственного мышления, совершенствование навыков работы по заданной схеме, модели, чертежу;  формирование мыслительных операций (сравнение, анализ, синтез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0:00:02Z</dcterms:created>
  <dc:creator>Admin</dc:creator>
  <dc:description/>
  <dc:language>en-US</dc:language>
  <cp:lastModifiedBy>Татьяна</cp:lastModifiedBy>
  <dcterms:modified xsi:type="dcterms:W3CDTF">2014-11-17T15:05:02Z</dcterms:modified>
  <cp:revision>23</cp:revision>
  <dc:subject/>
  <dc:title>Слайд 1</dc:title>
</cp:coreProperties>
</file>