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6DA-2E9D-4889-91A0-C1D0B915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5406-0449-4F68-816C-887A0844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847-4EB7-48E5-8C4F-7B994D20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C66-77D1-4E7B-8D8F-72A36828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39CE-A849-4282-8040-F928EAB1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0B3C-0F00-4B94-AA39-78F13EC0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963B-5BDA-4949-8EAC-94356F23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B90-DC15-4D9C-9475-4028E23F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DA1-197B-4E29-A5FA-708FEF06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1135-50A2-4306-98F4-FA875E69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AD1F-B8F0-4583-B5B9-407CD6CB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AA7B-8A93-4C7C-B55F-D44DB665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48E7-CD0E-448F-A4B2-CE56EFA76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-4515840"/>
            <a:ext cx="74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357360" y="3785760"/>
            <a:ext cx="55004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Segoe UI"/>
                <a:ea typeface="Segoe UI"/>
              </a:rPr>
              <a:t>МБОУ»Акрамовская О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Segoe UI"/>
                <a:ea typeface="Segoe UI"/>
              </a:rPr>
              <a:t>Моргауш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Segoe UI"/>
                <a:ea typeface="Segoe UI"/>
              </a:rPr>
              <a:t>Классный руководит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Segoe UI"/>
                <a:ea typeface="Segoe UI"/>
              </a:rPr>
              <a:t>Рыжкова А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 rot="21235200">
            <a:off x="1879560" y="628200"/>
            <a:ext cx="6622920" cy="23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72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Программа развития 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72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72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классного коллектива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72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72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СВЕТЛЯЧОК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72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500040"/>
            <a:ext cx="404028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3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Bookman Old Style"/>
              </a:rPr>
              <a:t>Цель программы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143000"/>
            <a:ext cx="40402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Bookman Old Style"/>
              </a:rPr>
              <a:t>    </a:t>
            </a:r>
            <a:r>
              <a:rPr b="1" lang="en-US" sz="2000" spc="-1" strike="noStrike">
                <a:solidFill>
                  <a:srgbClr val="6600cc"/>
                </a:solidFill>
                <a:latin typeface="Bookman Old Style"/>
              </a:rPr>
              <a:t>- формирование человека, способного к активной и эффективной жизне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Bookman Old Style"/>
              </a:rPr>
              <a:t>   </a:t>
            </a:r>
            <a:r>
              <a:rPr b="1" lang="en-US" sz="2000" spc="-1" strike="noStrike">
                <a:solidFill>
                  <a:srgbClr val="6600cc"/>
                </a:solidFill>
                <a:latin typeface="Bookman Old Style"/>
              </a:rPr>
              <a:t>- в многонациональной «поликультурной» среде, обладающего развитым чувст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Bookman Old Style"/>
              </a:rPr>
              <a:t>- понимания и уважения других культу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Bookman Old Style"/>
              </a:rPr>
              <a:t>- формирование и воспитание навыков толерантного поведения и созн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3280" y="571680"/>
            <a:ext cx="404208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Bookman Old Style"/>
              </a:rPr>
              <a:t>Основные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4720" y="1285920"/>
            <a:ext cx="4041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66"/>
                </a:solidFill>
                <a:latin typeface="Bookman Old Style"/>
              </a:rPr>
              <a:t>воспитание гуманистической лич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• </a:t>
            </a:r>
            <a:r>
              <a:rPr b="1" lang="en-US" sz="2000" spc="-1" strike="noStrike">
                <a:solidFill>
                  <a:srgbClr val="000066"/>
                </a:solidFill>
                <a:latin typeface="Bookman Old Style"/>
              </a:rPr>
              <a:t>внедрение в практику поведения школьников стандартов и куль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man Old Style"/>
              </a:rPr>
              <a:t>толерантного повед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• </a:t>
            </a:r>
            <a:r>
              <a:rPr b="1" lang="en-US" sz="2000" spc="-1" strike="noStrike">
                <a:solidFill>
                  <a:srgbClr val="000066"/>
                </a:solidFill>
                <a:latin typeface="Bookman Old Style"/>
              </a:rPr>
              <a:t>овладение школьниками культурами национальной, российской, общечелове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одержимое 3" descr="http://image.slidesharecdn.com/random-120329132245-phpapp01/95/-8-1024.jpg?cb=1333558745"/>
          <p:cNvPicPr/>
          <p:nvPr/>
        </p:nvPicPr>
        <p:blipFill>
          <a:blip r:embed="rId2"/>
          <a:stretch/>
        </p:blipFill>
        <p:spPr>
          <a:xfrm>
            <a:off x="250920" y="189000"/>
            <a:ext cx="4430520" cy="371952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3" descr="http://image.slidesharecdn.com/random-120329132245-phpapp01/95/-16-1024.jpg?cb=1333558745"/>
          <p:cNvPicPr/>
          <p:nvPr/>
        </p:nvPicPr>
        <p:blipFill>
          <a:blip r:embed="rId3"/>
          <a:stretch/>
        </p:blipFill>
        <p:spPr>
          <a:xfrm>
            <a:off x="4500720" y="333360"/>
            <a:ext cx="4465440" cy="424800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3" descr="http://image.slidesharecdn.com/random-120329132245-phpapp01/95/-5-1024.jpg?cb=1333558745"/>
          <p:cNvPicPr/>
          <p:nvPr/>
        </p:nvPicPr>
        <p:blipFill>
          <a:blip r:embed="rId4"/>
          <a:stretch/>
        </p:blipFill>
        <p:spPr>
          <a:xfrm>
            <a:off x="468360" y="3716280"/>
            <a:ext cx="40338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79725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Bookman Old Style"/>
              </a:rPr>
              <a:t>Социальный паспорт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480" y="1285920"/>
            <a:ext cx="40719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Bookman Old Style"/>
              </a:rPr>
              <a:t>Уровень образования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Bookman Old Style"/>
              </a:rPr>
              <a:t>высшее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Bookman Old Style"/>
              </a:rPr>
              <a:t>средне – специальное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Bookman Old Style"/>
              </a:rPr>
              <a:t>среднее-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071600" y="1571400"/>
            <a:ext cx="50720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Bookman Old Style"/>
              </a:rPr>
              <a:t>Социальное условие сем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Bookman Old Style"/>
              </a:rPr>
              <a:t>полные-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Bookman Old Style"/>
              </a:rPr>
              <a:t>неполные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Bookman Old Style"/>
              </a:rPr>
              <a:t>многодетные 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Bookman Old Style"/>
              </a:rPr>
              <a:t>сирота –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Bookman Old Style"/>
              </a:rPr>
              <a:t>неблагополу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Bookman Old Style"/>
              </a:rPr>
              <a:t>семья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ОСНОВНЫЕ НАПРАВЛЕНИЯ И СОДЕРЖАНИЕ ВОСПИТАТЕЛЬНОЙ РАБОТЫ </a:t>
            </a:r>
            <a:br>
              <a:rPr sz="6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1428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Bookman Old Style"/>
              </a:rPr>
              <a:t>На уровне учебн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4200" y="1928520"/>
            <a:ext cx="42832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Bookman Old Style"/>
              </a:rPr>
              <a:t>корректировка учебных программ, реализация национально-регионального компонента Базисного плана Чувашской Республики, профилизация образования, информатизация учебного процесса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Bookman Old Style"/>
              </a:rPr>
              <a:t>На уровне воспитательной работы:</a:t>
            </a:r>
            <a:r>
              <a:rPr b="0" lang="ru-RU" sz="20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Bookman Old Style"/>
              </a:rPr>
              <a:t>- формирование гражданской ответственности, правовой самостоятельности, духовности, толерантности через систему классных часов, воспитательных дел класса, тестирование учащихся, участие в кружках, клубах, секц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71600" y="1143000"/>
            <a:ext cx="507204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Bookman Old Style"/>
              </a:rPr>
              <a:t>На уровне воспитательного взаимодействия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428720" y="1785960"/>
            <a:ext cx="47149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6600cc"/>
                </a:solidFill>
                <a:latin typeface="Bookman Old Style"/>
              </a:rPr>
              <a:t>- проведение родительских лекторие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Bookman Old Style"/>
              </a:rPr>
              <a:t>- проведение совместных дел, праздни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Bookman Old Style"/>
              </a:rPr>
              <a:t>- индивидуальная работа с родителя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Bookman Old Style"/>
              </a:rPr>
              <a:t>На уровне профессионального образования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Bookman Old Style"/>
              </a:rPr>
              <a:t>- повышение квалификационного уровн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Bookman Old Style"/>
              </a:rPr>
              <a:t>- разработка методики составления авторских програм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Bookman Old Style"/>
              </a:rPr>
              <a:t>- участие в опытно-экспериментальной рабо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Bookman Old Style"/>
              </a:rPr>
              <a:t>- создание банка интерактивных форм, методов, технологий воспит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Bookman Old Style"/>
              </a:rPr>
              <a:t>Уровень воспитанности  2013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Содержимое 5"/>
          <p:cNvGraphicFramePr/>
          <p:nvPr/>
        </p:nvGraphicFramePr>
        <p:xfrm>
          <a:off x="142920" y="428760"/>
          <a:ext cx="8786880" cy="5924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Содержимое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428760"/>
                    <a:ext cx="8786880" cy="59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Bookman Old Style"/>
              </a:rPr>
              <a:t>Уровень воспитанности за 2014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4" descr=""/>
          <p:cNvPicPr/>
          <p:nvPr/>
        </p:nvPicPr>
        <p:blipFill>
          <a:blip r:embed="rId2"/>
          <a:stretch/>
        </p:blipFill>
        <p:spPr>
          <a:xfrm>
            <a:off x="0" y="642960"/>
            <a:ext cx="90010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ФОТОКОЛЛ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:\Users\Алина\Desktop\Светлячок\1 класс\IMG_7077.JPG"/>
          <p:cNvPicPr/>
          <p:nvPr/>
        </p:nvPicPr>
        <p:blipFill>
          <a:blip r:embed="rId1"/>
          <a:stretch/>
        </p:blipFill>
        <p:spPr>
          <a:xfrm>
            <a:off x="539640" y="1916280"/>
            <a:ext cx="1916280" cy="15681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69" name="Picture 9" descr=""/>
          <p:cNvPicPr/>
          <p:nvPr/>
        </p:nvPicPr>
        <p:blipFill>
          <a:blip r:embed="rId2"/>
          <a:stretch/>
        </p:blipFill>
        <p:spPr>
          <a:xfrm>
            <a:off x="2843280" y="1268280"/>
            <a:ext cx="1357200" cy="2000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70" name="Picture 9" descr="C:\Documents and Settings\User\Рабочий стол\влад\IMG_20150209_133642.jpg"/>
          <p:cNvPicPr/>
          <p:nvPr/>
        </p:nvPicPr>
        <p:blipFill>
          <a:blip r:embed="rId3"/>
          <a:stretch/>
        </p:blipFill>
        <p:spPr>
          <a:xfrm>
            <a:off x="3780000" y="3933720"/>
            <a:ext cx="1957320" cy="168300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71" name="Picture 11" descr=""/>
          <p:cNvPicPr/>
          <p:nvPr/>
        </p:nvPicPr>
        <p:blipFill>
          <a:blip r:embed="rId4"/>
          <a:stretch/>
        </p:blipFill>
        <p:spPr>
          <a:xfrm>
            <a:off x="4716360" y="1484280"/>
            <a:ext cx="1643040" cy="171288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pic>
        <p:nvPicPr>
          <p:cNvPr id="72" name="Picture 14" descr=""/>
          <p:cNvPicPr/>
          <p:nvPr/>
        </p:nvPicPr>
        <p:blipFill>
          <a:blip r:embed="rId5"/>
          <a:stretch/>
        </p:blipFill>
        <p:spPr>
          <a:xfrm rot="733800">
            <a:off x="6516720" y="3429000"/>
            <a:ext cx="1928880" cy="159084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pic>
        <p:nvPicPr>
          <p:cNvPr id="73" name="Picture 18" descr=""/>
          <p:cNvPicPr/>
          <p:nvPr/>
        </p:nvPicPr>
        <p:blipFill>
          <a:blip r:embed="rId6"/>
          <a:stretch/>
        </p:blipFill>
        <p:spPr>
          <a:xfrm>
            <a:off x="1476360" y="4437000"/>
            <a:ext cx="1571760" cy="207180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F:\IMG_2579.JPG"/>
          <p:cNvPicPr/>
          <p:nvPr/>
        </p:nvPicPr>
        <p:blipFill>
          <a:blip r:embed="rId2"/>
          <a:stretch/>
        </p:blipFill>
        <p:spPr>
          <a:xfrm rot="671400">
            <a:off x="414000" y="396720"/>
            <a:ext cx="2031840" cy="152424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78" name="Picture 3" descr="F:\IMG_2544.JPG"/>
          <p:cNvPicPr/>
          <p:nvPr/>
        </p:nvPicPr>
        <p:blipFill>
          <a:blip r:embed="rId3"/>
          <a:stretch/>
        </p:blipFill>
        <p:spPr>
          <a:xfrm rot="21072000">
            <a:off x="6319440" y="2860560"/>
            <a:ext cx="2032200" cy="1524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79" name="Picture 4" descr="F:\IMG_2600.JPG"/>
          <p:cNvPicPr/>
          <p:nvPr/>
        </p:nvPicPr>
        <p:blipFill>
          <a:blip r:embed="rId4"/>
          <a:stretch/>
        </p:blipFill>
        <p:spPr>
          <a:xfrm>
            <a:off x="3357720" y="2500200"/>
            <a:ext cx="2031840" cy="152424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pic>
        <p:nvPicPr>
          <p:cNvPr id="80" name="Picture 13" descr="C:\Users\Алина\Desktop\DSC06677.JPG"/>
          <p:cNvPicPr/>
          <p:nvPr/>
        </p:nvPicPr>
        <p:blipFill>
          <a:blip r:embed="rId5"/>
          <a:stretch/>
        </p:blipFill>
        <p:spPr>
          <a:xfrm rot="21362400">
            <a:off x="2847600" y="4702320"/>
            <a:ext cx="1768320" cy="183960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  <p:pic>
        <p:nvPicPr>
          <p:cNvPr id="81" name="Picture 5" descr="C:\Users\Алина\Desktop\Светлячок\1 класс\IMG_7081.JPG"/>
          <p:cNvPicPr/>
          <p:nvPr/>
        </p:nvPicPr>
        <p:blipFill>
          <a:blip r:embed="rId6"/>
          <a:stretch/>
        </p:blipFill>
        <p:spPr>
          <a:xfrm>
            <a:off x="6286680" y="500040"/>
            <a:ext cx="1785600" cy="166680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pic>
        <p:nvPicPr>
          <p:cNvPr id="82" name="Picture 15" descr="C:\Users\Алина\Desktop\Светлячок\1 класс\IMG_7078.JPG"/>
          <p:cNvPicPr/>
          <p:nvPr/>
        </p:nvPicPr>
        <p:blipFill>
          <a:blip r:embed="rId7"/>
          <a:stretch/>
        </p:blipFill>
        <p:spPr>
          <a:xfrm rot="21216000">
            <a:off x="792000" y="3251160"/>
            <a:ext cx="2032200" cy="152388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pic>
        <p:nvPicPr>
          <p:cNvPr id="83" name="Picture 17" descr=""/>
          <p:cNvPicPr/>
          <p:nvPr/>
        </p:nvPicPr>
        <p:blipFill>
          <a:blip r:embed="rId8"/>
          <a:stretch/>
        </p:blipFill>
        <p:spPr>
          <a:xfrm rot="403800">
            <a:off x="3081240" y="539640"/>
            <a:ext cx="2032200" cy="1524240"/>
          </a:xfrm>
          <a:prstGeom prst="rect">
            <a:avLst/>
          </a:prstGeom>
          <a:ln w="57240">
            <a:solidFill>
              <a:srgbClr val="db4c25"/>
            </a:solidFill>
            <a:miter/>
          </a:ln>
        </p:spPr>
      </p:pic>
      <p:pic>
        <p:nvPicPr>
          <p:cNvPr id="84" name="Picture 10" descr=""/>
          <p:cNvPicPr/>
          <p:nvPr/>
        </p:nvPicPr>
        <p:blipFill>
          <a:blip r:embed="rId9"/>
          <a:stretch/>
        </p:blipFill>
        <p:spPr>
          <a:xfrm rot="456000">
            <a:off x="5022720" y="4754520"/>
            <a:ext cx="1785960" cy="152388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09:16:34Z</dcterms:created>
  <dc:creator>Алина</dc:creator>
  <dc:description/>
  <dc:language>en-US</dc:language>
  <cp:lastModifiedBy>User</cp:lastModifiedBy>
  <dcterms:modified xsi:type="dcterms:W3CDTF">2015-03-18T05:59:33Z</dcterms:modified>
  <cp:revision>77</cp:revision>
  <dc:subject/>
  <dc:title>Слайд 1</dc:title>
</cp:coreProperties>
</file>