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FEC-51FD-4C07-B478-918AEF5F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737-6445-437C-8ABA-319E91A7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E38-17B1-4EB7-AD03-7F5B23C0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EB5-F1A5-4A4A-BFA8-B2E8FD84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09D0-4467-4178-B64D-BCF263C1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1BB1-BFEA-471F-B092-84D81CAA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FF2A-9A96-445A-B4EE-BECCF2C0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1FA1-2499-4D42-A540-FE6135E8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E82A-CCA1-4B69-B95F-51178AEC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1DAE-AE78-425E-B196-C8F9E862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3D96-742E-4DAB-90D6-4ADA9E36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2DEB-0F8E-486F-BAD4-0727F73E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DE9B-E18A-4B5D-830E-DA7FAA49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2C49-1418-44D3-8E1C-2B906C9C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8432-02C9-4E89-97BD-3782D17B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1A0C-062C-43E9-9EBC-0B826308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D4AA-0E68-4FCE-BD26-CAB5DFA9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91D-A7A1-4A62-821A-8101CFEE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99F-0B5A-4F24-A447-70AA6270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5A8-BD4B-4575-83B4-94451593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172-52A4-4FA0-A64F-E6260A88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E36D-6DDE-4338-8C62-FAB1F7C2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6A9-E8E2-4F40-B0D6-977B944D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929-E6E8-46C8-9823-19523515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A071-9DAD-4B00-B5C4-98C536EDA2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DA6B-7890-4B4A-B000-ACEF21F8B5F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628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4824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Пожарное дело - для крепких парн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Пожарное дело - спасение люд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Пожарное дело - отвага и чес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Пожарное дело - так было, так е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076720" y="2924280"/>
            <a:ext cx="3810240" cy="3384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6012000" y="404640"/>
            <a:ext cx="1552320" cy="1773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3284640"/>
            <a:ext cx="82296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е пожарные команды появились в Москве и Петербурге в 1804 году. В них входили  отставные солдаты, не способные воевать на фронт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7201080" cy="2949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rcRect l="4603" t="51212" r="5851" b="41352"/>
          <a:stretch/>
        </p:blipFill>
        <p:spPr>
          <a:xfrm>
            <a:off x="468360" y="0"/>
            <a:ext cx="9144000" cy="1406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181080" y="188640"/>
            <a:ext cx="316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В </a:t>
            </a: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настоящее время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2"/>
          <a:srcRect l="0" t="58709" r="0" b="7663"/>
          <a:stretch/>
        </p:blipFill>
        <p:spPr>
          <a:xfrm>
            <a:off x="395280" y="1557360"/>
            <a:ext cx="8497800" cy="5267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4292280"/>
            <a:ext cx="8686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 каждым годом увеличивается количество пожаров. Большинство пожаров происходит из-за элементарного несоблюдения правил пожарной безопас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332000" y="0"/>
            <a:ext cx="6629400" cy="4289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4"/>
          <p:cNvSpPr/>
          <p:nvPr/>
        </p:nvSpPr>
        <p:spPr>
          <a:xfrm>
            <a:off x="468360" y="83664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бочий день пожарного – смена, начинается в 8.00 часов утра и заканчивается только на следующее утро, опять же в 8.00. 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тро пожарной части начинается с «развода», «развод» - это небольшое утреннее совещание пожарных. Они рассказывают о произошедшем за смену, ещё должны передать следующей смене и оборудование – пожарные автоцистерны, дыхательные аппараты, которые тоже проверяются каждое утро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язательная часть ежедневного распорядка дня пожарных – занятия по  пожаротушению. В 9.00 весь боевой состав, собирается в учебном классе. Чем больше знает пожарный – тем быстрее он сможет справиться с огнё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900000" y="692280"/>
            <a:ext cx="7559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жарные постоянно проводят специальные учения, занимаются в спортивных залах, чтобы во время не учебного, а настоящего пожара суметь проявить ловкость, силу, сноровку. Они отрабатывают возможные во время пожара ситуации. Например, закинуть спасательную верёвку на подоконник и забраться по ней в течение шести секунд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50920" y="1125360"/>
            <a:ext cx="86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жарные занимаются не только тушением пожаров, но ещё и их предупреждением. Без разрешения пожарных, без их тщательного осмотра не строится ни один дом. Пожарные участвуют в осмотре магазинов, школ, детских садов, заводов, кафе и ресторанов перед их открытием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2" descr="http://fire45.ru/d/304021/d/bop-1-tip-a-1.jpg"/>
          <p:cNvPicPr/>
          <p:nvPr/>
        </p:nvPicPr>
        <p:blipFill>
          <a:blip r:embed="rId1"/>
          <a:stretch/>
        </p:blipFill>
        <p:spPr>
          <a:xfrm>
            <a:off x="2411280" y="263700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042920" y="549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 пожарных есть специальная одежда, которая защищает их во время пожара. Она сделана из специальной ткани, которая почти не горит. На голове у них стальная каска, на ногах — прочные и удобные сапоги. Ведь пожарный бесстрашно идет в огонь!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2" descr="http://severinfo.ru/uploads/posts/2013-08/1376847242_bop1.jpg"/>
          <p:cNvPicPr/>
          <p:nvPr/>
        </p:nvPicPr>
        <p:blipFill>
          <a:blip r:embed="rId1"/>
          <a:stretch/>
        </p:blipFill>
        <p:spPr>
          <a:xfrm>
            <a:off x="1116000" y="1916280"/>
            <a:ext cx="6480360" cy="4062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бота пожарных очень нужна. Много школьников и взрослых вступают в добровольные дружины, чтобы предотвратить пожары, оказывать помощь в тушении пожара. А нам с вами следует выполнять правила пожарной безопасности и никогда не шалить с огн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2797200" cy="299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3:56:17Z</dcterms:created>
  <dc:creator>1</dc:creator>
  <dc:description/>
  <dc:language>en-US</dc:language>
  <cp:lastModifiedBy>User</cp:lastModifiedBy>
  <dcterms:modified xsi:type="dcterms:W3CDTF">2015-03-18T15:06:48Z</dcterms:modified>
  <cp:revision>19</cp:revision>
  <dc:subject/>
  <dc:title>Пожарник: вчера, сегодня, завтра!</dc:title>
</cp:coreProperties>
</file>