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DCE-C98C-4A4C-A105-9D47D07C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9AC-7F04-42E1-8EDC-6C38B42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D10-C8DD-4E39-8E38-E623CB86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EB0-AB1B-4E8F-B8C6-156B14BC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F4CF-AE3A-49D6-884C-B252D59F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4E86-7358-4215-A1FC-B8662E9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45B-0830-40D5-B5A6-C368920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368-CF2C-4DE7-8F52-1DCE372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F49-C2D3-45A7-A8C1-5DAB518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6C81-D5ED-4EA1-AFCC-33FDE93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9BCF-4AB8-4754-BAF4-92F2EC6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EA5-EB08-49A2-931B-62D7F3A7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CDDC-D598-41E2-946F-C56D48A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161A-3F01-4573-8EAB-910A27C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C30-6491-4A45-A169-9FACD3E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9E2-5729-4CE6-8DB0-58FE5643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7054-2E10-4AC3-AC4A-91F2E016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4EA-52A7-4A5E-A48D-D0D35A9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182-6F6D-4839-8BFC-905BFA27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E71-6CA3-4DD4-A8D6-BE12BA3F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694-D28E-49A3-81BA-DF61B34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7DE-1B0C-4078-BFD5-ACE73A43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D0A-BE03-48FA-BA30-F6DFDD0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59B-4EE9-467C-8BFB-067892D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60F1-2C56-47A7-AD96-724D58E83F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3F7-5479-443B-9B05-39E6843CD1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азвитие художественных способностей у детей старшего дошкольного возрас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ь МАДОУ ДС №37 «Дружная семей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вчикова Татья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В процессе аппликации дети учатся вырезать детали, составлять из них целое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8" descr="SAM_0246"/>
          <p:cNvPicPr/>
          <p:nvPr/>
        </p:nvPicPr>
        <p:blipFill>
          <a:blip r:embed="rId1"/>
          <a:stretch/>
        </p:blipFill>
        <p:spPr>
          <a:xfrm>
            <a:off x="4211640" y="148428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SAM_0870"/>
          <p:cNvPicPr/>
          <p:nvPr/>
        </p:nvPicPr>
        <p:blipFill>
          <a:blip r:embed="rId2"/>
          <a:stretch/>
        </p:blipFill>
        <p:spPr>
          <a:xfrm>
            <a:off x="214200" y="3643200"/>
            <a:ext cx="4038840" cy="2271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Используется пластилин для создания  картинки. Одно из сложных методов изображения так как у детей слабо развита мелкая моторика. В процессе такой работы дети приобретают умения и создают изображения  используя разнообразия цвета. Работы становятся более интересными и аккуратным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7" descr="SAM_0296"/>
          <p:cNvPicPr/>
          <p:nvPr/>
        </p:nvPicPr>
        <p:blipFill>
          <a:blip r:embed="rId1"/>
          <a:stretch/>
        </p:blipFill>
        <p:spPr>
          <a:xfrm>
            <a:off x="428760" y="207180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SAM_0297"/>
          <p:cNvPicPr/>
          <p:nvPr/>
        </p:nvPicPr>
        <p:blipFill>
          <a:blip r:embed="rId2"/>
          <a:stretch/>
        </p:blipFill>
        <p:spPr>
          <a:xfrm>
            <a:off x="857160" y="428616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AM_0423"/>
          <p:cNvPicPr/>
          <p:nvPr/>
        </p:nvPicPr>
        <p:blipFill>
          <a:blip r:embed="rId3"/>
          <a:stretch/>
        </p:blipFill>
        <p:spPr>
          <a:xfrm>
            <a:off x="4649760" y="2428920"/>
            <a:ext cx="4318200" cy="2428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Ум ребенка- на кончиках его пальцев. 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                               В.И.Сухомлинский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14" descr="j0088542"/>
          <p:cNvPicPr/>
          <p:nvPr/>
        </p:nvPicPr>
        <p:blipFill>
          <a:blip r:embed="rId1"/>
          <a:stretch/>
        </p:blipFill>
        <p:spPr>
          <a:xfrm>
            <a:off x="2268360" y="4292640"/>
            <a:ext cx="456120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MC900433205"/>
          <p:cNvPicPr/>
          <p:nvPr/>
        </p:nvPicPr>
        <p:blipFill>
          <a:blip r:embed="rId2"/>
          <a:stretch/>
        </p:blipFill>
        <p:spPr>
          <a:xfrm>
            <a:off x="1476360" y="1644480"/>
            <a:ext cx="6400800" cy="5213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24000" y="2133720"/>
            <a:ext cx="795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Развивать у детей творческие способности, помочь в приобретении практических умений ножн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акреплять полученные владения кистью, карандашами, знания о цвете, геометрических фигурах, величин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двести детей к самостоятельному выбору изображению предмет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Развивать фантази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у детей знаний о прекрасном. Развивать способности наблюдения, всматриваться в явления и объекты природы, замечать их изме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ть изобразительные навыки и ум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ть художественно-творческие способ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ять дальнейшее разностороннее развитие ребенка. Формировать в процессе обучения нравственным и эстетическим представлениям об окружающем ми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мелкой моторики, подготовка руки к пись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работе практикуе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ование методом тыч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ликация обрывками бумаг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ликация бумажными комочка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ульная апплика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заика из круп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стилин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г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Дополнительная образовательная деятельность по развитию художественных способностей «Семицветик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4" descr="SAM_0868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Обрывная аппликация . 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Дети очень любят заниматься аппликацией : вырезать что-то и наклеивать, обрывная аппликация позволяет детям научится нарывать  кусочки бумаги без использования ножниц в процессе работы происходит развитие мелкой моторики пальцев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8" descr="SAM_0204"/>
          <p:cNvPicPr/>
          <p:nvPr/>
        </p:nvPicPr>
        <p:blipFill>
          <a:blip r:embed="rId1"/>
          <a:stretch/>
        </p:blipFill>
        <p:spPr>
          <a:xfrm>
            <a:off x="2714760" y="3732120"/>
            <a:ext cx="4879800" cy="2746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катывая комочки, получается пушистый котенок. Еще один из методов для развития мелкой моторики руки. Создание из комочков образ. В процессе дети учатся скатывать комочки одинакового размера, учатся аккуратно наклеивать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6" descr="SAM_0214"/>
          <p:cNvPicPr/>
          <p:nvPr/>
        </p:nvPicPr>
        <p:blipFill>
          <a:blip r:embed="rId1"/>
          <a:stretch/>
        </p:blipFill>
        <p:spPr>
          <a:xfrm>
            <a:off x="2786040" y="2817720"/>
            <a:ext cx="5830920" cy="3279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ecff"/>
                </a:solidFill>
                <a:latin typeface="Arial"/>
              </a:rPr>
              <a:t>Рисование акварелью, гуашью, увлекательное занятие. Дети с огромным желанием изображают окружающий мир. Учатся создавать образ занимая весь лист бумаги, создавать композицию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9" descr="SAM_0225"/>
          <p:cNvPicPr/>
          <p:nvPr/>
        </p:nvPicPr>
        <p:blipFill>
          <a:blip r:embed="rId1"/>
          <a:stretch/>
        </p:blipFill>
        <p:spPr>
          <a:xfrm>
            <a:off x="285840" y="400068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SAM_0239"/>
          <p:cNvPicPr/>
          <p:nvPr/>
        </p:nvPicPr>
        <p:blipFill>
          <a:blip r:embed="rId2"/>
          <a:stretch/>
        </p:blipFill>
        <p:spPr>
          <a:xfrm>
            <a:off x="3143160" y="1428840"/>
            <a:ext cx="5308560" cy="2985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32:23Z</dcterms:created>
  <dc:creator>1</dc:creator>
  <dc:description/>
  <dc:language>en-US</dc:language>
  <cp:lastModifiedBy>Admin</cp:lastModifiedBy>
  <dcterms:modified xsi:type="dcterms:W3CDTF">2015-03-18T06:11:54Z</dcterms:modified>
  <cp:revision>10</cp:revision>
  <dc:subject/>
  <dc:title>Слайд 1</dc:title>
</cp:coreProperties>
</file>