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wmf" ContentType="image/x-wmf"/>
  <Override PartName="/ppt/media/image4.wmf" ContentType="image/x-wmf"/>
  <Override PartName="/ppt/media/image5.jpeg" ContentType="image/jpeg"/>
  <Override PartName="/ppt/media/image6.gif" ContentType="image/gif"/>
  <Override PartName="/ppt/media/image9.wmf" ContentType="image/x-wmf"/>
  <Override PartName="/ppt/media/image10.jpeg" ContentType="image/jpeg"/>
  <Override PartName="/ppt/media/image11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F164-B1DF-40FA-95DC-ED70D589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27B-2481-42DD-8F59-CEE70F08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9496-A207-4553-BBB8-1AB4055E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BF55-2A17-4EAB-931E-AB4E2B17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399E-F5C8-4E79-BE2C-37345FCF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686B-97AC-4C3D-9A2E-A85B2054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8F46-21AE-464E-A5FC-424DF75D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4C96-9ADA-451B-8D25-7729EFD8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0E71-92A6-4C92-87DC-953B58C6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E57E-9252-4A3B-9352-4AAD1616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79C8-1F0E-43B5-8D64-56C15600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966C-A00A-415C-BCE9-7AD6357D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281A-D5EC-4E97-B01C-35FD7089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9AA1-268A-40E5-B805-E14AE325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70EC-E5CE-4747-86E1-2FC0CE16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38EF-F7B0-4DD1-832E-CB032AED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DD15-B9B4-4680-883A-AD0DC396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007D-F844-4D59-B0C0-B95228CC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F31A-7A1A-41DD-9864-467FA93A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191-05F8-4BA9-B7E8-D424C8DD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AFB0-B81B-4ECA-AA3D-67E2EE10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72A-E8B9-458C-9EB7-ABB0280E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02AC-B3DC-458D-9072-B579DD30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3676-71F2-4F87-9E34-29E1778A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10C0-F7FF-4C27-BD4F-E501DA6E815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8107-591F-43D1-951F-6C4ABB89523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116000" y="1413000"/>
            <a:ext cx="698508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d84081"/>
                    </a:gs>
                  </a:gsLst>
                  <a:lin ang="5400000"/>
                </a:gradFill>
                <a:latin typeface="Times New Roman"/>
              </a:rPr>
              <a:t>Способы реш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d84081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d84081"/>
                    </a:gs>
                  </a:gsLst>
                  <a:lin ang="5400000"/>
                </a:gradFill>
                <a:latin typeface="Times New Roman"/>
              </a:rPr>
              <a:t>логических зада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d84081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77080" y="4121280"/>
            <a:ext cx="15285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16000" y="260280"/>
            <a:ext cx="705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Задачи 4- ти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Даны несколько логических высказываний, являющихся истин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5640" y="1413000"/>
            <a:ext cx="71294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На вопрос, кто из десятиклассников, присутствующих на олимпиаде по физике решит самую трудную задачу, учитель ответил: 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«Если задачу может решить Виктор, то ее может решить и Степан, но неверно, что если задачу может решить Антон, то может решить ее и Степан»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и оказался прав, когда результаты стали известны. Кто из трех десятиклассников решил самую трудную задач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00000" y="3933720"/>
            <a:ext cx="3743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Обозна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А = «Задачу решил Анто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В = «Задачу решил Викт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С = «Задачу решил Степа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32360" y="4149720"/>
            <a:ext cx="3600360" cy="36828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В -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&gt; C) /\ (¬(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А -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&gt; C))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55640" y="333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Составим таблицу истинности логического 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935000" y="1222200"/>
          <a:ext cx="5877000" cy="3224520"/>
        </p:xfrm>
        <a:graphic>
          <a:graphicData uri="http://schemas.openxmlformats.org/drawingml/2006/table">
            <a:tbl>
              <a:tblPr/>
              <a:tblGrid>
                <a:gridCol w="360360"/>
                <a:gridCol w="479520"/>
                <a:gridCol w="352440"/>
                <a:gridCol w="968400"/>
                <a:gridCol w="966960"/>
                <a:gridCol w="877680"/>
                <a:gridCol w="1871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В -</a:t>
                      </a: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&gt;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А-</a:t>
                      </a: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&gt;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¬(А-</a:t>
                      </a: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&gt; C</a:t>
                      </a:r>
                      <a:r>
                        <a:rPr b="1" lang="ru-RU" sz="1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-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&gt; C) /\ (¬(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 -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&gt; C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c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2484360" y="5013360"/>
            <a:ext cx="3888000" cy="36828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Ответ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задачу решил Ан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826920" y="1145160"/>
            <a:ext cx="7161480" cy="3690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Задача №1</a:t>
            </a:r>
            <a:r>
              <a:rPr b="1" lang="en-US" sz="1800" spc="-1" strike="noStrike">
                <a:solidFill>
                  <a:srgbClr val="9900cc"/>
                </a:solidFill>
                <a:latin typeface="Comic Sans MS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В одном королевстве король всякому узнику, приговоренному к смерти, давал последний шанс спастись. Ему предлагалось угадать, в какой из двух комнат находится тигр, а в какой  - принцесса.  Хотя вполне могло быть, что король в обеих комнатах разместил принцесс или, что хуже, в обеих - тигров. Выбор надо сделать на основании табличек на дверях комнат. Причем узнику известно, что утверждения на табличках одновременно либо истины, либо ложны. Надписи были таковы. Первая комната: «По крайней мере, в одной из этих комнат находится принцесса». Вторая комната: «В другой комнате – тигр». Какую дверь должен выбрать узни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837480" y="4724280"/>
            <a:ext cx="1396800" cy="1657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908000" y="4869000"/>
            <a:ext cx="1005120" cy="1296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995640" y="5516640"/>
            <a:ext cx="1008000" cy="963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5219640" y="4653000"/>
            <a:ext cx="1297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Решение логических задач методом преобразования логических выра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136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336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5360"/>
                            </p:stCondLst>
                            <p:childTnLst>
                              <p:par>
                                <p:cTn id="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50920" y="105264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=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В первой комнате принцесса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1844640"/>
            <a:ext cx="7561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ru-RU" sz="32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=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Во второй комнате принц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280" y="2781360"/>
            <a:ext cx="770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US" sz="32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 = </a:t>
            </a:r>
            <a:r>
              <a:rPr b="1" lang="ru-RU" sz="3200" spc="-1" strike="noStrike">
                <a:solidFill>
                  <a:srgbClr val="9900cc"/>
                </a:solidFill>
                <a:latin typeface="Comic Sans MS"/>
              </a:rPr>
              <a:t>В первой комнате тиг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0920" y="3500280"/>
            <a:ext cx="756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ru-RU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 = </a:t>
            </a:r>
            <a:r>
              <a:rPr b="1" lang="ru-RU" sz="3200" spc="-1" strike="noStrike">
                <a:solidFill>
                  <a:srgbClr val="9900cc"/>
                </a:solidFill>
                <a:latin typeface="Comic Sans MS"/>
              </a:rPr>
              <a:t>Во второй комнате тиг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2852640"/>
            <a:ext cx="2156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3573360"/>
            <a:ext cx="2872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596360" y="1341360"/>
            <a:ext cx="780840" cy="10080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877080" y="3068640"/>
            <a:ext cx="100800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456000" cy="47530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643280" y="476280"/>
            <a:ext cx="3456000" cy="47530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187280" y="907920"/>
            <a:ext cx="2376720" cy="510120"/>
          </a:xfrm>
          <a:prstGeom prst="rect">
            <a:avLst/>
          </a:prstGeom>
          <a:solidFill>
            <a:srgbClr val="6aeef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А = Р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\/ Р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19640" y="836640"/>
            <a:ext cx="2376720" cy="510120"/>
          </a:xfrm>
          <a:prstGeom prst="rect">
            <a:avLst/>
          </a:prstGeom>
          <a:solidFill>
            <a:srgbClr val="6aeef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В = Р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907920"/>
            <a:ext cx="2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132000" y="5445000"/>
            <a:ext cx="3961080" cy="520560"/>
          </a:xfrm>
          <a:prstGeom prst="rect">
            <a:avLst/>
          </a:prstGeom>
          <a:solidFill>
            <a:srgbClr val="00ffff"/>
          </a:solidFill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А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&amp; B \/ A &amp; B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5516640"/>
            <a:ext cx="21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551664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843280" y="260280"/>
            <a:ext cx="3960720" cy="520560"/>
          </a:xfrm>
          <a:prstGeom prst="rect">
            <a:avLst/>
          </a:prstGeom>
          <a:solidFill>
            <a:srgbClr val="00ffff"/>
          </a:solidFill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А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&amp; B \/ A &amp; B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9280" y="333360"/>
            <a:ext cx="144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651640" y="333360"/>
            <a:ext cx="144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76360" y="1413000"/>
            <a:ext cx="640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(P</a:t>
            </a:r>
            <a:r>
              <a:rPr b="1" lang="en-US" sz="2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\/ P</a:t>
            </a:r>
            <a:r>
              <a:rPr b="1" lang="en-US" sz="2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) &amp; P</a:t>
            </a:r>
            <a:r>
              <a:rPr b="1" lang="en-US" sz="2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\/ (P</a:t>
            </a:r>
            <a:r>
              <a:rPr b="1" lang="en-US" sz="2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\/ P</a:t>
            </a:r>
            <a:r>
              <a:rPr b="1" lang="en-US" sz="2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&amp; P</a:t>
            </a:r>
            <a:r>
              <a:rPr b="0" lang="en-US" sz="2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59280" y="1413000"/>
            <a:ext cx="28728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547640" y="1197000"/>
            <a:ext cx="4392360" cy="792000"/>
            <a:chOff x="1547640" y="1197000"/>
            <a:chExt cx="4392360" cy="792000"/>
          </a:xfrm>
        </p:grpSpPr>
        <p:sp>
          <p:nvSpPr>
            <p:cNvPr id="287" name=""/>
            <p:cNvSpPr/>
            <p:nvPr/>
          </p:nvSpPr>
          <p:spPr>
            <a:xfrm>
              <a:off x="1547640" y="1197000"/>
              <a:ext cx="4392360" cy="7920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40000" y="1413000"/>
              <a:ext cx="863640" cy="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64000" y="1413000"/>
              <a:ext cx="215640" cy="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64000" y="1268280"/>
              <a:ext cx="215640" cy="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24000" y="0"/>
            <a:ext cx="2376360" cy="510120"/>
          </a:xfrm>
          <a:prstGeom prst="rect">
            <a:avLst/>
          </a:prstGeom>
          <a:solidFill>
            <a:srgbClr val="6aeef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А = Р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\/ Р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71640" y="765000"/>
            <a:ext cx="21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03280" y="1197000"/>
            <a:ext cx="4392720" cy="792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95640" y="1413000"/>
            <a:ext cx="86364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4000" y="549360"/>
            <a:ext cx="2376360" cy="510120"/>
          </a:xfrm>
          <a:prstGeom prst="rect">
            <a:avLst/>
          </a:prstGeom>
          <a:solidFill>
            <a:srgbClr val="6aeef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В = Р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92360" y="620640"/>
            <a:ext cx="21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84720" y="1341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32000" y="2421000"/>
            <a:ext cx="5904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P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&amp; P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\/ P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&amp; P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) \/ (P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&amp; P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) &amp; P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1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= 0 \/ P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&amp; P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\/ (P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&amp; P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&amp; P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) = P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&amp; P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ru-RU" sz="24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Comic Sans MS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124000" y="2492280"/>
            <a:ext cx="14436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90920" y="2492280"/>
            <a:ext cx="14436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0" y="2492280"/>
            <a:ext cx="28872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16360" y="2997360"/>
            <a:ext cx="21564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96000" y="2421000"/>
            <a:ext cx="28872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498920" y="2492280"/>
            <a:ext cx="14436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75280" y="2492280"/>
            <a:ext cx="14436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51280" y="2924280"/>
            <a:ext cx="14436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27640" y="2924280"/>
            <a:ext cx="14436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72360" y="2924280"/>
            <a:ext cx="14436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96000" y="357336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96000" y="342900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258920" y="3933720"/>
            <a:ext cx="1266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твет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80000" y="4076640"/>
            <a:ext cx="1224000" cy="2089080"/>
          </a:xfrm>
          <a:prstGeom prst="downArrow">
            <a:avLst>
              <a:gd name="adj1" fmla="val 50000"/>
              <a:gd name="adj2" fmla="val 42669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0"/>
            <a:ext cx="2376360" cy="510120"/>
          </a:xfrm>
          <a:prstGeom prst="rect">
            <a:avLst/>
          </a:prstGeom>
          <a:solidFill>
            <a:srgbClr val="6aeef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А = Р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\/ Р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549360"/>
            <a:ext cx="2376360" cy="510120"/>
          </a:xfrm>
          <a:prstGeom prst="rect">
            <a:avLst/>
          </a:prstGeom>
          <a:solidFill>
            <a:srgbClr val="6aeef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В = Р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92360" y="620640"/>
            <a:ext cx="21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0920" y="0"/>
            <a:ext cx="2376360" cy="510120"/>
          </a:xfrm>
          <a:prstGeom prst="rect">
            <a:avLst/>
          </a:prstGeom>
          <a:solidFill>
            <a:srgbClr val="6aeef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А = Р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\/ Р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1844640"/>
            <a:ext cx="71280" cy="576360"/>
          </a:xfrm>
          <a:prstGeom prst="downArrow">
            <a:avLst>
              <a:gd name="adj1" fmla="val 50000"/>
              <a:gd name="adj2" fmla="val 20214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16360" y="1844640"/>
            <a:ext cx="71640" cy="576360"/>
          </a:xfrm>
          <a:prstGeom prst="downArrow">
            <a:avLst>
              <a:gd name="adj1" fmla="val 50000"/>
              <a:gd name="adj2" fmla="val 20113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0920" y="2060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onotype Corsiva"/>
              </a:rPr>
              <a:t>Дистрибутив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32360" y="20509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onotype Corsiva"/>
              </a:rPr>
              <a:t>Закон де Морг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539640" y="18900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=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В первой комнате принцесса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9640" y="981000"/>
            <a:ext cx="7561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ru-RU" sz="32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=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Во второй комнате принц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8360" y="1917720"/>
            <a:ext cx="770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US" sz="32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 = </a:t>
            </a:r>
            <a:r>
              <a:rPr b="1" lang="ru-RU" sz="3200" spc="-1" strike="noStrike">
                <a:solidFill>
                  <a:srgbClr val="9900cc"/>
                </a:solidFill>
                <a:latin typeface="Comic Sans MS"/>
              </a:rPr>
              <a:t>В первой комнате тиг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9640" y="2637000"/>
            <a:ext cx="756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ru-RU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 = </a:t>
            </a:r>
            <a:r>
              <a:rPr b="1" lang="ru-RU" sz="3200" spc="-1" strike="noStrike">
                <a:solidFill>
                  <a:srgbClr val="9900cc"/>
                </a:solidFill>
                <a:latin typeface="Comic Sans MS"/>
              </a:rPr>
              <a:t>Во второй комнате тиг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9640" y="1989000"/>
            <a:ext cx="216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2720" y="2709720"/>
            <a:ext cx="2872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48000" y="4005360"/>
            <a:ext cx="266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&amp; P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00720" y="393372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322" idx="1"/>
            <a:endCxn id="327" idx="1"/>
          </p:cNvCxnSpPr>
          <p:nvPr/>
        </p:nvCxnSpPr>
        <p:spPr>
          <a:xfrm flipH="1" flipV="1" rot="10800000">
            <a:off x="538560" y="1271160"/>
            <a:ext cx="2809080" cy="3054960"/>
          </a:xfrm>
          <a:prstGeom prst="bentConnector3">
            <a:avLst>
              <a:gd name="adj1" fmla="val -8126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23" idx="3"/>
          </p:cNvCxnSpPr>
          <p:nvPr/>
        </p:nvCxnSpPr>
        <p:spPr>
          <a:xfrm flipH="1">
            <a:off x="6011640" y="2207880"/>
            <a:ext cx="2162880" cy="2158200"/>
          </a:xfrm>
          <a:prstGeom prst="bentConnector3">
            <a:avLst>
              <a:gd name="adj1" fmla="val -10571"/>
            </a:avLst>
          </a:prstGeom>
          <a:ln w="38160">
            <a:solidFill>
              <a:srgbClr val="9900cc"/>
            </a:solidFill>
            <a:miter/>
            <a:tailEnd len="med" type="triangle" w="med"/>
          </a:ln>
        </p:spPr>
      </p:cxn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619280" y="4508640"/>
            <a:ext cx="1465200" cy="2016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5867280" y="4581360"/>
            <a:ext cx="1465560" cy="20163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227640" y="5373720"/>
            <a:ext cx="669960" cy="8650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1835280" y="5661000"/>
            <a:ext cx="647640" cy="6192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348000" y="4005360"/>
            <a:ext cx="266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&amp; P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348000" y="4005360"/>
            <a:ext cx="266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&amp; P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348000" y="4005360"/>
            <a:ext cx="266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&amp; P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7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4000"/>
                            </p:stCondLst>
                            <p:childTnLst>
                              <p:par>
                                <p:cTn id="7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6000"/>
                            </p:stCondLst>
                            <p:childTnLst>
                              <p:par>
                                <p:cTn id="7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8000"/>
                            </p:stCondLst>
                            <p:childTnLst>
                              <p:par>
                                <p:cTn id="7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3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95280" y="476280"/>
            <a:ext cx="813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Задача №4 </a:t>
            </a:r>
            <a:r>
              <a:rPr b="1" i="1" lang="en-US" sz="1800" spc="-1" strike="noStrike">
                <a:solidFill>
                  <a:srgbClr val="6600cc"/>
                </a:solidFill>
                <a:latin typeface="Arial"/>
              </a:rPr>
              <a:t>(на однозначное соответств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В бюро переводов приняли на работу троих сотрудников: Диму, Сашу и Юру. Каждый из них знает ровно два иностранных языка из следующего  набора: немецкий, японский, шведский, японский, китайский, французский и греческий. Известно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(1) Ни Дима, ни Юра не знают япо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(2) Переводчик со шведского старше переводчика с немец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(3) Переводчик с китайского, переводчик с французского и Саша родом из одного 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(4) Переводчик с греческого, переводчик с немецкого и Юра учились втроем в одном    </a:t>
            </a:r>
            <a:br>
              <a:rPr sz="1800"/>
            </a:b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         институ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(5) Дима – самый молодой из всех троих, и он не знает гре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(6)  Юра знает два европейских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В ответе запишите первую букву имени переводчика со шведского  языка и, через запятую, первую букву имени переводчика с китайского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336600" y="2363760"/>
          <a:ext cx="8470800" cy="2070000"/>
        </p:xfrm>
        <a:graphic>
          <a:graphicData uri="http://schemas.openxmlformats.org/drawingml/2006/table">
            <a:tbl>
              <a:tblPr/>
              <a:tblGrid>
                <a:gridCol w="982440"/>
                <a:gridCol w="1257480"/>
                <a:gridCol w="1206360"/>
                <a:gridCol w="1162080"/>
                <a:gridCol w="1174680"/>
                <a:gridCol w="1487520"/>
                <a:gridCol w="120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м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вед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Япо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итай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ранцуз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ре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Ди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Ю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а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688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1763640" y="4797360"/>
            <a:ext cx="648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Дима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-  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Немецкий и китай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Юра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шведский и француз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Саша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японский и гре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6920" y="549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Рассуждение с использованием таб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6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4000"/>
                            </p:stCondLst>
                            <p:childTnLst>
                              <p:par>
                                <p:cTn id="8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692360" y="907920"/>
            <a:ext cx="611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При решении подобных задач нужно выбрать наиболее рациональный мет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263760" y="2824200"/>
            <a:ext cx="285912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19280" y="620640"/>
            <a:ext cx="61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Известно несколько различных способов решения логических зада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1916280"/>
            <a:ext cx="5832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d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Метод рассу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d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Табли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d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С помощью граф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d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Упрощение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d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Составление таблиц исти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d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Метод кругов Эй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236000" y="5157720"/>
            <a:ext cx="153504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03280" y="3333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Рассмотрим четыре типа логическ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1989000"/>
            <a:ext cx="655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Задачи 1-го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В условии приводится несколько двойных или одинарных утверждений и дается оценка их истинности, т.е. сообщается, сколько участников говорят только правду, сколько лгут и сколько говорят то правду, то ложь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0920" y="189000"/>
            <a:ext cx="82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Задача №1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Классный руководитель пожаловался директору, что  у него в классе появилась компания из 3-х учеников, 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один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из которых 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всегда</a:t>
            </a: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говорит 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правду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другой всегда лжет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, а</a:t>
            </a: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третий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говорит через раз </a:t>
            </a: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то ложь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то правду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. Директор знает, что их зовут Коля, Саша и Миша, но не знает, кто из них прав, а кто – нет. Однажды все трое прогуляли урок астрономии. Директор знает, что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никогда раньше никто из них не прогуливал астрономию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. Он вызвал всех троих в кабинет и поговорил с мальчиками. Коля сказал: 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«Я всегда прогуливаю астрономию. Не верьте тому, что скажет Саша».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Саша сказал: 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«Это был мой первый прогул этого предмета».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Миша сказал: 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«Все, что говорит Коля, - прав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00000" y="3645000"/>
          <a:ext cx="7961400" cy="1919160"/>
        </p:xfrm>
        <a:graphic>
          <a:graphicData uri="http://schemas.openxmlformats.org/drawingml/2006/table">
            <a:tbl>
              <a:tblPr/>
              <a:tblGrid>
                <a:gridCol w="1057320"/>
                <a:gridCol w="695520"/>
                <a:gridCol w="62085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а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СТИННО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т.к. астрономию никто не прогулив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   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е утверждение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ОЖ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т.к. астрономию никто не прогуливал, второе утверждение тоже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ОЖ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т.к. Саша говорил прав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и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, что Коля говорил правду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ОЖ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3708360" y="5805360"/>
            <a:ext cx="4896000" cy="9169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Ответ: Коля 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лжет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всегда, Саша говорит 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правду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, а Миша может сказать 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правду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а может и 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солгать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0920" y="260280"/>
            <a:ext cx="75610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Comic Sans MS"/>
              </a:rPr>
              <a:t>Задача №2.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Три друга играли во дворе в футбол и разбили мячом окно. </a:t>
            </a:r>
            <a:r>
              <a:rPr b="1" lang="en-US" sz="2000" spc="-1" strike="noStrike">
                <a:solidFill>
                  <a:srgbClr val="6600cc"/>
                </a:solidFill>
                <a:latin typeface="Comic Sans MS"/>
              </a:rPr>
              <a:t>Ваня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сказал: «Это 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я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разбил окно,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Коля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окно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не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разбивал». </a:t>
            </a:r>
            <a:r>
              <a:rPr b="1" lang="en-US" sz="2000" spc="-1" strike="noStrike">
                <a:solidFill>
                  <a:srgbClr val="6600cc"/>
                </a:solidFill>
                <a:latin typeface="Comic Sans MS"/>
              </a:rPr>
              <a:t>Коля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сказал «Это сделал 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не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я и 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не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Саша». </a:t>
            </a:r>
            <a:r>
              <a:rPr b="1" lang="en-US" sz="2000" spc="-1" strike="noStrike">
                <a:solidFill>
                  <a:srgbClr val="6600cc"/>
                </a:solidFill>
                <a:latin typeface="Comic Sans MS"/>
              </a:rPr>
              <a:t>Саша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сказал: «Это сделал 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не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я и 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не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Ваня». А Бабушка сидела на лавочке и все видела. Она сказала, что 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только один мальчик оба раза сказал правду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, но не назвала того, кто разбил окно. Кто же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403280" y="3141720"/>
          <a:ext cx="6078600" cy="2157480"/>
        </p:xfrm>
        <a:graphic>
          <a:graphicData uri="http://schemas.openxmlformats.org/drawingml/2006/table">
            <a:tbl>
              <a:tblPr/>
              <a:tblGrid>
                <a:gridCol w="674640"/>
                <a:gridCol w="674640"/>
                <a:gridCol w="674640"/>
                <a:gridCol w="674640"/>
                <a:gridCol w="674640"/>
                <a:gridCol w="676440"/>
                <a:gridCol w="676440"/>
                <a:gridCol w="676080"/>
                <a:gridCol w="67644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лова </a:t>
                      </a:r>
                      <a:r>
                        <a:rPr b="1" lang="en-US" sz="20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лова </a:t>
                      </a:r>
                      <a:r>
                        <a:rPr b="1" lang="en-US" sz="20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лова </a:t>
                      </a:r>
                      <a:r>
                        <a:rPr b="1" lang="en-US" sz="20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┐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┐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┐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┐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┐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2627280" y="5877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Ответ: разбил </a:t>
            </a: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К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332000" y="333360"/>
            <a:ext cx="655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Задачи 2-го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В условии приводится несколько двойных утверждений, в которых одно утверждение истинно, а другое ложно. Результат – расстановка участников по мес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76360" y="2276640"/>
            <a:ext cx="6265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omic Sans MS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Перед началом турнира болельщики высказали следующие предположения по поводу своих кумир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А.    Макс победит, Билл – вто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Б.    Билл – третий, Ник – перв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В.    Макс – последний, а первый – Дж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Когда соревнования закончились, оказалось, что каждый болельщик был прав только в одном из своих прогнозов. Какое место на турнире заняли Джон, Билл, Ник, Мак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020000" y="5013360"/>
            <a:ext cx="158436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16000" y="189000"/>
            <a:ext cx="67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Перед началом турнира болельщики высказали следующие предположения по поводу своих кумир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А.    Макс победит, Билл – вто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Б.     Билл – третий, Ник – перв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В.     Макс – последний, а первый – Дж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Когда соревнования закончились, оказалось, что каждый болельщик был прав только в одном из своих прогнозов. Какое место на турнире заняли Джон, Билл, Ник, Мак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411280" y="2924280"/>
            <a:ext cx="314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427640" y="2924280"/>
            <a:ext cx="333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77080" y="2997360"/>
            <a:ext cx="333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40000" y="3789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Билл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378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Макс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3789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Билл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03640" y="3789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Ник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3789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Макс 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67640" y="3789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Джон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42920" y="43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43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51280" y="43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19640" y="43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43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43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53737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Противоречие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332000" y="3500280"/>
            <a:ext cx="1008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350028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140000" y="3500280"/>
            <a:ext cx="431640" cy="289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16360" y="3500280"/>
            <a:ext cx="64764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803640" y="3573360"/>
            <a:ext cx="28908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08720" y="3500280"/>
            <a:ext cx="719280" cy="289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56360" y="59500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Два первых ме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76360" y="5589720"/>
            <a:ext cx="44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Ник -1, Билл 2, Джон 3, Макс 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4508640"/>
            <a:ext cx="806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7280" y="486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00000" y="486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51280" y="49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19640" y="49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59640" y="49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01080" y="49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332000" y="3500280"/>
            <a:ext cx="1008000" cy="289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3500280"/>
            <a:ext cx="57636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71640" y="981000"/>
            <a:ext cx="576000" cy="3682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1916280"/>
            <a:ext cx="576000" cy="3682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2708280"/>
            <a:ext cx="576000" cy="3682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640" y="3500280"/>
            <a:ext cx="576000" cy="3682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71840" y="981000"/>
            <a:ext cx="415800" cy="368280"/>
          </a:xfrm>
          <a:prstGeom prst="rect">
            <a:avLst/>
          </a:prstGeom>
          <a:noFill/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2708280"/>
            <a:ext cx="431640" cy="368280"/>
          </a:xfrm>
          <a:prstGeom prst="rect">
            <a:avLst/>
          </a:prstGeom>
          <a:noFill/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56000" y="1844640"/>
            <a:ext cx="431640" cy="368280"/>
          </a:xfrm>
          <a:prstGeom prst="rect">
            <a:avLst/>
          </a:prstGeom>
          <a:noFill/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56000" y="3500280"/>
            <a:ext cx="431640" cy="368280"/>
          </a:xfrm>
          <a:prstGeom prst="rect">
            <a:avLst/>
          </a:prstGeom>
          <a:noFill/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47640" y="1197000"/>
            <a:ext cx="1008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2133720"/>
            <a:ext cx="1008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19280" y="2205000"/>
            <a:ext cx="865080" cy="647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619280" y="1341000"/>
            <a:ext cx="936720" cy="158292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47640" y="1341360"/>
            <a:ext cx="1008360" cy="237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619280" y="1413000"/>
            <a:ext cx="1008000" cy="23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95640" y="333360"/>
            <a:ext cx="280836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1-ый экспер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Предположим, ч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Макс – победит, следовательно 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М4 - лож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Противоречие- в вершину 1 приходит 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Д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Значит 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М1 –</a:t>
            </a: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убрать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а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М4 –</a:t>
            </a:r>
            <a:r>
              <a:rPr b="1" lang="en-US" sz="1600" spc="-1" strike="noStrike">
                <a:solidFill>
                  <a:srgbClr val="6600cc"/>
                </a:solidFill>
                <a:latin typeface="Comic Sans MS"/>
              </a:rPr>
              <a:t>остав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Убираем 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Д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Убираем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Б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890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Решение с применением гра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11280" y="4365720"/>
            <a:ext cx="60483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Вершины граф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имена участников и места, которые они могут занять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Для каждого эксперта используются линии </a:t>
            </a: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разных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ц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В результате решения на графе должна остаться только одна линия определенного цвета , и из каждой вершины должна выходить одна ли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03640" y="1700280"/>
            <a:ext cx="2305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Ник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пер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Билл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вто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Джон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третий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Макс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четвер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58920" y="40464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6000" y="40464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Задачи 3-го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В условии приводятся несколько (обычно три) двойных утверждений, в которых одно утверждение истинно, а другое л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omic Sans MS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Трое свидетелей рассказали о машине, которую они вид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Это была Хонда чер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Это был Форд сине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Это был Мерседес, но не си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Каждый из них был прав только в одном из своих утверждений. Какая это была маши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92360" y="4005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Пер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80000" y="4005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Вто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27640" y="4005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Тре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42920" y="4581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Хо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0920" y="4581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Че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80000" y="4653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Ф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16360" y="465300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Си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0360" y="4579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Мерсед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08720" y="4581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не си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58920" y="5157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68360" y="5157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51280" y="5157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32360" y="5157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72360" y="508464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96360" y="515772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58920" y="59500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5640" y="6021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80000" y="595008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32360" y="59500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372360" y="595008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96360" y="595008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476000" y="4292640"/>
            <a:ext cx="647640" cy="36036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68360" y="4365720"/>
            <a:ext cx="287640" cy="28728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140360" y="4365720"/>
            <a:ext cx="71280" cy="35856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27640" y="4292640"/>
            <a:ext cx="576000" cy="36036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443280" y="4292640"/>
            <a:ext cx="289080" cy="36036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77080" y="4292640"/>
            <a:ext cx="790560" cy="36036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148360" y="5516640"/>
            <a:ext cx="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812000" y="5445000"/>
            <a:ext cx="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27640" y="645336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649116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64000" y="6381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Ответ: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Форд, 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3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6000"/>
                            </p:stCondLst>
                            <p:childTnLst>
                              <p:par>
                                <p:cTn id="4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1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5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3" dur="20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05:33:08Z</dcterms:created>
  <dc:creator>Ирина</dc:creator>
  <dc:description/>
  <dc:language>en-US</dc:language>
  <cp:lastModifiedBy>Iuzer</cp:lastModifiedBy>
  <dcterms:modified xsi:type="dcterms:W3CDTF">2014-02-25T17:06:16Z</dcterms:modified>
  <cp:revision>31</cp:revision>
  <dc:subject/>
  <dc:title>Слайд 1</dc:title>
</cp:coreProperties>
</file>