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8.gif" ContentType="image/gif"/>
  <Override PartName="/ppt/media/image50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419-359B-4650-9A6F-EC3CC368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915-E651-4CD5-B020-A09F64BE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855-208F-43EC-80CD-396D04D8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97B-FB90-4CCB-94ED-BD4E99D1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D9E-C309-45F0-B144-1924BF26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FD1-EBFB-4E38-8AE1-6F072FD0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608-35AC-4FC1-A51B-7736C357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24DC-BFB1-4A6D-8AC0-E7E66D1F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7BD-82B4-4295-A6FE-1ACCB4EC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6F9-564E-492F-BDA9-BD45D326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718-7273-423C-BDAE-59BAD92D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583-B8E4-46BF-81AB-C7624460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3C6C-74DE-4FD6-8671-8FCB79F5A7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3084480" y="1073160"/>
            <a:ext cx="6254640" cy="4290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995640" y="2602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Муниципальное образовательное учреждение  «Центр ПМСС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255920" y="544500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Бунецк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Наталья Викто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учитель – логопе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высшая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SAMSUNG DIGITAL CAMERA"/>
          <p:cNvPicPr/>
          <p:nvPr/>
        </p:nvPicPr>
        <p:blipFill>
          <a:blip r:embed="rId1"/>
          <a:stretch/>
        </p:blipFill>
        <p:spPr>
          <a:xfrm>
            <a:off x="5011560" y="304920"/>
            <a:ext cx="3743640" cy="29797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97" name="Picture 6" descr="SAMSUNG DIGITAL CAMERA"/>
          <p:cNvPicPr/>
          <p:nvPr/>
        </p:nvPicPr>
        <p:blipFill>
          <a:blip r:embed="rId2"/>
          <a:stretch/>
        </p:blipFill>
        <p:spPr>
          <a:xfrm>
            <a:off x="5011560" y="3573360"/>
            <a:ext cx="3767400" cy="29512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98" name="Picture 4" descr="Бразцыграмоты за конкурс рисунков - с папой рисунки"/>
          <p:cNvPicPr/>
          <p:nvPr/>
        </p:nvPicPr>
        <p:blipFill>
          <a:blip r:embed="rId3"/>
          <a:stretch/>
        </p:blipFill>
        <p:spPr>
          <a:xfrm>
            <a:off x="324000" y="304920"/>
            <a:ext cx="4371840" cy="62197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99" name="TextBox 2"/>
          <p:cNvSpPr/>
          <p:nvPr/>
        </p:nvSpPr>
        <p:spPr>
          <a:xfrm>
            <a:off x="1042920" y="2459160"/>
            <a:ext cx="331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Бунецк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аталье Викторов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за активное участ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 спартакиа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детского са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 рам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Недели нескучного здоровь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наташа\Desktop\Учитель года 2015\Презентация5\Слайд1.JPG"/>
          <p:cNvPicPr/>
          <p:nvPr/>
        </p:nvPicPr>
        <p:blipFill>
          <a:blip r:embed="rId4"/>
          <a:srcRect l="30575" t="31802" r="37873" b="26821"/>
          <a:stretch/>
        </p:blipFill>
        <p:spPr>
          <a:xfrm>
            <a:off x="2603520" y="1290600"/>
            <a:ext cx="4319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10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22" nodeType="afterEffect" fill="hold" presetClass="entr" presetID="10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-0.23698 0.19653 E">
                                      <p:cBhvr>
                                        <p:cTn id="330" dur="125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332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1111E-006 L -0.23819 -0.27801 E">
                                      <p:cBhvr>
                                        <p:cTn id="333" dur="125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5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33333E-006 L 0.24913 -0.03982 E">
                                      <p:cBhvr>
                                        <p:cTn id="336" dur="125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L 0.21267 -0.07616 E">
                                      <p:cBhvr>
                                        <p:cTn id="338" dur="125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3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6" descr="http://nsportal.ru/sites/default/files/styles/large/public/styles/large/public/media/2015/03/08/slayd4.jpg?itok=OcgTN1kg"/>
          <p:cNvPicPr/>
          <p:nvPr/>
        </p:nvPicPr>
        <p:blipFill>
          <a:blip r:embed="rId1"/>
          <a:stretch/>
        </p:blipFill>
        <p:spPr>
          <a:xfrm>
            <a:off x="324000" y="404640"/>
            <a:ext cx="2592360" cy="3456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04" name="Picture 12" descr="http://nsportal.ru/sites/default/files/styles/media_gallery_large/public/styles/media_gallery_large/public/gallery/2015/03/08/blagodarnosti/slayd10.jpg?itok=PX1ElTmV"/>
          <p:cNvPicPr/>
          <p:nvPr/>
        </p:nvPicPr>
        <p:blipFill>
          <a:blip r:embed="rId2"/>
          <a:stretch/>
        </p:blipFill>
        <p:spPr>
          <a:xfrm>
            <a:off x="3276720" y="396720"/>
            <a:ext cx="2590560" cy="34578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05" name="Picture 14" descr="http://nsportal.ru/sites/default/files/styles/large/public/styles/large/public/media/2015/03/08/slayd3_2.jpg?itok=mT0tBCFC"/>
          <p:cNvPicPr/>
          <p:nvPr/>
        </p:nvPicPr>
        <p:blipFill>
          <a:blip r:embed="rId3"/>
          <a:stretch/>
        </p:blipFill>
        <p:spPr>
          <a:xfrm>
            <a:off x="6156360" y="396720"/>
            <a:ext cx="2592360" cy="34578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06" name="Picture 2" descr="логопедический кабинет - логопедический кабинет - Фотогалерея школы - Фотоальбомы - сайт школы"/>
          <p:cNvPicPr/>
          <p:nvPr/>
        </p:nvPicPr>
        <p:blipFill>
          <a:blip r:embed="rId4"/>
          <a:stretch/>
        </p:blipFill>
        <p:spPr>
          <a:xfrm>
            <a:off x="4586400" y="3284640"/>
            <a:ext cx="4017960" cy="30844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07" name="Picture 18" descr="http://pmsscentre.ru/new/121114/1.jpg"/>
          <p:cNvPicPr/>
          <p:nvPr/>
        </p:nvPicPr>
        <p:blipFill>
          <a:blip r:embed="rId5"/>
          <a:srcRect l="0" t="0" r="41659" b="0"/>
          <a:stretch/>
        </p:blipFill>
        <p:spPr>
          <a:xfrm>
            <a:off x="430200" y="3273480"/>
            <a:ext cx="4013280" cy="30956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08" name="Picture 2" descr="C:\Users\наташа\Desktop\Учитель года 2015\Презентация5\Слайд1.JPG"/>
          <p:cNvPicPr/>
          <p:nvPr/>
        </p:nvPicPr>
        <p:blipFill>
          <a:blip r:embed="rId6"/>
          <a:srcRect l="30575" t="31802" r="37873" b="26821"/>
          <a:stretch/>
        </p:blipFill>
        <p:spPr>
          <a:xfrm>
            <a:off x="1944720" y="843120"/>
            <a:ext cx="52545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10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67" nodeType="afterEffect" fill="hold" presetClass="entr" presetID="10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5" nodeType="afterEffect" fill="hold" presetClass="entr" presetID="10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379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29931 0.14722 E">
                                      <p:cBhvr>
                                        <p:cTn id="380" dur="125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2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L -0.0158 0.1375 E">
                                      <p:cBhvr>
                                        <p:cTn id="383" dur="125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385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-0.32274 0.14815 E">
                                      <p:cBhvr>
                                        <p:cTn id="386" dur="125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8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-0.23698 -0.2456 E">
                                      <p:cBhvr>
                                        <p:cTn id="389" dur="125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6250"/>
                            </p:stCondLst>
                            <p:childTnLst>
                              <p:par>
                                <p:cTn id="391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7.40741E-007 L 0.2257 -0.25556 E">
                                      <p:cBhvr>
                                        <p:cTn id="392" dur="125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4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1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1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1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1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7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8" descr="Муниципальное бюджетное дошкольное образовательное учреждение - детский сад 462"/>
          <p:cNvPicPr/>
          <p:nvPr/>
        </p:nvPicPr>
        <p:blipFill>
          <a:blip r:embed="rId1"/>
          <a:stretch/>
        </p:blipFill>
        <p:spPr>
          <a:xfrm>
            <a:off x="4788000" y="333360"/>
            <a:ext cx="4105080" cy="38876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12" name="Picture 12" descr="Пособия логопедического кабинета - Елена Юрьевна Вохмянина"/>
          <p:cNvPicPr/>
          <p:nvPr/>
        </p:nvPicPr>
        <p:blipFill>
          <a:blip r:embed="rId2"/>
          <a:stretch/>
        </p:blipFill>
        <p:spPr>
          <a:xfrm>
            <a:off x="324000" y="333360"/>
            <a:ext cx="4248000" cy="37591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13" name="Picture 6" descr="http://cs625725.vk.me/v625725570/15d9f/rmpPl12WG18.jpg"/>
          <p:cNvPicPr/>
          <p:nvPr/>
        </p:nvPicPr>
        <p:blipFill>
          <a:blip r:embed="rId3"/>
          <a:stretch/>
        </p:blipFill>
        <p:spPr>
          <a:xfrm>
            <a:off x="1303200" y="1989000"/>
            <a:ext cx="5932800" cy="451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14" name="Picture 2" descr="C:\Users\наташа\Desktop\Учитель года 2015\Презентация5\Слайд1.JPG"/>
          <p:cNvPicPr/>
          <p:nvPr/>
        </p:nvPicPr>
        <p:blipFill>
          <a:blip r:embed="rId4"/>
          <a:srcRect l="30575" t="31802" r="37873" b="26821"/>
          <a:stretch/>
        </p:blipFill>
        <p:spPr>
          <a:xfrm>
            <a:off x="1655640" y="333360"/>
            <a:ext cx="583272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10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10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81481E-006 L 0.2401 0.16689 E">
                                      <p:cBhvr>
                                        <p:cTn id="42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L -0.24028 0.15764 E">
                                      <p:cBhvr>
                                        <p:cTn id="431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L 0.04097 -0.1405 E">
                                      <p:cBhvr>
                                        <p:cTn id="43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5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1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1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7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SAMSUNG DIGITAL CAMERA"/>
          <p:cNvPicPr/>
          <p:nvPr/>
        </p:nvPicPr>
        <p:blipFill>
          <a:blip r:embed="rId1"/>
          <a:stretch/>
        </p:blipFill>
        <p:spPr>
          <a:xfrm>
            <a:off x="324000" y="333360"/>
            <a:ext cx="3894120" cy="32893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18" name="Picture 6" descr="Мастер класс конспект по театру с пальчиковой гимнастикой - Master class"/>
          <p:cNvPicPr/>
          <p:nvPr/>
        </p:nvPicPr>
        <p:blipFill>
          <a:blip r:embed="rId2"/>
          <a:srcRect l="16286" t="0" r="0" b="0"/>
          <a:stretch/>
        </p:blipFill>
        <p:spPr>
          <a:xfrm>
            <a:off x="4859280" y="338040"/>
            <a:ext cx="3952800" cy="32846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19" name="Picture 4" descr="http://pmsscentre.ru/new/231214/spektakl.jpg"/>
          <p:cNvPicPr/>
          <p:nvPr/>
        </p:nvPicPr>
        <p:blipFill>
          <a:blip r:embed="rId3"/>
          <a:stretch/>
        </p:blipFill>
        <p:spPr>
          <a:xfrm>
            <a:off x="1697040" y="2317680"/>
            <a:ext cx="6326280" cy="4194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20" name="Picture 2" descr="C:\Users\наташа\Desktop\Учитель года 2015\Презентация5\Слайд1.JPG"/>
          <p:cNvPicPr/>
          <p:nvPr/>
        </p:nvPicPr>
        <p:blipFill>
          <a:blip r:embed="rId4"/>
          <a:srcRect l="30575" t="31802" r="37873" b="26821"/>
          <a:stretch/>
        </p:blipFill>
        <p:spPr>
          <a:xfrm>
            <a:off x="1249200" y="152280"/>
            <a:ext cx="662652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10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59" nodeType="afterEffect" fill="hold" presetClass="entr" presetID="10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3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07407E-006 L 0.25174 0.20115 E">
                                      <p:cBhvr>
                                        <p:cTn id="464" dur="125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466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-0.24757 0.20092 E">
                                      <p:cBhvr>
                                        <p:cTn id="467" dur="125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9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022E-016 L -0.02361 -0.15417 E">
                                      <p:cBhvr>
                                        <p:cTn id="470" dur="125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472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1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7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наташа\Desktop\Учитель года 2015\Презентация5\Слайд1.JPG"/>
          <p:cNvPicPr/>
          <p:nvPr/>
        </p:nvPicPr>
        <p:blipFill>
          <a:blip r:embed="rId1"/>
          <a:srcRect l="30575" t="31802" r="37873" b="26821"/>
          <a:stretch/>
        </p:blipFill>
        <p:spPr>
          <a:xfrm>
            <a:off x="642960" y="179280"/>
            <a:ext cx="7929720" cy="64818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1692360" y="1893960"/>
            <a:ext cx="61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Я - педагог, учитель и психолог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лолог, языковед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тель, методист, новатор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- диагност, корректор и экспе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- воспитатель, доктор, дефектолог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ер, орато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 ЛОГОПЕД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Users\наташа\Desktop\50da36a53055d.gif"/>
          <p:cNvPicPr/>
          <p:nvPr/>
        </p:nvPicPr>
        <p:blipFill>
          <a:blip r:embed="rId1"/>
          <a:stretch/>
        </p:blipFill>
        <p:spPr>
          <a:xfrm>
            <a:off x="1727280" y="-573120"/>
            <a:ext cx="7867440" cy="7866000"/>
          </a:xfrm>
          <a:prstGeom prst="rect">
            <a:avLst/>
          </a:prstGeom>
          <a:ln w="0">
            <a:noFill/>
          </a:ln>
        </p:spPr>
      </p:pic>
      <p:pic>
        <p:nvPicPr>
          <p:cNvPr id="126" name="HEARTBEAT_NORMAL.mp3" descr=""/>
          <p:cNvPicPr/>
          <p:nvPr/>
        </p:nvPicPr>
        <p:blipFill>
          <a:blip r:embed="rId2"/>
          <a:stretch/>
        </p:blipFill>
        <p:spPr>
          <a:xfrm>
            <a:off x="9828360" y="2514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9" dur="36363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Прямоугольник 1" descr=""/>
          <p:cNvPicPr/>
          <p:nvPr/>
        </p:nvPicPr>
        <p:blipFill>
          <a:blip r:embed="rId1"/>
          <a:stretch/>
        </p:blipFill>
        <p:spPr>
          <a:xfrm>
            <a:off x="2882880" y="1579680"/>
            <a:ext cx="64692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190440" y="115920"/>
            <a:ext cx="8845560" cy="662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наташа\Desktop\Учитель года 2015\Презентация1\Слайд1.JPG"/>
          <p:cNvPicPr/>
          <p:nvPr/>
        </p:nvPicPr>
        <p:blipFill>
          <a:blip r:embed="rId1"/>
          <a:stretch/>
        </p:blipFill>
        <p:spPr>
          <a:xfrm>
            <a:off x="395280" y="3059280"/>
            <a:ext cx="4753080" cy="35636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Picture 4" descr="C:\Users\наташа\Desktop\Учитель года 2015\Презентация1\Слайд3.JPG"/>
          <p:cNvPicPr/>
          <p:nvPr/>
        </p:nvPicPr>
        <p:blipFill>
          <a:blip r:embed="rId2"/>
          <a:stretch/>
        </p:blipFill>
        <p:spPr>
          <a:xfrm>
            <a:off x="4211640" y="260280"/>
            <a:ext cx="4681440" cy="351000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2" descr="C:\Users\наташа\Desktop\Учитель года 2015\Презентация4\Слайд1.JPG"/>
          <p:cNvPicPr/>
          <p:nvPr/>
        </p:nvPicPr>
        <p:blipFill>
          <a:blip r:embed="rId3"/>
          <a:srcRect l="64318" t="52866" r="0" b="0"/>
          <a:stretch/>
        </p:blipFill>
        <p:spPr>
          <a:xfrm>
            <a:off x="7162920" y="5157720"/>
            <a:ext cx="161136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562040" y="836640"/>
            <a:ext cx="6091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На свете так много различных профессий</a:t>
            </a:r>
            <a:br>
              <a:rPr sz="2800"/>
            </a:br>
            <a:r>
              <a:rPr b="1" lang="ru-RU" sz="2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И в каждой есть прелесть своя,</a:t>
            </a:r>
            <a:br>
              <a:rPr sz="2800"/>
            </a:br>
            <a:r>
              <a:rPr b="1" lang="ru-RU" sz="2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Но нет благородне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нужней и чудесней,</a:t>
            </a:r>
            <a:br>
              <a:rPr sz="2800"/>
            </a:br>
            <a:r>
              <a:rPr b="1" lang="ru-RU" sz="2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Чем та, кем работаю 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И пусть возражаю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что трудно порою,</a:t>
            </a:r>
            <a:br>
              <a:rPr sz="2800"/>
            </a:br>
            <a:r>
              <a:rPr b="1" lang="ru-RU" sz="2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Но в детские глазки вгляжусь</a:t>
            </a:r>
            <a:br>
              <a:rPr sz="2800"/>
            </a:br>
            <a:r>
              <a:rPr b="1" lang="ru-RU" sz="2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Работу свою я люблю беззаветно.</a:t>
            </a:r>
            <a:br>
              <a:rPr sz="2800"/>
            </a:br>
            <a:r>
              <a:rPr b="1" lang="ru-RU" sz="2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Логопед – я, и этим горжу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наташа\Desktop\Учитель года 2015\Презентация4\Слайд1.JPG"/>
          <p:cNvPicPr/>
          <p:nvPr/>
        </p:nvPicPr>
        <p:blipFill>
          <a:blip r:embed="rId1"/>
          <a:srcRect l="64317" t="52866" r="0" b="0"/>
          <a:stretch/>
        </p:blipFill>
        <p:spPr>
          <a:xfrm>
            <a:off x="276120" y="5072040"/>
            <a:ext cx="161316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25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25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25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25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0" descr="SAM_0776"/>
          <p:cNvPicPr/>
          <p:nvPr/>
        </p:nvPicPr>
        <p:blipFill>
          <a:blip r:embed="rId1"/>
          <a:stretch/>
        </p:blipFill>
        <p:spPr>
          <a:xfrm>
            <a:off x="398520" y="352440"/>
            <a:ext cx="3932280" cy="32875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Picture 13" descr="SAM_0768"/>
          <p:cNvPicPr/>
          <p:nvPr/>
        </p:nvPicPr>
        <p:blipFill>
          <a:blip r:embed="rId2"/>
          <a:stretch/>
        </p:blipFill>
        <p:spPr>
          <a:xfrm>
            <a:off x="4572000" y="322200"/>
            <a:ext cx="4176720" cy="33530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" name="Picture 27" descr=""/>
          <p:cNvPicPr/>
          <p:nvPr/>
        </p:nvPicPr>
        <p:blipFill>
          <a:blip r:embed="rId3"/>
          <a:stretch/>
        </p:blipFill>
        <p:spPr>
          <a:xfrm>
            <a:off x="2365200" y="3271680"/>
            <a:ext cx="3976920" cy="330516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2" descr="C:\Users\наташа\Desktop\Учитель года 2015\Презентация5\Слайд1.JPG"/>
          <p:cNvPicPr/>
          <p:nvPr/>
        </p:nvPicPr>
        <p:blipFill>
          <a:blip r:embed="rId4"/>
          <a:srcRect l="30574" t="31799" r="37878" b="26819"/>
          <a:stretch/>
        </p:blipFill>
        <p:spPr>
          <a:xfrm>
            <a:off x="3927600" y="2637000"/>
            <a:ext cx="12888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6161E-006 L 0.24028 0.20028 E">
                                      <p:cBhvr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8187E-006 L -0.23976 0.19958 E">
                                      <p:cBhvr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0.01615 -0.23912 E">
                                      <p:cBhvr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1"/>
          <a:stretch/>
        </p:blipFill>
        <p:spPr>
          <a:xfrm>
            <a:off x="324000" y="249120"/>
            <a:ext cx="3579840" cy="30355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2" name="Picture 9" descr="DSC02353"/>
          <p:cNvPicPr/>
          <p:nvPr/>
        </p:nvPicPr>
        <p:blipFill>
          <a:blip r:embed="rId2"/>
          <a:stretch/>
        </p:blipFill>
        <p:spPr>
          <a:xfrm>
            <a:off x="4994280" y="360360"/>
            <a:ext cx="3895560" cy="2924280"/>
          </a:xfrm>
          <a:prstGeom prst="rect">
            <a:avLst/>
          </a:prstGeom>
          <a:ln w="12600">
            <a:solidFill>
              <a:srgbClr val="c00000"/>
            </a:solidFill>
            <a:miter/>
          </a:ln>
        </p:spPr>
      </p:pic>
      <p:pic>
        <p:nvPicPr>
          <p:cNvPr id="63" name="Picture 7" descr="G:\фото\DSC02342.JPG"/>
          <p:cNvPicPr/>
          <p:nvPr/>
        </p:nvPicPr>
        <p:blipFill>
          <a:blip r:embed="rId3"/>
          <a:stretch/>
        </p:blipFill>
        <p:spPr>
          <a:xfrm>
            <a:off x="1403280" y="2550960"/>
            <a:ext cx="2914560" cy="38847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4" name="Picture 16" descr="SAM_0739"/>
          <p:cNvPicPr/>
          <p:nvPr/>
        </p:nvPicPr>
        <p:blipFill>
          <a:blip r:embed="rId4"/>
          <a:stretch/>
        </p:blipFill>
        <p:spPr>
          <a:xfrm>
            <a:off x="4832280" y="3429000"/>
            <a:ext cx="4057560" cy="30924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5" name="Picture 2" descr="C:\Users\наташа\Desktop\Учитель года 2015\Презентация5\Слайд1.JPG"/>
          <p:cNvPicPr/>
          <p:nvPr/>
        </p:nvPicPr>
        <p:blipFill>
          <a:blip r:embed="rId5"/>
          <a:srcRect l="30576" t="31801" r="37877" b="26823"/>
          <a:stretch/>
        </p:blipFill>
        <p:spPr>
          <a:xfrm>
            <a:off x="3276720" y="2440080"/>
            <a:ext cx="17175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52451E-006 L 0.23333 0.21508 E">
                                      <p:cBhvr>
                                        <p:cTn id="102" dur="125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104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52451E-006 L -0.29375 0.22548 E">
                                      <p:cBhvr>
                                        <p:cTn id="105" dur="125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7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0.13993 -0.16551 E">
                                      <p:cBhvr>
                                        <p:cTn id="108" dur="125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1750"/>
                            </p:stCondLst>
                            <p:childTnLst>
                              <p:par>
                                <p:cTn id="110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96296E-006 L -0.29757 -0.24652 E">
                                      <p:cBhvr>
                                        <p:cTn id="111" dur="125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наташа\Desktop\Учитель года 2015\Презентация5\Слайд1.JPG"/>
          <p:cNvPicPr/>
          <p:nvPr/>
        </p:nvPicPr>
        <p:blipFill>
          <a:blip r:embed="rId1"/>
          <a:srcRect l="30576" t="31799" r="37872" b="26824"/>
          <a:stretch/>
        </p:blipFill>
        <p:spPr>
          <a:xfrm>
            <a:off x="3362400" y="2259000"/>
            <a:ext cx="2376360" cy="2338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наташа\Desktop\Учитель года 2015\Презентация6\Слайд6.JPG"/>
          <p:cNvPicPr/>
          <p:nvPr/>
        </p:nvPicPr>
        <p:blipFill>
          <a:blip r:embed="rId2"/>
          <a:stretch/>
        </p:blipFill>
        <p:spPr>
          <a:xfrm>
            <a:off x="4602240" y="471600"/>
            <a:ext cx="1785960" cy="2765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C:\Users\наташа\Desktop\Учитель года 2015\Презентация6\Слайд3.JPG"/>
          <p:cNvPicPr/>
          <p:nvPr/>
        </p:nvPicPr>
        <p:blipFill>
          <a:blip r:embed="rId3"/>
          <a:stretch/>
        </p:blipFill>
        <p:spPr>
          <a:xfrm>
            <a:off x="395280" y="458640"/>
            <a:ext cx="2284560" cy="3403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Users\наташа\Desktop\Учитель года 2015\Презентация6\Слайд4.JPG"/>
          <p:cNvPicPr/>
          <p:nvPr/>
        </p:nvPicPr>
        <p:blipFill>
          <a:blip r:embed="rId4"/>
          <a:stretch/>
        </p:blipFill>
        <p:spPr>
          <a:xfrm rot="1348800">
            <a:off x="4627440" y="2363400"/>
            <a:ext cx="2246400" cy="299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Users\наташа\Desktop\Учитель года 2015\Презентация6\Слайд5.JPG"/>
          <p:cNvPicPr/>
          <p:nvPr/>
        </p:nvPicPr>
        <p:blipFill>
          <a:blip r:embed="rId5"/>
          <a:stretch/>
        </p:blipFill>
        <p:spPr>
          <a:xfrm>
            <a:off x="6659640" y="471600"/>
            <a:ext cx="1890720" cy="2852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наташа\Desktop\Учитель года 2015\Презентация6\Слайд7.JPG"/>
          <p:cNvPicPr/>
          <p:nvPr/>
        </p:nvPicPr>
        <p:blipFill>
          <a:blip r:embed="rId6"/>
          <a:stretch/>
        </p:blipFill>
        <p:spPr>
          <a:xfrm rot="20415600">
            <a:off x="1393920" y="2263320"/>
            <a:ext cx="28940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329 0.21921 E">
                                      <p:cBhvr>
                                        <p:cTn id="153" dur="125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155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7 L -0.11667 0.24005 E">
                                      <p:cBhvr>
                                        <p:cTn id="156" dur="125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7 L -0.33941 0.22338 E">
                                      <p:cBhvr>
                                        <p:cTn id="159" dur="125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161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1111E-006 L 0.1658 -0.04028 E">
                                      <p:cBhvr>
                                        <p:cTn id="162" dur="125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6296E-006 L -0.13663 -0.06296 E">
                                      <p:cBhvr>
                                        <p:cTn id="165" dur="125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SAM_0812"/>
          <p:cNvPicPr/>
          <p:nvPr/>
        </p:nvPicPr>
        <p:blipFill>
          <a:blip r:embed="rId1"/>
          <a:stretch/>
        </p:blipFill>
        <p:spPr>
          <a:xfrm>
            <a:off x="4608360" y="328680"/>
            <a:ext cx="4176720" cy="304956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Picture 4" descr="C:\Users\наташа\Desktop\Учитель года 2015\защита проекта 1.jpg"/>
          <p:cNvPicPr/>
          <p:nvPr/>
        </p:nvPicPr>
        <p:blipFill>
          <a:blip r:embed="rId2"/>
          <a:stretch/>
        </p:blipFill>
        <p:spPr>
          <a:xfrm>
            <a:off x="395280" y="333360"/>
            <a:ext cx="4834080" cy="36241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Picture 3" descr="C:\Users\наташа\Desktop\Учитель года 2015\защита проекта.jpg"/>
          <p:cNvPicPr/>
          <p:nvPr/>
        </p:nvPicPr>
        <p:blipFill>
          <a:blip r:embed="rId3"/>
          <a:stretch/>
        </p:blipFill>
        <p:spPr>
          <a:xfrm>
            <a:off x="3851280" y="2771640"/>
            <a:ext cx="4859280" cy="364500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6" descr="G:\фото\DSC02291.JPG"/>
          <p:cNvPicPr/>
          <p:nvPr/>
        </p:nvPicPr>
        <p:blipFill>
          <a:blip r:embed="rId4"/>
          <a:stretch/>
        </p:blipFill>
        <p:spPr>
          <a:xfrm>
            <a:off x="382680" y="403200"/>
            <a:ext cx="4098960" cy="58118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icture 26" descr=""/>
          <p:cNvPicPr/>
          <p:nvPr/>
        </p:nvPicPr>
        <p:blipFill>
          <a:blip r:embed="rId5"/>
          <a:stretch/>
        </p:blipFill>
        <p:spPr>
          <a:xfrm>
            <a:off x="4025880" y="2771640"/>
            <a:ext cx="4838760" cy="344340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Picture 2" descr="C:\Users\наташа\Desktop\Учитель года 2015\Презентация5\Слайд1.JPG"/>
          <p:cNvPicPr/>
          <p:nvPr/>
        </p:nvPicPr>
        <p:blipFill>
          <a:blip r:embed="rId6"/>
          <a:srcRect l="30575" t="31802" r="37873" b="26821"/>
          <a:stretch/>
        </p:blipFill>
        <p:spPr>
          <a:xfrm>
            <a:off x="3116160" y="1793880"/>
            <a:ext cx="295272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5" nodeType="afterEffect" fill="hold" presetClass="entr" presetID="10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9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-0.20486 0.15648 E">
                                      <p:cBhvr>
                                        <p:cTn id="210" dur="125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4750"/>
                            </p:stCondLst>
                            <p:childTnLst>
                              <p:par>
                                <p:cTn id="218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24705 -0.00186 E">
                                      <p:cBhvr>
                                        <p:cTn id="219" dur="125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1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259E-006 L -0.19687 -0.15371 E">
                                      <p:cBhvr>
                                        <p:cTn id="222" dur="125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725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7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Детский сад 42 г.Уфы - официальный сайт."/>
          <p:cNvPicPr/>
          <p:nvPr/>
        </p:nvPicPr>
        <p:blipFill>
          <a:blip r:embed="rId1"/>
          <a:stretch/>
        </p:blipFill>
        <p:spPr>
          <a:xfrm>
            <a:off x="4781520" y="347760"/>
            <a:ext cx="4108320" cy="30812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10" descr="DSC02351"/>
          <p:cNvPicPr/>
          <p:nvPr/>
        </p:nvPicPr>
        <p:blipFill>
          <a:blip r:embed="rId2"/>
          <a:stretch/>
        </p:blipFill>
        <p:spPr>
          <a:xfrm>
            <a:off x="324000" y="347760"/>
            <a:ext cx="4105080" cy="30812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86" name="Picture 8" descr="Как у наших у ворот, чудо дерево растет. - Сообщество учител…"/>
          <p:cNvPicPr/>
          <p:nvPr/>
        </p:nvPicPr>
        <p:blipFill>
          <a:blip r:embed="rId3"/>
          <a:stretch/>
        </p:blipFill>
        <p:spPr>
          <a:xfrm>
            <a:off x="1828800" y="2781360"/>
            <a:ext cx="5002200" cy="37098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87" name="Picture 2" descr="C:\Users\наташа\Desktop\Учитель года 2015\Презентация5\Слайд1.JPG"/>
          <p:cNvPicPr/>
          <p:nvPr/>
        </p:nvPicPr>
        <p:blipFill>
          <a:blip r:embed="rId4"/>
          <a:srcRect l="30575" t="31802" r="37873" b="26821"/>
          <a:stretch/>
        </p:blipFill>
        <p:spPr>
          <a:xfrm>
            <a:off x="2665440" y="1484280"/>
            <a:ext cx="35290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0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48" nodeType="afterEffect" fill="hold" presetClass="entr" presetID="10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L 0.2401 0.19329 E">
                                      <p:cBhvr>
                                        <p:cTn id="253" dur="125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255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-0.26337 0.19329 E">
                                      <p:cBhvr>
                                        <p:cTn id="256" dur="125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8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01875 -0.20741 E">
                                      <p:cBhvr>
                                        <p:cTn id="259" dur="125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7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G:\фото\DSC02301.JPG"/>
          <p:cNvPicPr/>
          <p:nvPr/>
        </p:nvPicPr>
        <p:blipFill>
          <a:blip r:embed="rId1"/>
          <a:stretch/>
        </p:blipFill>
        <p:spPr>
          <a:xfrm>
            <a:off x="299880" y="260280"/>
            <a:ext cx="4272120" cy="6237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91" name="Picture 5" descr="G:\фото\DSC02294.JPG"/>
          <p:cNvPicPr/>
          <p:nvPr/>
        </p:nvPicPr>
        <p:blipFill>
          <a:blip r:embed="rId2"/>
          <a:stretch/>
        </p:blipFill>
        <p:spPr>
          <a:xfrm>
            <a:off x="4765680" y="260280"/>
            <a:ext cx="4095720" cy="31687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92" name="Picture 2" descr="Из опыты работы театрализованной деятельности - Сетевая библиотека"/>
          <p:cNvPicPr/>
          <p:nvPr/>
        </p:nvPicPr>
        <p:blipFill>
          <a:blip r:embed="rId3"/>
          <a:stretch/>
        </p:blipFill>
        <p:spPr>
          <a:xfrm>
            <a:off x="4765680" y="3573360"/>
            <a:ext cx="4095720" cy="29242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93" name="Picture 2" descr="C:\Users\наташа\Desktop\Учитель года 2015\Презентация5\Слайд1.JPG"/>
          <p:cNvPicPr/>
          <p:nvPr/>
        </p:nvPicPr>
        <p:blipFill>
          <a:blip r:embed="rId4"/>
          <a:srcRect l="30575" t="31802" r="37873" b="26821"/>
          <a:stretch/>
        </p:blipFill>
        <p:spPr>
          <a:xfrm>
            <a:off x="2519280" y="1197000"/>
            <a:ext cx="41054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9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48148E-006 L -0.25295 0.19954 E">
                                      <p:cBhvr>
                                        <p:cTn id="290" dur="125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92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7.40741E-007 L -0.24514 -0.26574 E">
                                      <p:cBhvr>
                                        <p:cTn id="293" dur="125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5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22587 -0.02407 E">
                                      <p:cBhvr>
                                        <p:cTn id="296" dur="125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2:51:07Z</dcterms:created>
  <dc:creator>User</dc:creator>
  <dc:description/>
  <dc:language>en-US</dc:language>
  <cp:lastModifiedBy>.</cp:lastModifiedBy>
  <dcterms:modified xsi:type="dcterms:W3CDTF">2015-03-18T19:13:40Z</dcterms:modified>
  <cp:revision>51</cp:revision>
  <dc:subject/>
  <dc:title>Презентация PowerPoint</dc:title>
</cp:coreProperties>
</file>