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969-8FC5-4ADB-BABE-64D286AA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BC9-5515-4D55-9851-913B0347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780-0D25-4A09-8C12-DD77E678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DCF-704E-441C-9DA7-A9A112B9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37A1E-26CB-4989-8C60-98C729EA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A84DA-5EE0-49E3-8D4F-0B0A056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639AD-A092-4D3A-805B-24D00535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75B86-C7DD-4DE1-8966-5B54FFA5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AD23D-D506-453D-AC0C-69B42880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77CA4-CD7B-4008-AEDD-29884E54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9A844-653B-467A-918D-2B95F55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527-7E4B-422E-89E0-0C6F48EF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089AE-355E-4C50-BB78-AFB21CA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8BB66-1443-4323-8AC4-403163E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35368-651F-494F-8DCB-CA484E6F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D668E-EDCE-4BD7-8CBF-E86D8543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A72F5-357B-4938-80F5-2615D5AC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2C8-5E01-42EE-A7E5-384A75C0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C05-BA39-4D99-8D55-8F528BC7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375-3078-4CC6-88F8-B1408471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E9D-105D-4E77-B587-8EDFC6F7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EEC-CBF9-4ECE-BC58-FC8AAB49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A32-8566-47D2-B44B-7334D555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B1A-6B69-4811-8527-2E5BF77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D45D-4B9E-4B83-9935-977578B5F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712B-7ACE-4287-97CF-E238D39C46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Тема: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Дифференцированный подход в обучении химии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377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ын Айлана Семеновн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хим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БОУ Адыр-Кежигская 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зультативность.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стограмма № 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179280" y="1201680"/>
          <a:ext cx="8618760" cy="52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01680"/>
                    <a:ext cx="861876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457200" y="291960"/>
            <a:ext cx="8229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зультативность.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стограмма № 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250920" y="1155600"/>
          <a:ext cx="863280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5600"/>
                    <a:ext cx="863280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457200" y="291960"/>
            <a:ext cx="8229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зультативность.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стограмма №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Object 6"/>
          <p:cNvGraphicFramePr/>
          <p:nvPr/>
        </p:nvGraphicFramePr>
        <p:xfrm>
          <a:off x="324000" y="1143000"/>
          <a:ext cx="8485200" cy="54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43000"/>
                    <a:ext cx="848520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468360" y="115920"/>
            <a:ext cx="8229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зультативность.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стограмма № 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525600" y="1125360"/>
          <a:ext cx="86184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125360"/>
                    <a:ext cx="86184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457200" y="291960"/>
            <a:ext cx="8229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зультативность.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стограмма № 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322200" y="1143000"/>
            <a:ext cx="8485200" cy="5419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57200" y="291960"/>
            <a:ext cx="8229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зультативность.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стограмма № 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363600" y="1125360"/>
          <a:ext cx="863280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1125360"/>
                    <a:ext cx="863280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воды.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ный опыт подтверждает следующие вывод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я технологию «Внутриклассной дифференциации» Н.П. Гузика, а также формы, методы и методические приемы для работы с детьми каждого уровня, происходит: развитие мыслительных операций, повышается уровень обученности и как следствие качество знаний уч-ся по предме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даря повышению уровня обученности, расширяются познавательные возможности сильных учащихся и восполняются пробелы в знаниях у вновь прибывших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ается психологический климат в классе и в результате повышается мотивация обучения, снижается уровень тревожности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5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ам, чтобы преуспеть надо догонять тех, кто впереди, и не ждать тех, кто позади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Аристот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уальнос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фференцированное обучение создает условия для максимального развития детей с разным уровнем способностей: для реабилитации отстающих и для продвинутого обучения тех, кто способен учиться с опережением. Этот вывод – не дань моде, а жизнь, доказавшая, что люди всё-таки рождаются разн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едущая педагогическая иде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95280" y="1484280"/>
            <a:ext cx="8353440" cy="489600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стоинства данного обуч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ение проблемы неуспеваемости, а также восполнение пробелов 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ниях вновь прибывших де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ширение познавательных возможностей сильных учащихс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нижение психологического дискомфорта и уровня тревожности ученико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телей, уч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нижение перегрузок учебным материал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вышение мотивации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179280" y="260280"/>
            <a:ext cx="4680000" cy="2879640"/>
          </a:xfrm>
          <a:prstGeom prst="cloudCallout">
            <a:avLst>
              <a:gd name="adj1" fmla="val -32972"/>
              <a:gd name="adj2" fmla="val 3803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ahoma"/>
              </a:rPr>
              <a:t>Противоречие: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Между применением уровневой дифференциации на уроках и отсутствием специальной программы и методики при изучении хим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4211640" y="2133720"/>
            <a:ext cx="4680000" cy="2303280"/>
          </a:xfrm>
          <a:prstGeom prst="cloudCallout">
            <a:avLst>
              <a:gd name="adj1" fmla="val -22115"/>
              <a:gd name="adj2" fmla="val 761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ahoma"/>
              </a:rPr>
              <a:t>Проблема: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аковы же пути и средства применения методики дифференцированного обучения при изучении хим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1187280" y="4437000"/>
            <a:ext cx="3816360" cy="1728720"/>
          </a:xfrm>
          <a:prstGeom prst="cloudCallout">
            <a:avLst>
              <a:gd name="adj1" fmla="val 7944"/>
              <a:gd name="adj2" fmla="val -290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ahoma"/>
              </a:rPr>
              <a:t>Объект: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роцесс обучения химии в 8 – 11 класс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оздать условия для повышения и качества знаний учащихся на уроках через использование технологии дифференцированного обу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ть теоретические и практические разработки по технологии дифференцированного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явить уровень обучаемости и индивидуальные особенности  мышления учащихся (работа с психологом школ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явить уровень обученности детей по предме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обрать содержание учебного материала по химии для работы с детьми каждого уровня (дифференцированные контрольные работы и задания на урока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еделить формы, методы и методические приемы, способствующие применению уровневой дифференциации на уро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кспериментально проверить влияние развития уровня обученности детей на качество знаний, учебно-познавательный интерес к предмету, психологический климат и уровень тревожности в класс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оретическая база опы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нове моей работы – технология Н.П. Гуз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нутриклассная дифференциация». Согласно которо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Дифференцированное обуче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форма организации учебного процесса, при которой учитель работает с группой учащихся, составленной с учетом наличия у них каких-либо значимых для учебного процесса общих качеств (гомогенная групп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Дифференцированный подход в обучен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комплекс методических, психолого-педагогических и организационно-управленческих мероприятий, обеспечивающих обучение в гомогенных групп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.П. Гузик выделяет три программы (А, В, С)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С» - базовый стандар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В» - задания на примен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А» - осознанное, творческое применение зна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езультаты обобщения и систематизац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хнология «Внутриклассной дифференциации Н.П. Гузи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сономия уровней дифференциации Д. Толлингеров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сономия Б.Блума (ключевые вопросы к каждому из уровн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разноуровневых групп к обучению А.К. Марков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3132000" y="4292640"/>
            <a:ext cx="252108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визна опы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179280" y="3716280"/>
            <a:ext cx="2592360" cy="172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аны крите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ценки каждого уров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ла работы с деть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вня и внов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бывши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3276720" y="2852640"/>
            <a:ext cx="230328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делены 3 уровн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фференци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с подуровням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5940360" y="3933720"/>
            <a:ext cx="306072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лены основ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ебования по выполнен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аний трехуровнев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фференци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2771640" y="5589720"/>
            <a:ext cx="3600720" cy="1052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обраны формы, методы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тодические приемы для 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детьми каждого уров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4356000" y="522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5"/>
          <p:cNvSpPr/>
          <p:nvPr/>
        </p:nvSpPr>
        <p:spPr>
          <a:xfrm flipH="1">
            <a:off x="2771280" y="4797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26"/>
          <p:cNvSpPr/>
          <p:nvPr/>
        </p:nvSpPr>
        <p:spPr>
          <a:xfrm flipV="1">
            <a:off x="4356000" y="386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27"/>
          <p:cNvSpPr/>
          <p:nvPr/>
        </p:nvSpPr>
        <p:spPr>
          <a:xfrm>
            <a:off x="5724360" y="4797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хнология опы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4000" y="1197000"/>
            <a:ext cx="3384360" cy="936720"/>
          </a:xfrm>
          <a:prstGeom prst="rect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Первый этап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работа с классным руководителем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и психологом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851280" y="1125360"/>
            <a:ext cx="5041800" cy="1079640"/>
          </a:xfrm>
          <a:prstGeom prst="rightArrow">
            <a:avLst>
              <a:gd name="adj1" fmla="val 85213"/>
              <a:gd name="adj2" fmla="val 6263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Уровень обучаемости учащихся (развитие психических качеств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памяти, внимания, мышления, восприят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Уровень тревож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Индивидуальные особенности учащих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4000" y="2421000"/>
            <a:ext cx="3384360" cy="936720"/>
          </a:xfrm>
          <a:prstGeom prst="rect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Второй этап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диагностичес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3851280" y="2349360"/>
            <a:ext cx="5041800" cy="1079640"/>
          </a:xfrm>
          <a:prstGeom prst="rightArrow">
            <a:avLst>
              <a:gd name="adj1" fmla="val 85213"/>
              <a:gd name="adj2" fmla="val 6263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ачество зна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Уровень обуч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Уровень учебно-познавательного интер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Психологический климат в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0920" y="3789360"/>
            <a:ext cx="3384360" cy="1657440"/>
          </a:xfrm>
          <a:prstGeom prst="rect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Третий этап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методическ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3851280" y="3500280"/>
            <a:ext cx="5292720" cy="2232360"/>
          </a:xfrm>
          <a:prstGeom prst="rightArrow">
            <a:avLst>
              <a:gd name="adj1" fmla="val 85213"/>
              <a:gd name="adj2" fmla="val 31799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Распределение учащихся по группам (по уровню ум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развития – уровню достиж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Применение технологии дифференцированного обучения 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разных этапах учебного процесса (изучение нового материал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текущая проверка знаний, самостоятельные и контрольные работы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уроки обобщения, домашние задан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Выбор места и применение на уроке форм, методов и методически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приемов для работы с детьми каждого уровн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Использование правил работы с детьми 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уровня и внов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прибывши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250920" y="5877000"/>
            <a:ext cx="3384360" cy="792000"/>
          </a:xfrm>
          <a:prstGeom prst="rect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Четвертый этап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эксперимента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3851280" y="5778360"/>
            <a:ext cx="5041800" cy="1079640"/>
          </a:xfrm>
          <a:prstGeom prst="rightArrow">
            <a:avLst>
              <a:gd name="adj1" fmla="val 85213"/>
              <a:gd name="adj2" fmla="val 6263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Проверка влияния уровня развития обученности детей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ачество знаний, учебно - познавательный интерес к предмету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психологический климат и уровень тревожности учащихся в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8:44:19Z</dcterms:created>
  <dc:creator>Comp</dc:creator>
  <dc:description/>
  <dc:language>en-US</dc:language>
  <cp:lastModifiedBy>школа</cp:lastModifiedBy>
  <dcterms:modified xsi:type="dcterms:W3CDTF">2015-03-18T18:53:28Z</dcterms:modified>
  <cp:revision>63</cp:revision>
  <dc:subject/>
  <dc:title>Тема: Дифференцированный подход в обучении – как одно из условий сохранения и укрепления здоровья учащихся на уроках химии.</dc:title>
</cp:coreProperties>
</file>