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5530B-32BD-478E-9018-C987813E7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2E5CD-FEF9-4803-A325-4EE99C285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BB77E3-3A59-49B2-A339-78A8441D1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BE64E3-998F-4CC6-9386-E388767B0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9CE5FC-E55A-427F-8442-C6353FE02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9A02DA-81C7-4D45-8BB1-2F63EEBFA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5B48D8-A2CB-45A0-9778-6CBC7EA88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4702C8-39FE-48D1-BCF8-D3E77E51B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DD80C6-3702-496E-898C-06244D982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5FBC0C-918A-405F-B00A-B01F45F85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BD7AF9-EBBB-404C-B4E3-26B0EE565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6AF723-332D-46A9-881F-B4DC8B177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2C8B5-6A8E-4FAE-9968-56861405A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9CC436-7BD1-4EFF-94E9-8B8C0FE78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EB6BA9-FC57-4FFD-BC29-EE9B98E90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601D90-3476-4F3A-A07B-3C696BF5D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E85EEA-94EF-4479-92E3-9D2C14B6C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59850E-C2B8-4D6A-B1F6-6B1456E55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3A856C-A8AF-461B-A302-EF5978094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B62116-E762-4A2B-8CF6-261EFD776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20C11D-D322-432B-841D-ABE02BAA8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C0B25F-60C2-4515-A552-A0B0B231E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38F227-1E05-47AA-B8ED-DE1C44496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3A1A9-E044-4374-8277-5E1AA0E5F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FA88D8-CE91-4C5D-AA4D-E99541E2D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C95693-F220-4F55-9EB3-1397BDC09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DB21BB-E820-4B3D-968C-EF7447FE8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86A8AC-8E6E-48AF-BD4B-181E46407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5854F4-0C3E-43DC-89E3-B0971A317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FE3365-18C6-4B77-B163-693C003C8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F44D67-6963-4D36-8EE8-549CDDBD1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083E7F-8130-4C9C-A30D-5E675F4D1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6453F9-833C-4DAA-8883-EDD9A3F0D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58DBEF-B9A1-4972-95C1-6764D235F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EE241-3BE6-43B7-827D-8145BF996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20805A-D715-40A3-A614-33F0CD156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010FCB-4C60-473C-82D0-EE95BE3A5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EF7862-1083-423B-88C0-50E44EF65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8E5403-0845-485F-AA2D-C9EA884ED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527291-0E68-4FF6-B17C-B7B62EF28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123269-4850-4AB6-9D04-BBAA9AB2E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DD8534-0D31-4F0B-9004-010573D3A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B35A89-D8B6-422D-BAC9-E8B208ECE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B5660E-4F93-4E94-AC42-23DC19BEB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B36CD8-005B-4680-8E1D-446199A27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8DF14-EACB-4E63-AD17-230B52B58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E49126-3093-4A62-8C13-E39BE5168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456CB1-9791-487F-BBB5-C741ABF9D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0FEB18-D475-496D-A7E8-F8CBBCD80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C6F42B-DDD1-4F59-B6D5-0CB2E4972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6672F1-CFC6-4EF4-998F-E55EDEE66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C42B370-D642-4058-A443-9394F704F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71886F0-C8BF-48EE-BAA0-8D64B6302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8E09C94-9143-41E7-8926-E20ED0508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9F24BFE-0691-4BE5-A9E1-81C2A5980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F17E186-3C0C-4902-B458-CF7974F84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F78D1-35A1-43B3-AD64-913A965C7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2001ABD-E001-405B-9681-7A8544056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57C3F4C-6EC3-4F7C-8D66-3A588368C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5269C3F-AAEB-4F43-9850-AB706803F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7A3F6A8-8119-4DC5-86CE-251937FCD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96335D9-73C1-4F02-B714-6BC4E56C5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C411C4C-5CCE-4D94-863F-DDBC8BF1F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0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1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F41300F-B49F-4D42-A78E-82166AEF8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857227B-D3BA-4237-AB8E-2D11AD0F4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2273050-E9DE-4A66-B357-DEAF3F113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45DCF67-0B23-41F1-AD18-6B143D3A8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B0C43-9F8C-445A-BA29-B9FED3CA3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05CA522-F06C-4A24-9DD5-8F1BFB1B4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8587655-9DDA-463C-8E7A-511CBF352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5FC9C4D-D0F1-40D5-BF84-71DA2BFC5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64FC8B6-944C-431A-ACE8-1A18279BF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FD34D12-F242-4A57-A51D-A4F957221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7BB68CD-F818-42EA-A354-A6F0B0A5D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201BA78-6850-48CA-BEB9-441043F32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F186C07-A9A9-40CE-9A4F-53716BAFC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4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5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8326291-BB27-4D9C-883F-97EB8EA64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AD3219C-9906-44CF-BAB6-BC00A6E4C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35741-C2C1-4047-B627-12382AA8C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7FA8B06-C79C-4021-A58A-20C189EC9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96A5777-EF72-447D-8663-5B02578D1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D68B594-2F55-4103-BFE2-02C177DDD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49794CB-E1A5-4FBF-9660-511A4D006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D5E5A27-0A87-47C6-9213-2BAB3DC96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64BF577-3B08-46C6-932A-12CCAE2A2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D876452-65D1-429B-9130-52A6445DD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F978D65-659B-441C-BF1E-B59BA2835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1AB00C1-A4CF-4EA9-B99E-43EDF7E95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3452CD7-4A89-4C04-B6E2-3AEF91404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CB4B4-F64A-43D5-8138-C40994BA9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7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8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9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C085C28-CD66-46B9-93BA-802AE0A13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17F7E25-E88D-4EE8-8C37-0B6D6C755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3679301-5A38-4867-974F-47F8DB5FE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D539BAC-4422-4068-867B-EDD9819D9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0E8F5E2-A76E-4A22-A1DD-C442827AB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CC9B776-21F2-4C3A-A2FA-0324DB6B3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7840BDF-078A-41F1-B2BA-26A157B88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3673F6C-D6E1-4BFD-A61D-AD8364BD8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CFB06E7-351E-4D07-9CE6-0CFAF7195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7A07A32-4950-4844-8DA0-0762ED01E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6C157-4F5E-40E0-BA7D-5A450EE42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D96BA58-8178-4E3A-A7F2-DA5747C16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6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C873112-2B00-46CE-B240-CD974E331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2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3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B2E1AA0-7957-4B14-B71C-255241BE4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9F1D0-E5A4-4F9E-A9DC-57DF12693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6FC17-0632-438D-A1A9-6617F6D41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45A86-25DD-4081-9761-7BFC7BD27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346E0-AF5D-41D9-BBAA-28D7E7471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EC71D-5AC7-4139-A24A-0DF8A75BF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A588A-F373-468A-A0B5-1AC699E1F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FEEC1E-378A-4C64-8D77-5622B648B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85C77F-F3C7-4B67-81DF-0E03CD240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8CC9B0-22C9-4E38-9096-19FE2BA46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8259B0-0706-4C80-B279-31745455E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2C6419-0A8F-4C01-9FF6-862AF0E64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09872-B5D3-4DE3-B8F8-211EB5659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BB8B6E-365D-4260-9040-FA7A963BD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9E953A-815B-4D1F-800B-FE027F518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CBECAF-92E3-4064-B01D-51ECAC704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B87120-1564-4697-85A1-E470A8CF7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615984-FC3F-4E7B-9F78-B8BC6A716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C9D644-694A-428E-AF09-32A74C250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8E9BDC-CA5D-4688-BBB3-EE817A449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F42261-44DA-44A8-81F2-F7BB8263E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0E1CAB-9F3C-4C7A-9EAB-0D358BE4B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C7B0BD-EDF0-40A3-84F4-F03117164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34DA8-E248-4766-8261-4F68ED68D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6EC948-0143-4B5A-BB29-D71AF6C14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62DCE7-E085-40CA-A8D2-16FC8C0E9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D14618-48E6-4C46-A5F1-5EBBFEFD4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A350E1-A172-49D3-980E-89C3795D5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A54B8B-1AA0-44BB-8973-4541C7BB8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685865-DC52-4F55-A4E5-AB2759CA5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6633CD-6FDC-4578-B9E5-7F5B9E0C9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5136BB-1D29-4D8F-A486-4F7145C94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E640D1-9513-4248-B57F-F05FD8900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B47260-70DB-4102-A2CF-6702FB244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3124D-F8EC-4983-8DDB-1BA61413A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2596B4-9AC2-4373-8C7A-60E7C41C0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DAE760-7931-48B3-ACA3-2FA9A0F91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1E6AEC-C164-41C5-8F63-C51ECE50E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758F6C-98F2-4FC7-BF3D-4EB14A57A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FC9F35-7D63-4FF0-9A6B-23CE0E986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F5DA06-511B-4FD4-874D-A676EC48A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5A4466-8A3F-404E-B22C-C5BEB5EF4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3FB437-A86B-4CD4-869F-2F2680BCF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3B6DA3-34B5-4F2B-9015-798C67F19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F80EF8-98A3-47F2-B40D-34F7960E6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5092B-9CB6-42AB-BD09-55A9E533E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FE9A1A-260C-4A8B-B1C8-DF5E65380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A508B3-5C5D-4E2F-908E-22CACC1E5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D41F37-EB0F-43D3-A47E-B6F2FA397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4324B7-0210-4072-8AF9-F18834E0C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4D333D-3A18-4B49-BCE6-6C193B1BD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D29BF5-FE9E-42D5-97D3-C9222982B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8831B2-A9C6-46A2-9B1D-B2E170758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66E815-75C9-4766-8E6C-408F912EC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EB9DA6-98F4-4F0B-B210-363A288F1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F2F939-FD10-4045-B03C-8ADF1DB31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B084C-B520-42AC-AD50-5625DE075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AA7627-951D-4D66-9949-E94D95744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9C15A5-7512-4784-A67F-F4EAEE54E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18AA39-797C-48D2-9719-991B79957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57E6C3-4A8E-4FEE-A6A2-5C66C361F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3B405B-F7F4-488E-A126-60A37EA46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C1638C-6763-4F5A-8270-F2B5BBDC7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4D7B45-8B8D-4700-B94B-F70B60A2E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5C262A-178C-49B3-A664-E265B4B0B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F81CA8-A141-44FF-B997-A23EB7A95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8DDFEB-F68C-4436-BB69-86BB1AEEE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F990C-F1B1-4444-93ED-BCCE2F6AB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5E102F-A0EE-435E-9351-3AF2A960D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9CCABA-9725-41C0-BA9F-678042506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333B8A-2AD4-4189-9E22-7E5DBCDA1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C25343-0C85-4836-8029-5EC130EA4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BEB063-8308-4863-AEE7-9620564B3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3EF9B5-E7C1-4D3E-AA0D-2DAE83E63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52967C-0D02-4913-8894-9B9FDA1E4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753E8A-7174-44D9-B872-4A80A2B23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288A6A-5621-4696-85BC-1DA20CC64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93D0BD-061A-40C2-A3C2-DD42C0575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FD398-9EAB-41EB-8EEC-4A777F15E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283B51-602A-42FF-AD84-94CAD75AF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A6C60F-603F-4754-B534-571181994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22ED45-47F0-4490-AA2A-B5EF049F8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40D5F4-6347-4B16-B254-F95D91A42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94EAB7-D487-4504-8B1D-B54925947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8FD852-6C03-4160-BE04-AA2A88AC9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E4D44F-2F2E-4B39-AFA3-341AA6F35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3F1EFD-DCE1-4A97-AA62-42AD9B10E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7777E5-EDD5-45C0-8DD1-42F969D90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EFA427-13E2-419B-A587-1EC3C1D9A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1" name="Freeform 3"/>
            <p:cNvSpPr/>
            <p:nvPr/>
          </p:nvSpPr>
          <p:spPr>
            <a:xfrm>
              <a:off x="5388120" y="158580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-8405640" y="4680"/>
              <a:ext cx="16821000" cy="136908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59935-599B-410F-A3AA-9E62545726F3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6" name="Group 2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397" name="Freeform 3"/>
            <p:cNvSpPr/>
            <p:nvPr/>
          </p:nvSpPr>
          <p:spPr>
            <a:xfrm>
              <a:off x="5388120" y="158580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Arc 4"/>
            <p:cNvSpPr/>
            <p:nvPr/>
          </p:nvSpPr>
          <p:spPr>
            <a:xfrm>
              <a:off x="-8405640" y="4680"/>
              <a:ext cx="16821000" cy="136908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 type="dt" idx="28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 type="ftr" idx="29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 type="sldNum" idx="30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12F24-5657-4A58-AE9C-F968196CB53C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0" name="Group 2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441" name="Freeform 3"/>
            <p:cNvSpPr/>
            <p:nvPr/>
          </p:nvSpPr>
          <p:spPr>
            <a:xfrm>
              <a:off x="5388120" y="158580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Arc 4"/>
            <p:cNvSpPr/>
            <p:nvPr/>
          </p:nvSpPr>
          <p:spPr>
            <a:xfrm>
              <a:off x="-8405640" y="4680"/>
              <a:ext cx="16821000" cy="136908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 type="dt" idx="31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 type="ftr" idx="32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 type="sldNum" idx="33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E39C6-041A-4EC9-A50C-C56101FCD336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4" name="Group 2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485" name="Freeform 3"/>
            <p:cNvSpPr/>
            <p:nvPr/>
          </p:nvSpPr>
          <p:spPr>
            <a:xfrm>
              <a:off x="5388120" y="158580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6" name="Arc 4"/>
            <p:cNvSpPr/>
            <p:nvPr/>
          </p:nvSpPr>
          <p:spPr>
            <a:xfrm>
              <a:off x="-8405640" y="4680"/>
              <a:ext cx="16821000" cy="136908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 type="dt" idx="34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 type="ftr" idx="35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 type="sldNum" idx="36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34128-489E-4EC5-9B64-295C4B2F6AA6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8" name="Group 2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529" name="Freeform 3"/>
            <p:cNvSpPr/>
            <p:nvPr/>
          </p:nvSpPr>
          <p:spPr>
            <a:xfrm>
              <a:off x="5388120" y="158580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0" name="Arc 4"/>
            <p:cNvSpPr/>
            <p:nvPr/>
          </p:nvSpPr>
          <p:spPr>
            <a:xfrm>
              <a:off x="-8405640" y="4680"/>
              <a:ext cx="16821000" cy="136908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 type="dt" idx="37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 type="ftr" idx="38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 type="sldNum" idx="39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54324-D7CB-4AFB-8947-48DE9068C86D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2" name="Group 2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573" name="Freeform 3"/>
            <p:cNvSpPr/>
            <p:nvPr/>
          </p:nvSpPr>
          <p:spPr>
            <a:xfrm>
              <a:off x="5388120" y="158580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Arc 4"/>
            <p:cNvSpPr/>
            <p:nvPr/>
          </p:nvSpPr>
          <p:spPr>
            <a:xfrm>
              <a:off x="-8405640" y="4680"/>
              <a:ext cx="16821000" cy="136908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 type="dt" idx="40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 type="ftr" idx="41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 type="sldNum" idx="42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53905-026B-4722-84C1-791F41612364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6" name="Group 2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617" name="Freeform 3"/>
            <p:cNvSpPr/>
            <p:nvPr/>
          </p:nvSpPr>
          <p:spPr>
            <a:xfrm>
              <a:off x="5388120" y="158580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Arc 4"/>
            <p:cNvSpPr/>
            <p:nvPr/>
          </p:nvSpPr>
          <p:spPr>
            <a:xfrm>
              <a:off x="-8405640" y="4680"/>
              <a:ext cx="16821000" cy="136908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 type="dt" idx="43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 type="ftr" idx="44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3" name="PlaceHolder 5"/>
          <p:cNvSpPr>
            <a:spLocks noGrp="1"/>
          </p:cNvSpPr>
          <p:nvPr>
            <p:ph type="sldNum" idx="45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B5CBA-A12D-4631-B5A8-8BA84A94AB31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0" name="Group 2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661" name="Freeform 3"/>
            <p:cNvSpPr/>
            <p:nvPr/>
          </p:nvSpPr>
          <p:spPr>
            <a:xfrm>
              <a:off x="5388120" y="158580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Arc 4"/>
            <p:cNvSpPr/>
            <p:nvPr/>
          </p:nvSpPr>
          <p:spPr>
            <a:xfrm>
              <a:off x="-8405640" y="4680"/>
              <a:ext cx="16821000" cy="136908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 type="dt" idx="46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 type="ftr" idx="47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7" name="PlaceHolder 5"/>
          <p:cNvSpPr>
            <a:spLocks noGrp="1"/>
          </p:cNvSpPr>
          <p:nvPr>
            <p:ph type="sldNum" idx="48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63D21-17BD-4182-8189-509CAB212CF1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7758000" y="1463760"/>
            <a:ext cx="16902000" cy="10794960"/>
            <a:chOff x="-7758000" y="1463760"/>
            <a:chExt cx="16902000" cy="10794960"/>
          </a:xfrm>
        </p:grpSpPr>
        <p:sp>
          <p:nvSpPr>
            <p:cNvPr id="45" name="Freeform 3"/>
            <p:cNvSpPr/>
            <p:nvPr/>
          </p:nvSpPr>
          <p:spPr>
            <a:xfrm>
              <a:off x="3271680" y="2709720"/>
              <a:ext cx="5872320" cy="4148280"/>
            </a:xfrm>
            <a:prstGeom prst="pie">
              <a:avLst/>
            </a:pr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Arc 4"/>
            <p:cNvSpPr/>
            <p:nvPr/>
          </p:nvSpPr>
          <p:spPr>
            <a:xfrm>
              <a:off x="-7758000" y="1463760"/>
              <a:ext cx="13452480" cy="107949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129528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EF90D-F0F8-4662-8AA6-630DA7EB8A2B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Group 2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89" name="Freeform 3"/>
            <p:cNvSpPr/>
            <p:nvPr/>
          </p:nvSpPr>
          <p:spPr>
            <a:xfrm>
              <a:off x="5388120" y="158580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Arc 4"/>
            <p:cNvSpPr/>
            <p:nvPr/>
          </p:nvSpPr>
          <p:spPr>
            <a:xfrm>
              <a:off x="-8405640" y="4680"/>
              <a:ext cx="16821000" cy="136908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2C2F2-CEA9-4C19-90EB-EFD106CF5472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Group 2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133" name="Freeform 3"/>
            <p:cNvSpPr/>
            <p:nvPr/>
          </p:nvSpPr>
          <p:spPr>
            <a:xfrm>
              <a:off x="5388120" y="158580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Arc 4"/>
            <p:cNvSpPr/>
            <p:nvPr/>
          </p:nvSpPr>
          <p:spPr>
            <a:xfrm>
              <a:off x="-8405640" y="4680"/>
              <a:ext cx="16821000" cy="136908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A5B45-17EA-487D-9DFE-74CCD5839806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2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177" name="Freeform 3"/>
            <p:cNvSpPr/>
            <p:nvPr/>
          </p:nvSpPr>
          <p:spPr>
            <a:xfrm>
              <a:off x="5388120" y="158580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Arc 4"/>
            <p:cNvSpPr/>
            <p:nvPr/>
          </p:nvSpPr>
          <p:spPr>
            <a:xfrm>
              <a:off x="-8405640" y="4680"/>
              <a:ext cx="16821000" cy="136908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4AE04-AD6A-49CA-9F54-183B0204339A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Group 2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221" name="Freeform 3"/>
            <p:cNvSpPr/>
            <p:nvPr/>
          </p:nvSpPr>
          <p:spPr>
            <a:xfrm>
              <a:off x="5388120" y="158580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Arc 4"/>
            <p:cNvSpPr/>
            <p:nvPr/>
          </p:nvSpPr>
          <p:spPr>
            <a:xfrm>
              <a:off x="-8405640" y="4680"/>
              <a:ext cx="16821000" cy="136908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01703-E89C-4DA7-B9A1-4CA13D673B7B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" name="Group 2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265" name="Freeform 3"/>
            <p:cNvSpPr/>
            <p:nvPr/>
          </p:nvSpPr>
          <p:spPr>
            <a:xfrm>
              <a:off x="5388120" y="158580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Arc 4"/>
            <p:cNvSpPr/>
            <p:nvPr/>
          </p:nvSpPr>
          <p:spPr>
            <a:xfrm>
              <a:off x="-8405640" y="4680"/>
              <a:ext cx="16821000" cy="136908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97E14-88CE-476B-8A24-3E26DB10BD92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8" name="Group 2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309" name="Freeform 3"/>
            <p:cNvSpPr/>
            <p:nvPr/>
          </p:nvSpPr>
          <p:spPr>
            <a:xfrm>
              <a:off x="5388120" y="158580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Arc 4"/>
            <p:cNvSpPr/>
            <p:nvPr/>
          </p:nvSpPr>
          <p:spPr>
            <a:xfrm>
              <a:off x="-8405640" y="4680"/>
              <a:ext cx="16821000" cy="136908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D725C-43BE-4409-BBF2-5F329CDA0A93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2" name="Group 2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353" name="Freeform 3"/>
            <p:cNvSpPr/>
            <p:nvPr/>
          </p:nvSpPr>
          <p:spPr>
            <a:xfrm>
              <a:off x="5388120" y="158580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Arc 4"/>
            <p:cNvSpPr/>
            <p:nvPr/>
          </p:nvSpPr>
          <p:spPr>
            <a:xfrm>
              <a:off x="-8405640" y="4680"/>
              <a:ext cx="16821000" cy="136908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 type="dt" idx="25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 type="ftr" idx="26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 type="sldNum" idx="27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967F8-AF96-4053-9B39-12B07BDD1D5B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8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5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6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6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5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WordArt 7"/>
          <p:cNvSpPr txBox="1"/>
          <p:nvPr/>
        </p:nvSpPr>
        <p:spPr>
          <a:xfrm>
            <a:off x="684360" y="1052640"/>
            <a:ext cx="7762680" cy="20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роблема гуманизма</a:t>
            </a:r>
            <a:endParaRPr b="0" lang="en-US" sz="2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 рассказе А. И. Куприна</a:t>
            </a:r>
            <a:endParaRPr b="0" lang="en-US" sz="2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"Чудесный доктор"</a:t>
            </a:r>
            <a:endParaRPr b="0" lang="en-US" sz="2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8080560" cy="100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cc66"/>
                </a:solidFill>
                <a:latin typeface="Arial"/>
              </a:rPr>
              <a:t>Судьба героев</a:t>
            </a:r>
            <a:endParaRPr b="0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725" name="Picture 7" descr="is"/>
          <p:cNvPicPr/>
          <p:nvPr/>
        </p:nvPicPr>
        <p:blipFill>
          <a:blip r:embed="rId1"/>
          <a:stretch/>
        </p:blipFill>
        <p:spPr>
          <a:xfrm>
            <a:off x="6443640" y="3284640"/>
            <a:ext cx="2448000" cy="2809800"/>
          </a:xfrm>
          <a:prstGeom prst="rect">
            <a:avLst/>
          </a:prstGeom>
          <a:ln w="0">
            <a:noFill/>
          </a:ln>
        </p:spPr>
      </p:pic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1834920" y="1413000"/>
            <a:ext cx="5113080" cy="46828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«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С этих пор точно благодетельный ангел снизошёл в нашу семью. Всё переменилось. В начале января отец отыскал место, Машутка встала на ноги, меня с братом удалось пристроить в гимназию на казённый счёт . Просто </a:t>
            </a:r>
            <a:r>
              <a:rPr b="1" i="1" lang="ru-RU" sz="2800" spc="-1" strike="noStrike" u="sng">
                <a:solidFill>
                  <a:srgbClr val="ffffff"/>
                </a:solidFill>
                <a:uFillTx/>
                <a:latin typeface="Times New Roman"/>
              </a:rPr>
              <a:t>чудо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 совершил этот святой человек.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27" name="Picture 9" descr="angel"/>
          <p:cNvPicPr/>
          <p:nvPr/>
        </p:nvPicPr>
        <p:blipFill>
          <a:blip r:embed="rId2"/>
          <a:stretch/>
        </p:blipFill>
        <p:spPr>
          <a:xfrm>
            <a:off x="324000" y="260280"/>
            <a:ext cx="1584000" cy="172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Цель и задачи урока: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ознакомиться с жанром рождественского рассказ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Рассмотреть проблему гуманного отношения к личности, поднятую в рассказе А. И. Куприна «Чудесный доктор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роследить судьбы героев рассказ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7" name="Picture 9" descr="Куприн А.И."/>
          <p:cNvPicPr/>
          <p:nvPr/>
        </p:nvPicPr>
        <p:blipFill>
          <a:blip r:embed="rId1"/>
          <a:stretch/>
        </p:blipFill>
        <p:spPr>
          <a:xfrm>
            <a:off x="900000" y="549360"/>
            <a:ext cx="1905120" cy="2705040"/>
          </a:xfrm>
          <a:prstGeom prst="rect">
            <a:avLst/>
          </a:prstGeom>
          <a:ln w="0">
            <a:noFill/>
          </a:ln>
        </p:spPr>
      </p:pic>
      <p:sp>
        <p:nvSpPr>
          <p:cNvPr id="708" name="Text Box 14"/>
          <p:cNvSpPr/>
          <p:nvPr/>
        </p:nvSpPr>
        <p:spPr>
          <a:xfrm>
            <a:off x="5487840" y="33066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9" name="WordArt 15"/>
          <p:cNvSpPr txBox="1"/>
          <p:nvPr/>
        </p:nvSpPr>
        <p:spPr>
          <a:xfrm>
            <a:off x="3564000" y="1628640"/>
            <a:ext cx="4076640" cy="342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ccff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На свете есть </a:t>
            </a:r>
            <a:endParaRPr b="0" lang="en-US" sz="1800" spc="1" strike="noStrike">
              <a:ln w="0">
                <a:noFill/>
              </a:ln>
              <a:solidFill>
                <a:srgbClr val="ccff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ccff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добрые люди,</a:t>
            </a:r>
            <a:endParaRPr b="0" lang="en-US" sz="1800" spc="1" strike="noStrike">
              <a:ln w="0">
                <a:noFill/>
              </a:ln>
              <a:solidFill>
                <a:srgbClr val="ccff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ccff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стреча с которыми</a:t>
            </a:r>
            <a:endParaRPr b="0" lang="en-US" sz="1800" spc="1" strike="noStrike">
              <a:ln w="0">
                <a:noFill/>
              </a:ln>
              <a:solidFill>
                <a:srgbClr val="ccff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ccff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ожет стать </a:t>
            </a:r>
            <a:endParaRPr b="0" lang="en-US" sz="1800" spc="1" strike="noStrike">
              <a:ln w="0">
                <a:noFill/>
              </a:ln>
              <a:solidFill>
                <a:srgbClr val="ccff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ccff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настоящим чудом</a:t>
            </a:r>
            <a:endParaRPr b="0" lang="en-US" sz="1800" spc="1" strike="noStrike">
              <a:ln w="0">
                <a:noFill/>
              </a:ln>
              <a:solidFill>
                <a:srgbClr val="ccff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ccff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А.М.Розов</a:t>
            </a:r>
            <a:endParaRPr b="0" lang="en-US" sz="1800" spc="1" strike="noStrike">
              <a:ln w="0">
                <a:noFill/>
              </a:ln>
              <a:solidFill>
                <a:srgbClr val="ccff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Чудесный 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Times New Roman"/>
              </a:rPr>
              <a:t>Являющийся чудом, сверхъестественный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Times New Roman"/>
              </a:rPr>
              <a:t>Полный чудес, удивительный, необычный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Times New Roman"/>
              </a:rPr>
              <a:t>Чудный, замечательный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Times New Roman"/>
              </a:rPr>
              <a:t>Небольшое произведение, в котором повествуется о судьбе, поступках и мыслях героев в соответствии с евангельскими заповедями. Действие таких рассказов приурочено к Рождественским праздникам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3" name="WordArt 4"/>
          <p:cNvSpPr txBox="1"/>
          <p:nvPr/>
        </p:nvSpPr>
        <p:spPr>
          <a:xfrm>
            <a:off x="1619280" y="476280"/>
            <a:ext cx="590544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Рождественский рассказ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/>
          </p:nvPr>
        </p:nvSpPr>
        <p:spPr>
          <a:xfrm>
            <a:off x="682200" y="1052280"/>
            <a:ext cx="5257800" cy="50432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«…В</a:t>
            </a:r>
            <a:r>
              <a:rPr b="1" i="1" lang="ru-RU" sz="3600" spc="-1" strike="noStrike">
                <a:solidFill>
                  <a:srgbClr val="ffffff"/>
                </a:solidFill>
                <a:latin typeface="Times New Roman"/>
              </a:rPr>
              <a:t>ысокая, худая женщина, с измождённым, усталым, точно почерневшим от горя лицом. Три месяца назад умерла одна девочка, теперь другая лежит в жару и без сознания…»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15" name="Picture 7" descr="CAIFOL6F"/>
          <p:cNvPicPr/>
          <p:nvPr/>
        </p:nvPicPr>
        <p:blipFill>
          <a:blip r:embed="rId1"/>
          <a:stretch/>
        </p:blipFill>
        <p:spPr>
          <a:xfrm>
            <a:off x="6227640" y="1413000"/>
            <a:ext cx="2665440" cy="417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/>
          </p:nvPr>
        </p:nvSpPr>
        <p:spPr>
          <a:xfrm>
            <a:off x="3492000" y="1052640"/>
            <a:ext cx="5327640" cy="5184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«Он ничего не искал, ни на что не надеялся,…им овладело неудержимое  желание бежать куда попало, чтобы только не видеть молчаливого отчаяния голодной семьи…Мысль о самоубийстве совершенно ясно встала в его голове. Но он не ужаснулся этой мысли, ни на мгновение не содрогнулся перед мраком неизвестного.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«Чем погибать медленно, так не лучше ли избрать более краткий путь?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«Машинально он свернул в калитку и, пройдя длинную аллею лип, …опустился на низкую садовую скамейку…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17" name="Picture 7" descr="images"/>
          <p:cNvPicPr/>
          <p:nvPr/>
        </p:nvPicPr>
        <p:blipFill>
          <a:blip r:embed="rId1"/>
          <a:stretch/>
        </p:blipFill>
        <p:spPr>
          <a:xfrm>
            <a:off x="611280" y="1268280"/>
            <a:ext cx="2663640" cy="4033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8" name="Picture 4" descr="i"/>
          <p:cNvPicPr/>
          <p:nvPr/>
        </p:nvPicPr>
        <p:blipFill>
          <a:blip r:embed="rId1"/>
          <a:stretch/>
        </p:blipFill>
        <p:spPr>
          <a:xfrm>
            <a:off x="611280" y="692280"/>
            <a:ext cx="1800000" cy="1944720"/>
          </a:xfrm>
          <a:prstGeom prst="rect">
            <a:avLst/>
          </a:prstGeom>
          <a:ln w="0">
            <a:noFill/>
          </a:ln>
        </p:spPr>
      </p:pic>
      <p:sp>
        <p:nvSpPr>
          <p:cNvPr id="719" name="PlaceHolder 1"/>
          <p:cNvSpPr>
            <a:spLocks noGrp="1"/>
          </p:cNvSpPr>
          <p:nvPr>
            <p:ph/>
          </p:nvPr>
        </p:nvSpPr>
        <p:spPr>
          <a:xfrm>
            <a:off x="2627280" y="836640"/>
            <a:ext cx="5472000" cy="46195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7000"/>
          </a:bodyPr>
          <a:p>
            <a:pPr marL="332640" indent="-332640">
              <a:lnSpc>
                <a:spcPct val="70000"/>
              </a:lnSpc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«В конце аллеи послышался скрип шагов…»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70000"/>
              </a:lnSpc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«Старик небольшого роста…»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70000"/>
              </a:lnSpc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«Голос у него был мягкий, ласковый, старческий…»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70000"/>
              </a:lnSpc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«Внушающее доверие лицо…»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70000"/>
              </a:lnSpc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«Он пытливо заглядывал в глаза, точно желая проникнуть в глубь наболевшей души…»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70000"/>
              </a:lnSpc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«Вдруг юношеским движением вскочил с своего места…»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70000"/>
              </a:lnSpc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«Ласково погладил Елизавету Ивановну по спине…»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70000"/>
              </a:lnSpc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«Что – то написал на клочке бумажки, …быстро сунул свои ноги в глубокие калоши и надел пальто…»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70000"/>
              </a:lnSpc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«Мерцалов водил в воздухе руками, чтобы поймать невидимого доктора…»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70000"/>
              </a:lnSpc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«Его ожидал сюрприз…»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/>
          </p:nvPr>
        </p:nvSpPr>
        <p:spPr>
          <a:xfrm>
            <a:off x="684000" y="1557360"/>
            <a:ext cx="3809880" cy="439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Врач, основоположник военно – полевой хирургии, хирург, анатом, педагог, общественный деятель, способствующий организации движения сестёр милосердия в России в период военных действий в Крыму в 1853 – 1856 г. г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1" name=""/>
          <p:cNvSpPr txBox="1"/>
          <p:nvPr/>
        </p:nvSpPr>
        <p:spPr>
          <a:xfrm>
            <a:off x="4643280" y="1557360"/>
            <a:ext cx="3810240" cy="4176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22" name="Picture 8" descr="lomonosov151"/>
          <p:cNvPicPr/>
          <p:nvPr/>
        </p:nvPicPr>
        <p:blipFill>
          <a:blip r:embed="rId1"/>
          <a:stretch/>
        </p:blipFill>
        <p:spPr>
          <a:xfrm>
            <a:off x="4859280" y="1557360"/>
            <a:ext cx="3384720" cy="4248000"/>
          </a:xfrm>
          <a:prstGeom prst="rect">
            <a:avLst/>
          </a:prstGeom>
          <a:ln w="0">
            <a:noFill/>
          </a:ln>
        </p:spPr>
      </p:pic>
      <p:sp>
        <p:nvSpPr>
          <p:cNvPr id="723" name="PlaceHolder 2"/>
          <p:cNvSpPr>
            <a:spLocks noGrp="1"/>
          </p:cNvSpPr>
          <p:nvPr>
            <p:ph type="title"/>
          </p:nvPr>
        </p:nvSpPr>
        <p:spPr>
          <a:xfrm>
            <a:off x="682560" y="-360"/>
            <a:ext cx="8080560" cy="126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cc66"/>
                </a:solidFill>
                <a:latin typeface="Arial"/>
              </a:rPr>
              <a:t>Николай Иванович Пирогов</a:t>
            </a:r>
            <a:br>
              <a:rPr sz="4000"/>
            </a:br>
            <a:r>
              <a:rPr b="1" i="1" lang="ru-RU" sz="3200" spc="-1" strike="noStrike">
                <a:solidFill>
                  <a:srgbClr val="ffcc66"/>
                </a:solidFill>
                <a:latin typeface="Arial"/>
              </a:rPr>
              <a:t>(1810 – 1881)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4T08:44:46Z</dcterms:created>
  <dc:creator>c</dc:creator>
  <dc:description/>
  <dc:language>en-US</dc:language>
  <cp:lastModifiedBy>Admin</cp:lastModifiedBy>
  <dcterms:modified xsi:type="dcterms:W3CDTF">2009-05-07T16:20:00Z</dcterms:modified>
  <cp:revision>31</cp:revision>
  <dc:subject/>
  <dc:title>Слайд 1</dc:title>
</cp:coreProperties>
</file>