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955-6652-4609-BD34-728640E0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78E-3B9F-43DA-9CBB-CD41400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99F-87F9-4D51-BB0E-C4E8D478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B7A-07DB-41BA-9548-34AE4B54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70E-532A-462C-A147-7491044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F98-DCDE-47F8-8904-17E1F74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907-FF8E-4BA1-8361-F985FE1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EC-2209-4972-B26D-18E2DE36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848-BCC6-4401-BCC0-EB858F9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C2E-14F8-4A45-8034-BE8A735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8DF-77A2-46DA-8C2A-88E2DF9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5AE-7212-4467-B0E1-D8775F4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2AF-D0A8-43FD-9070-734082450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959800">
            <a:off x="928080" y="1672560"/>
            <a:ext cx="7412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Линейная функция и ее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2898720" cy="352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RCTR496"/>
          <p:cNvPicPr/>
          <p:nvPr/>
        </p:nvPicPr>
        <p:blipFill>
          <a:blip r:embed="rId2"/>
          <a:stretch/>
        </p:blipFill>
        <p:spPr>
          <a:xfrm flipH="1">
            <a:off x="179280" y="189000"/>
            <a:ext cx="936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ить 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23(в,г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20(в,г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15(в,г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16(в,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RCTR496"/>
          <p:cNvPicPr/>
          <p:nvPr/>
        </p:nvPicPr>
        <p:blipFill>
          <a:blip r:embed="rId1"/>
          <a:stretch/>
        </p:blipFill>
        <p:spPr>
          <a:xfrm flipH="1">
            <a:off x="142560" y="142920"/>
            <a:ext cx="7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RCTR142"/>
          <p:cNvPicPr/>
          <p:nvPr/>
        </p:nvPicPr>
        <p:blipFill>
          <a:blip r:embed="rId2"/>
          <a:stretch/>
        </p:blipFill>
        <p:spPr>
          <a:xfrm>
            <a:off x="4929120" y="1571760"/>
            <a:ext cx="42148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ьте вы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кладе 500 тонн угля. Ежедневно стали подвозить по 30 тон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угля (у) будет на складе через 2, 4, 10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=2*30+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=4*30+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=10*30+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=х*30+500, х - натура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RCTR496"/>
          <p:cNvPicPr/>
          <p:nvPr/>
        </p:nvPicPr>
        <p:blipFill>
          <a:blip r:embed="rId1"/>
          <a:stretch/>
        </p:blipFill>
        <p:spPr>
          <a:xfrm flipH="1">
            <a:off x="179280" y="333360"/>
            <a:ext cx="549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вы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ладе было 500 тонн угля. Ежедневно стали увозить по 30 тонн угля. Сколько угля (у) будет на складе через х 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 500-30х,  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числите значение у при х=2,при х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CTR496"/>
          <p:cNvPicPr/>
          <p:nvPr/>
        </p:nvPicPr>
        <p:blipFill>
          <a:blip r:embed="rId1"/>
          <a:stretch/>
        </p:blipFill>
        <p:spPr>
          <a:xfrm flipH="1">
            <a:off x="250560" y="189000"/>
            <a:ext cx="64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урист проехал на автобусе 15 км от пункта А до пункта В, а затем продолжил движение из пункта В в том же направ-лении, но уже пешком, со скоростью 4 км/ч. На каком расстоянии (у) от пункта А будет турист через х часов ходь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15+4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числите значение у при х=2, при х=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RCTR496"/>
          <p:cNvPicPr/>
          <p:nvPr/>
        </p:nvPicPr>
        <p:blipFill>
          <a:blip r:embed="rId1"/>
          <a:stretch/>
        </p:blipFill>
        <p:spPr>
          <a:xfrm flipH="1">
            <a:off x="178920" y="189000"/>
            <a:ext cx="792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=30х+500, х - натуральное числ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= 500-30х,  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=15+4х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+m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котор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нейная функция-функция вида у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x+m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,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- независимая переменная(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аргу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- зависимая переменная(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RCTR496"/>
          <p:cNvPicPr/>
          <p:nvPr/>
        </p:nvPicPr>
        <p:blipFill>
          <a:blip r:embed="rId1"/>
          <a:stretch/>
        </p:blipFill>
        <p:spPr>
          <a:xfrm flipH="1">
            <a:off x="250560" y="260280"/>
            <a:ext cx="64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е какие выражения являются линейной функцией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овите коэффициен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55640" y="3213000"/>
                <a:ext cx="2448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" name="Picture 4" descr="CRCTR496"/>
          <p:cNvPicPr/>
          <p:nvPr/>
        </p:nvPicPr>
        <p:blipFill>
          <a:blip r:embed="rId1"/>
          <a:stretch/>
        </p:blipFill>
        <p:spPr>
          <a:xfrm flipH="1">
            <a:off x="-360" y="189000"/>
            <a:ext cx="755640" cy="165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611280" y="2133720"/>
                <a:ext cx="273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755640" y="4292640"/>
                <a:ext cx="259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0"/>
              <p:cNvSpPr txBox="1"/>
              <p:nvPr/>
            </p:nvSpPr>
            <p:spPr>
              <a:xfrm>
                <a:off x="755640" y="5445000"/>
                <a:ext cx="2664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1"/>
              <p:cNvSpPr txBox="1"/>
              <p:nvPr/>
            </p:nvSpPr>
            <p:spPr>
              <a:xfrm>
                <a:off x="4788000" y="3357720"/>
                <a:ext cx="2736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2"/>
              <p:cNvSpPr txBox="1"/>
              <p:nvPr/>
            </p:nvSpPr>
            <p:spPr>
              <a:xfrm>
                <a:off x="4716360" y="2133720"/>
                <a:ext cx="2808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4859280" y="4221000"/>
                <a:ext cx="2665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4716360" y="5445000"/>
                <a:ext cx="3168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значение линейной функции при заданном значении аргу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У=5х+6 при х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У=2х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те точки с данными координатами. Проведите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графиком линейной фун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42920" y="2565360"/>
          <a:ext cx="4038840" cy="136836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51" descr="CRCTR496"/>
          <p:cNvPicPr/>
          <p:nvPr/>
        </p:nvPicPr>
        <p:blipFill>
          <a:blip r:embed="rId1"/>
          <a:stretch/>
        </p:blipFill>
        <p:spPr>
          <a:xfrm flipH="1">
            <a:off x="-360" y="0"/>
            <a:ext cx="7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йте график линейной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16000" y="4292640"/>
                <a:ext cx="37450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3" name="Picture 6" descr="CRCTR496"/>
          <p:cNvPicPr/>
          <p:nvPr/>
        </p:nvPicPr>
        <p:blipFill>
          <a:blip r:embed="rId1"/>
          <a:stretch/>
        </p:blipFill>
        <p:spPr>
          <a:xfrm flipH="1">
            <a:off x="-360" y="571680"/>
            <a:ext cx="75564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3024000" cy="24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042920" y="1413000"/>
                <a:ext cx="40388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 уро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68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сегодня узн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те определение линейной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является графиком линей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остроить график линей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RCTR496"/>
          <p:cNvPicPr/>
          <p:nvPr/>
        </p:nvPicPr>
        <p:blipFill>
          <a:blip r:embed="rId1"/>
          <a:stretch/>
        </p:blipFill>
        <p:spPr>
          <a:xfrm flipH="1">
            <a:off x="356760" y="0"/>
            <a:ext cx="7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RCTR142"/>
          <p:cNvPicPr/>
          <p:nvPr/>
        </p:nvPicPr>
        <p:blipFill>
          <a:blip r:embed="rId2"/>
          <a:stretch/>
        </p:blipFill>
        <p:spPr>
          <a:xfrm>
            <a:off x="6643800" y="3776760"/>
            <a:ext cx="2357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5T18:06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