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5B2-4156-41C2-A166-FCD7E53E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1D5-3D4F-486D-A55B-59479995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5C0-1550-4C44-B4B5-3B30F982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A88-75AF-421B-BB6C-73926E78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ACBA-C812-44EC-B4A2-765B0DDA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978-488B-48F2-989F-08627127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353-4424-4EC1-BAAD-E98B2C5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A0D2-B9AB-4B74-A252-6D2A869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EB82-6DD4-411A-9664-A355886C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1E3E-EE4C-4F24-90E0-3CC4A0A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3EE1-F346-4E99-A260-9D8F495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FB9-1A0E-4E44-8F8A-FDC5B0D1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6871-146A-43BB-9606-89807CE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4E5-FC80-4673-BCDD-EB144A21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08F-AA23-4EBE-BEE9-B8C668ED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3671-57E9-459E-942E-036268EA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D39C-4C33-47A6-9DF6-0DD96889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E65DA-B0F7-4E2E-A898-87C45C99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7FA71-E049-42F7-911E-77BA239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9BC76-AC61-435E-970B-34DFD27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F960A-B833-4EA3-B645-A2D1CA03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BB9BD-AF87-4D72-8969-C3A1602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7EF-0FBC-4293-954B-039D80C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9EB77-90B5-42D1-80DE-9E140EDA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BC957-ED85-4CF3-9CE5-31D0345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6A628-3E34-4941-8EDE-2B41EDC1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7D8BA-3681-4964-8DFD-51EB5E7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BADF7-3456-4E79-A49B-CA076BBD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EF32B-E28B-43A9-99AC-3CE7828B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B16E4-4678-46D7-A520-DAE4A510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65E4-1610-4A2B-A152-6723034F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17B1-381D-43BD-907B-7C260D83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EE2E-A507-4FD8-890E-13B83A5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F0F-D1D5-4BD9-BD0C-509D017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4780-B039-4DF4-BB45-E24845B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C99F-5736-4F1D-9E23-348B31E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61E1-AC11-4E32-A7BB-67E693E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7B35-063D-45BE-AF0E-F75CFC3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0FC8-2832-4C82-BEE6-CFCBB9D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6771-7AAF-4DC8-994A-C8313C76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13AC-1D79-4A5D-B542-A544F094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C9EA-3FE1-4C69-9B42-2F862BA7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15C2-3BC7-42D8-B903-EE5871A3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BEF42-5416-4051-BFC0-1584BC1B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54A-1CAC-4800-8CC3-945A3A9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99B0F-8EE7-4504-AEBB-769A9983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CB016-2539-4866-8C31-0549D97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D6423-2DAC-4688-890C-99A48B3E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BC178-56D7-48AA-9E56-D8BC1A1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0FB67-C0DB-4762-ABC9-7C85490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3A603-7C9C-4B87-8AE4-7D23FF1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CB7FD-54A0-470D-985A-2D62740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AB331-C8F2-41DA-96EB-17115DF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12118-2D06-47CC-B5BA-C8E2CC7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23789-022F-47AD-BE1E-0BF9B804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9A6-5F97-4CFC-A1B1-4D36B1B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CD9E1-A4B8-4C8E-AB61-6E1637D8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E4622-A3FC-4F22-84E9-41717684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4572C-2132-4A61-8181-D050478F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BCA6E-44C4-4ABB-926D-932F0650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8A966-6D0D-40F7-8607-A9765493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73180-9DAD-453E-BC43-A69A239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BDFC7-F214-47DD-BEA6-BA691B8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BE9AF-890A-4356-8B0D-DBA561C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584BD-E32E-44FB-B823-C9881C5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FBD16-5FAB-4822-A6F6-9192CE8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55B-6068-41A0-B531-3490AE21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CDAB3-8C26-4ADE-BCF6-1021A3DB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AF20A-7397-4189-9FBF-57BA9FB6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652F8-3683-47C2-9F6C-30B705BC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BD0A1-F4FF-46D7-A033-394DD52E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3D075-43B2-4519-A919-8DBAC3B3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A6115-76E4-460B-BB6F-6034CF7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BDBE0-B3B6-4F1B-9E78-93EEECAC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DB1EE-32C8-4F5E-9813-00B0DEB4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152CD-AFE4-4BF0-9F2C-9F41FD1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5E17C-1CA9-4E87-9B65-5E4567E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1B3-56FC-4264-BB4B-D85A777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A19F4-F973-448A-B24E-B64CE55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A6433-CD78-4F1A-BE27-F360E38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D99FC-D549-4E3C-8760-CD5ADC6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906BB-217C-455D-9846-6B1AB832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CEF6F-1179-4DD9-9C29-2EE622A2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E506-6F52-410F-A248-53548170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496E9-6086-4A63-91C3-CE05FE26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397A-B544-4D0A-A665-421747B6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B10F-1994-41D1-961F-1B0230F3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2B107-DFAA-44A4-B6EC-AA307C3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92D-7F9F-4A81-8A6D-D4798A45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59841-0142-4B1A-A32D-9950B01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501D-E0B5-4056-BFD9-5155752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0F04D-7ABF-4D5A-95B2-76BD2A7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01CC-2CC6-41A0-9680-B04A504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671C-DC98-46A4-9CAF-B216215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E9317-F499-4091-9FC0-03298ED1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2098-AC67-4F36-B794-40CC8F02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ECC2-EDB1-477E-85EF-09B4768310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8F6-5CA8-4C4B-B520-4D18663D42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712-B0FA-4A74-AA4B-A7F19DDDFC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9CCB-28DD-4F50-B384-75A20555F4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3C95-3955-47A6-9B88-481D6CB726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DB2-FBA5-4862-AC67-33B82F1958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7061-2DD2-4A03-82DF-F15D8B2B6B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1EA-F444-496B-9C60-01D37D604C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04.radikal.ru/i207/1001/3f/e14be382d0df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90.beon.ru/34/42/144234/87/17124187/0.jpe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seedoff.net/9d87239942aaa9a15181174fe0271477d5130ef2.jpe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open.az/uploads/posts/2008-05/thumbs/1210664843_img068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hyperlink" Target="http://www.segodnya.ua/img/forall/a/120711/3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48.radikal.ru/i122/0908/20/e48d525193dd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avno.ru/postcards/anyecard/ecardprodimage/bd6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4/782/34782868_01211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trozo.ru/wp-content/uploads/2010/01/1319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s002.radikal.ru/i199/1001/76/80d13b55b56b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entury Schoolbook"/>
              </a:rPr>
              <a:t>КАК МЫ ПРАЗДНУЕМ 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Century Schoolbook"/>
              </a:rPr>
              <a:t>ДЕНЬ РОЖДЕНИЯ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00"/>
                </a:solidFill>
                <a:latin typeface="Century Schoolbook"/>
              </a:rPr>
              <a:t>WHO MAKES TASTY THINGS?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6" name="Picture 2" descr="http://www.ideal-figura.ru/sites/default/files/kuhna_big.jpg"/>
          <p:cNvPicPr/>
          <p:nvPr/>
        </p:nvPicPr>
        <p:blipFill>
          <a:blip r:embed="rId1"/>
          <a:stretch/>
        </p:blipFill>
        <p:spPr>
          <a:xfrm>
            <a:off x="2571840" y="1643040"/>
            <a:ext cx="3143160" cy="3143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47" name="Скругленный прямоугольник 4"/>
          <p:cNvSpPr/>
          <p:nvPr/>
        </p:nvSpPr>
        <p:spPr>
          <a:xfrm>
            <a:off x="1357200" y="5286240"/>
            <a:ext cx="607248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We do i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Berlin Sans FB"/>
              </a:rPr>
              <a:t>WE DANCE A LOT!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2" descr="Картинка 476 из 652526"/>
          <p:cNvPicPr/>
          <p:nvPr/>
        </p:nvPicPr>
        <p:blipFill>
          <a:blip r:embed="rId1"/>
          <a:stretch/>
        </p:blipFill>
        <p:spPr>
          <a:xfrm>
            <a:off x="2714760" y="1571760"/>
            <a:ext cx="3786120" cy="5030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Картинка 568 из 652526"/>
          <p:cNvPicPr/>
          <p:nvPr/>
        </p:nvPicPr>
        <p:blipFill>
          <a:blip r:embed="rId1"/>
          <a:stretch/>
        </p:blipFill>
        <p:spPr>
          <a:xfrm>
            <a:off x="1285920" y="1643040"/>
            <a:ext cx="6364080" cy="4238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entury Schoolbook"/>
              </a:rPr>
              <a:t>WE HAVE A LOT OF FUN!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37"/>
                </a:solidFill>
                <a:latin typeface="Century Schoolbook"/>
              </a:rPr>
              <a:t>WE PLAY GAMES!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Picture 2" descr="Картинка 14 из 2757"/>
          <p:cNvPicPr/>
          <p:nvPr/>
        </p:nvPicPr>
        <p:blipFill>
          <a:blip r:embed="rId1"/>
          <a:stretch/>
        </p:blipFill>
        <p:spPr>
          <a:xfrm>
            <a:off x="1928880" y="1857240"/>
            <a:ext cx="5076720" cy="3810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4" name="Скругленный прямоугольник 3"/>
          <p:cNvSpPr/>
          <p:nvPr/>
        </p:nvSpPr>
        <p:spPr>
          <a:xfrm>
            <a:off x="1143000" y="5786280"/>
            <a:ext cx="664380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What games do you like to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Berlin Sans FB Demi"/>
              </a:rPr>
              <a:t>HAPPY BIRTHDAY TO YOU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adley Hand ITC"/>
              </a:rPr>
              <a:t>Many happy returns of the day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2" descr="http://s4.images.drive2.ru/user.blog.photos/7800/000/000/035/3f9/88cc713bfaf874c9-large.jpg"/>
          <p:cNvPicPr/>
          <p:nvPr/>
        </p:nvPicPr>
        <p:blipFill>
          <a:blip r:embed="rId1"/>
          <a:stretch/>
        </p:blipFill>
        <p:spPr>
          <a:xfrm rot="20658600">
            <a:off x="557280" y="2036520"/>
            <a:ext cx="2643120" cy="1844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58" name="Picture 4" descr="Картинка 156 из 16727"/>
          <p:cNvPicPr/>
          <p:nvPr/>
        </p:nvPicPr>
        <p:blipFill>
          <a:blip r:embed="rId2"/>
          <a:stretch/>
        </p:blipFill>
        <p:spPr>
          <a:xfrm>
            <a:off x="3857760" y="2571840"/>
            <a:ext cx="2143080" cy="1427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59" name="Picture 6" descr="Картинка 202 из 16727"/>
          <p:cNvPicPr/>
          <p:nvPr/>
        </p:nvPicPr>
        <p:blipFill>
          <a:blip r:embed="rId3"/>
          <a:stretch/>
        </p:blipFill>
        <p:spPr>
          <a:xfrm rot="986400">
            <a:off x="6345000" y="1580760"/>
            <a:ext cx="2344680" cy="1760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rlin Sans FB Demi"/>
              </a:rPr>
              <a:t>HOW WE CELEBRATE BIRTHDAY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2" descr="Картинка 6 из 652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1857240"/>
            <a:ext cx="607212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EN IS YOUR BIRTHDAY</a:t>
            </a:r>
            <a:r>
              <a:rPr b="1" lang="en-US" sz="3600" spc="-1" strike="noStrike">
                <a:solidFill>
                  <a:srgbClr val="575f6d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2895480" cy="1676520"/>
          </a:xfrm>
          <a:prstGeom prst="rect">
            <a:avLst/>
          </a:prstGeom>
          <a:gradFill rotWithShape="0">
            <a:gsLst>
              <a:gs pos="0">
                <a:srgbClr val="ffffd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y birth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on the …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64" descr="гриб"/>
          <p:cNvPicPr/>
          <p:nvPr/>
        </p:nvPicPr>
        <p:blipFill>
          <a:blip r:embed="rId1"/>
          <a:stretch/>
        </p:blipFill>
        <p:spPr>
          <a:xfrm>
            <a:off x="5486400" y="56386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3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1222200" cy="1752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9" descr="лесные ягоды"/>
          <p:cNvPicPr/>
          <p:nvPr/>
        </p:nvPicPr>
        <p:blipFill>
          <a:blip r:embed="rId3"/>
          <a:stretch/>
        </p:blipFill>
        <p:spPr>
          <a:xfrm>
            <a:off x="5867280" y="3886200"/>
            <a:ext cx="1447920" cy="1357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7" descr=""/>
          <p:cNvPicPr/>
          <p:nvPr/>
        </p:nvPicPr>
        <p:blipFill>
          <a:blip r:embed="rId4"/>
          <a:stretch/>
        </p:blipFill>
        <p:spPr>
          <a:xfrm>
            <a:off x="3657600" y="3809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3" descr="подснежники"/>
          <p:cNvPicPr/>
          <p:nvPr/>
        </p:nvPicPr>
        <p:blipFill>
          <a:blip r:embed="rId5"/>
          <a:stretch/>
        </p:blipFill>
        <p:spPr>
          <a:xfrm>
            <a:off x="6172200" y="2362320"/>
            <a:ext cx="1676520" cy="1084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2" descr="скворцы прилетели"/>
          <p:cNvPicPr/>
          <p:nvPr/>
        </p:nvPicPr>
        <p:blipFill>
          <a:blip r:embed="rId6"/>
          <a:stretch/>
        </p:blipFill>
        <p:spPr>
          <a:xfrm>
            <a:off x="4038480" y="2286000"/>
            <a:ext cx="1193760" cy="1371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7" descr="снеговик"/>
          <p:cNvPicPr/>
          <p:nvPr/>
        </p:nvPicPr>
        <p:blipFill>
          <a:blip r:embed="rId7"/>
          <a:stretch/>
        </p:blipFill>
        <p:spPr>
          <a:xfrm>
            <a:off x="5943600" y="914400"/>
            <a:ext cx="847800" cy="1343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5" descr="снежинка1"/>
          <p:cNvPicPr/>
          <p:nvPr/>
        </p:nvPicPr>
        <p:blipFill>
          <a:blip r:embed="rId8"/>
          <a:stretch/>
        </p:blipFill>
        <p:spPr>
          <a:xfrm>
            <a:off x="2743200" y="838080"/>
            <a:ext cx="1486080" cy="1359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0"/>
          <p:cNvSpPr/>
          <p:nvPr/>
        </p:nvSpPr>
        <p:spPr>
          <a:xfrm>
            <a:off x="6705720" y="1447920"/>
            <a:ext cx="22096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762120" y="1371600"/>
            <a:ext cx="236196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3962520" y="1447920"/>
            <a:ext cx="20574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49"/>
          <p:cNvSpPr/>
          <p:nvPr/>
        </p:nvSpPr>
        <p:spPr>
          <a:xfrm>
            <a:off x="2514600" y="2666880"/>
            <a:ext cx="160020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0"/>
          <p:cNvSpPr/>
          <p:nvPr/>
        </p:nvSpPr>
        <p:spPr>
          <a:xfrm>
            <a:off x="5181480" y="25909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1"/>
          <p:cNvSpPr/>
          <p:nvPr/>
        </p:nvSpPr>
        <p:spPr>
          <a:xfrm>
            <a:off x="723888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4"/>
          <p:cNvSpPr/>
          <p:nvPr/>
        </p:nvSpPr>
        <p:spPr>
          <a:xfrm>
            <a:off x="2514600" y="4267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5"/>
          <p:cNvSpPr/>
          <p:nvPr/>
        </p:nvSpPr>
        <p:spPr>
          <a:xfrm>
            <a:off x="4800600" y="4343400"/>
            <a:ext cx="1219320" cy="533520"/>
          </a:xfrm>
          <a:prstGeom prst="rect">
            <a:avLst/>
          </a:prstGeom>
          <a:gradFill rotWithShape="0">
            <a:gsLst>
              <a:gs pos="0">
                <a:srgbClr val="ffd2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6"/>
          <p:cNvSpPr/>
          <p:nvPr/>
        </p:nvSpPr>
        <p:spPr>
          <a:xfrm>
            <a:off x="7162920" y="4419720"/>
            <a:ext cx="1676160" cy="53316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0"/>
          <p:cNvSpPr/>
          <p:nvPr/>
        </p:nvSpPr>
        <p:spPr>
          <a:xfrm>
            <a:off x="380880" y="5715000"/>
            <a:ext cx="25909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1"/>
          <p:cNvSpPr/>
          <p:nvPr/>
        </p:nvSpPr>
        <p:spPr>
          <a:xfrm>
            <a:off x="3962520" y="5715000"/>
            <a:ext cx="198108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62"/>
          <p:cNvSpPr/>
          <p:nvPr/>
        </p:nvSpPr>
        <p:spPr>
          <a:xfrm>
            <a:off x="6553080" y="5715000"/>
            <a:ext cx="23623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c00000"/>
                </a:solidFill>
                <a:latin typeface="Century Schoolbook"/>
              </a:rPr>
              <a:t>WE SING BIRTHDAY SONGS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Picture 2" descr="Картинка 9 из 652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714680"/>
            <a:ext cx="7215120" cy="4332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entury Schoolbook"/>
              </a:rPr>
              <a:t>What songs do you usually sing?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2" descr="Картинка 10 из 25046">
            <a:hlinkClick r:id="rId1"/>
          </p:cNvPr>
          <p:cNvPicPr/>
          <p:nvPr/>
        </p:nvPicPr>
        <p:blipFill>
          <a:blip r:embed="rId2"/>
          <a:stretch/>
        </p:blipFill>
        <p:spPr>
          <a:xfrm rot="20386800">
            <a:off x="684000" y="3543120"/>
            <a:ext cx="2315880" cy="2309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8" name="Picture 4" descr="Картинка 32 из 25046">
            <a:hlinkClick r:id="rId3"/>
          </p:cNvPr>
          <p:cNvPicPr/>
          <p:nvPr/>
        </p:nvPicPr>
        <p:blipFill>
          <a:blip r:embed="rId4"/>
          <a:srcRect l="-3234" t="-3440" r="0" b="0"/>
          <a:stretch/>
        </p:blipFill>
        <p:spPr>
          <a:xfrm>
            <a:off x="5357880" y="1500120"/>
            <a:ext cx="2278080" cy="214308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ый треугольник 5"/>
          <p:cNvSpPr/>
          <p:nvPr/>
        </p:nvSpPr>
        <p:spPr>
          <a:xfrm rot="5400000">
            <a:off x="5429160" y="1571400"/>
            <a:ext cx="928440" cy="92880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ый треугольник 6"/>
          <p:cNvSpPr/>
          <p:nvPr/>
        </p:nvSpPr>
        <p:spPr>
          <a:xfrm rot="16200000">
            <a:off x="6822360" y="2750040"/>
            <a:ext cx="857160" cy="92844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Выноска-облако 7"/>
          <p:cNvSpPr/>
          <p:nvPr/>
        </p:nvSpPr>
        <p:spPr>
          <a:xfrm>
            <a:off x="2500200" y="1285920"/>
            <a:ext cx="2714760" cy="1398600"/>
          </a:xfrm>
          <a:prstGeom prst="cloudCallout">
            <a:avLst>
              <a:gd name="adj1" fmla="val -38694"/>
              <a:gd name="adj2" fmla="val 11401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-облако 8"/>
          <p:cNvSpPr/>
          <p:nvPr/>
        </p:nvSpPr>
        <p:spPr>
          <a:xfrm>
            <a:off x="2643120" y="1357200"/>
            <a:ext cx="2714760" cy="1398600"/>
          </a:xfrm>
          <a:prstGeom prst="cloudCallout">
            <a:avLst>
              <a:gd name="adj1" fmla="val 41939"/>
              <a:gd name="adj2" fmla="val 9420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We sing a lo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Картинка 30 из 14927">
            <a:hlinkClick r:id="rId7"/>
          </p:cNvPr>
          <p:cNvPicPr/>
          <p:nvPr/>
        </p:nvPicPr>
        <p:blipFill>
          <a:blip r:embed="rId8"/>
          <a:stretch/>
        </p:blipFill>
        <p:spPr>
          <a:xfrm rot="537000">
            <a:off x="5500800" y="4857480"/>
            <a:ext cx="2000160" cy="1319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Картинка 94 из 652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357200"/>
            <a:ext cx="7215120" cy="522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a37"/>
                </a:solidFill>
                <a:latin typeface="Century Schoolbook"/>
              </a:rPr>
              <a:t>WE GIVE PRESENTS.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entury Schoolbook"/>
              </a:rPr>
              <a:t>WE GIVE FLOWERS.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7" name="Picture 2" descr="Картинка 19 из 652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205000"/>
            <a:ext cx="6343920" cy="4429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entury Schoolbook"/>
              </a:rPr>
              <a:t>WE MAKE OUR OWN PRESENTS</a:t>
            </a:r>
            <a:r>
              <a:rPr b="1" lang="en-US" sz="4900" spc="-1" strike="noStrike">
                <a:solidFill>
                  <a:srgbClr val="ff00ff"/>
                </a:solidFill>
                <a:latin typeface="Century Schoolbook"/>
              </a:rPr>
              <a:t>.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Picture 2" descr="Картинка 34 из 652526">
            <a:hlinkClick r:id="rId1"/>
          </p:cNvPr>
          <p:cNvPicPr/>
          <p:nvPr/>
        </p:nvPicPr>
        <p:blipFill>
          <a:blip r:embed="rId2"/>
          <a:stretch/>
        </p:blipFill>
        <p:spPr>
          <a:xfrm rot="984600">
            <a:off x="5655960" y="2755800"/>
            <a:ext cx="2819520" cy="3533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40" name="Picture 2" descr="Картинка 72 из 16727">
            <a:hlinkClick r:id="rId3"/>
          </p:cNvPr>
          <p:cNvPicPr/>
          <p:nvPr/>
        </p:nvPicPr>
        <p:blipFill>
          <a:blip r:embed="rId4"/>
          <a:stretch/>
        </p:blipFill>
        <p:spPr>
          <a:xfrm rot="20636400">
            <a:off x="614160" y="1660320"/>
            <a:ext cx="3036600" cy="2293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41" name="Picture 4" descr="Картинка 109 из 167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9960" y="4073400"/>
            <a:ext cx="3187800" cy="2392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9900cc"/>
                </a:solidFill>
                <a:latin typeface="Century Schoolbook"/>
              </a:rPr>
              <a:t>WE EAT TASTY THINGS.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2" descr="Картинка 52 из 652526"/>
          <p:cNvPicPr/>
          <p:nvPr/>
        </p:nvPicPr>
        <p:blipFill>
          <a:blip r:embed="rId1"/>
          <a:stretch/>
        </p:blipFill>
        <p:spPr>
          <a:xfrm>
            <a:off x="4357800" y="3643200"/>
            <a:ext cx="4545000" cy="2643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44" name="Picture 4" descr="Картинка 68 из 652526"/>
          <p:cNvPicPr/>
          <p:nvPr/>
        </p:nvPicPr>
        <p:blipFill>
          <a:blip r:embed="rId2"/>
          <a:stretch/>
        </p:blipFill>
        <p:spPr>
          <a:xfrm>
            <a:off x="285840" y="1571760"/>
            <a:ext cx="3786120" cy="4217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0:22:27Z</dcterms:created>
  <dc:creator>Admin</dc:creator>
  <dc:description/>
  <dc:language>en-US</dc:language>
  <cp:lastModifiedBy>Ксюша</cp:lastModifiedBy>
  <dcterms:modified xsi:type="dcterms:W3CDTF">2015-03-18T19:16:07Z</dcterms:modified>
  <cp:revision>17</cp:revision>
  <dc:subject/>
  <dc:title>The 10-th of February</dc:title>
</cp:coreProperties>
</file>