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13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57B-89BF-4CE1-B594-96D3DC40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806-97D5-48FD-8C53-831DBFA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128-D293-473C-B2D0-56059592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0E9-C6F0-40EE-BB28-6E7A2BB8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565-1892-45E3-A530-DBFE316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E20-C297-4D56-BE88-0EB45DC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E50-7F8A-4016-8AC4-F8D9DC84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B12-8828-421B-9A78-8D372924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F61-CB97-4F82-A4F9-8EF3C03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6BD-1022-4A64-8985-454F18E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0D4-65BD-4234-9A89-BFCEDA9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37C-31DD-4FA4-AAB2-7D0EFC2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632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8480" y="6356520"/>
            <a:ext cx="347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6588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EB0-6644-4D89-A7EA-EBC1DE755FB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6372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49280" indent="-1918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3520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 Light"/>
              </a:rPr>
              <a:t>В здоровом теле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Calibri Light"/>
              </a:rPr>
              <a:t>                             – здоровый ду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7" name="Picture 9" descr="zarya2i"/>
          <p:cNvPicPr/>
          <p:nvPr/>
        </p:nvPicPr>
        <p:blipFill>
          <a:blip r:embed="rId1"/>
          <a:stretch/>
        </p:blipFill>
        <p:spPr>
          <a:xfrm>
            <a:off x="4280040" y="2421000"/>
            <a:ext cx="3473280" cy="3865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5" name="Picture 10" descr="Сучка 04"/>
          <p:cNvPicPr/>
          <p:nvPr/>
        </p:nvPicPr>
        <p:blipFill>
          <a:blip r:embed="rId1"/>
          <a:stretch/>
        </p:blipFill>
        <p:spPr>
          <a:xfrm>
            <a:off x="2263680" y="1773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06det050i"/>
          <p:cNvPicPr/>
          <p:nvPr/>
        </p:nvPicPr>
        <p:blipFill>
          <a:blip r:embed="rId2"/>
          <a:stretch/>
        </p:blipFill>
        <p:spPr>
          <a:xfrm>
            <a:off x="2335320" y="4221000"/>
            <a:ext cx="2201760" cy="24498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782960" y="1980720"/>
            <a:ext cx="4732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ыме табака содержится более 30 ядовитых веществ: никотин, углекислый газ, окись углерода, синильная кислота, аммиак, смолистые вещества и другие. Помимо других болезней, они могут вызвать страшные заболевания органов дыхания — рак, туберкулез; от курения зубы становятся желтыми, а голос — сиплым. Поэтому не кури и даже не пробуй, а если настойчиво предлагают — просто твердо скажи НЕТ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7000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4560"/>
            <a:ext cx="943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Calibri Light"/>
              </a:rPr>
              <a:t>Альтернативу курению, алкоголю и наркотикам ты можешь выбрать сам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9" name="Picture 6" descr="Чеpеп-06"/>
          <p:cNvPicPr/>
          <p:nvPr/>
        </p:nvPicPr>
        <p:blipFill>
          <a:blip r:embed="rId1"/>
          <a:stretch/>
        </p:blipFill>
        <p:spPr>
          <a:xfrm>
            <a:off x="1122480" y="2624040"/>
            <a:ext cx="3370320" cy="3370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Lоve-10"/>
          <p:cNvPicPr/>
          <p:nvPr/>
        </p:nvPicPr>
        <p:blipFill>
          <a:blip r:embed="rId2"/>
          <a:stretch/>
        </p:blipFill>
        <p:spPr>
          <a:xfrm>
            <a:off x="6122880" y="2624040"/>
            <a:ext cx="3395880" cy="33703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22120" y="1981080"/>
            <a:ext cx="353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р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74820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вь и жиз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9" name="Picture 60" descr="arnoldi"/>
          <p:cNvPicPr/>
          <p:nvPr/>
        </p:nvPicPr>
        <p:blipFill>
          <a:blip r:embed="rId1"/>
          <a:stretch/>
        </p:blipFill>
        <p:spPr>
          <a:xfrm>
            <a:off x="2048040" y="1592280"/>
            <a:ext cx="2814480" cy="3132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63680" y="4868640"/>
            <a:ext cx="7229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ff7c8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2800" spc="-1" strike="noStrike">
                <a:solidFill>
                  <a:srgbClr val="ff7c80"/>
                </a:solidFill>
                <a:latin typeface="Calibri"/>
              </a:rPr>
              <a:t>Арнольд Шварценеггер</a:t>
            </a:r>
            <a:r>
              <a:rPr b="0" lang="ru-RU" sz="2800" spc="-1" strike="noStrike">
                <a:solidFill>
                  <a:srgbClr val="ff7c80"/>
                </a:solidFill>
                <a:latin typeface="Calibri"/>
              </a:rPr>
              <a:t> известен не только как голливудская кинозвезда, но и как выдающийся мастер бодибилдин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2" descr="ray1i"/>
          <p:cNvPicPr/>
          <p:nvPr/>
        </p:nvPicPr>
        <p:blipFill>
          <a:blip r:embed="rId2"/>
          <a:stretch/>
        </p:blipFill>
        <p:spPr>
          <a:xfrm>
            <a:off x="6750000" y="1700280"/>
            <a:ext cx="271800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3" name="Picture 7" descr="bike2i"/>
          <p:cNvPicPr/>
          <p:nvPr/>
        </p:nvPicPr>
        <p:blipFill>
          <a:blip r:embed="rId1"/>
          <a:stretch/>
        </p:blipFill>
        <p:spPr>
          <a:xfrm>
            <a:off x="1974960" y="1981080"/>
            <a:ext cx="2894040" cy="32212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7672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тренировку  велосипедист «наматывает» десятки километров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лосипедный спор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ребует огромной вынослив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3" descr="skatei"/>
          <p:cNvPicPr/>
          <p:nvPr/>
        </p:nvPicPr>
        <p:blipFill>
          <a:blip r:embed="rId1"/>
          <a:stretch/>
        </p:blipFill>
        <p:spPr>
          <a:xfrm>
            <a:off x="895320" y="1766880"/>
            <a:ext cx="3240000" cy="36054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7320" y="25992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ейтбордин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связанный с риском, но очень увлекательный вид спорта. Скейтборд состоит из доски (деки), подвесок, колес, подшипников, винтов и шкурки. Возник скейтбординг в конце 1960-х в Калифорнии. Калифорнийские серферы, катающиеся на доске по волнам, изобрели скейтборд как сухопутный серф. Объезд препятствий, скоростной спуск — вот та область, которую осваивали и совершенствовали первые скейтеры. В то время, чтобы считаться хорошим скейтбордистом, достаточно было красиво съехать с горки, элементарно не уп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47680" y="1981080"/>
            <a:ext cx="4174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лыв на дистанцию 100 м брассом. Брасс — такой способ плавания на груди, когда пловец одновременно и симметрично двигает руками и ногами в горизонтальной плоск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6" descr="s_plavi"/>
          <p:cNvPicPr/>
          <p:nvPr/>
        </p:nvPicPr>
        <p:blipFill>
          <a:blip r:embed="rId1"/>
          <a:stretch/>
        </p:blipFill>
        <p:spPr>
          <a:xfrm>
            <a:off x="6006960" y="2205000"/>
            <a:ext cx="342900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40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4000"/>
            </a:br>
            <a:r>
              <a:rPr b="1" lang="ru-RU" sz="40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1" name="Picture 6" descr="gor_lizhi"/>
          <p:cNvPicPr/>
          <p:nvPr/>
        </p:nvPicPr>
        <p:blipFill>
          <a:blip r:embed="rId1"/>
          <a:stretch/>
        </p:blipFill>
        <p:spPr>
          <a:xfrm>
            <a:off x="6727680" y="1916280"/>
            <a:ext cx="2716200" cy="2027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190240" y="198900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ыж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ловек придумал очень давно. У берегов Белого моря встречаются выбитые на скалах изображения лыж, а на Скандинавском полуострове найдены лыжи, которым 2-4 тыс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7" descr="11"/>
          <p:cNvPicPr/>
          <p:nvPr/>
        </p:nvPicPr>
        <p:blipFill>
          <a:blip r:embed="rId2"/>
          <a:stretch/>
        </p:blipFill>
        <p:spPr>
          <a:xfrm>
            <a:off x="7088040" y="436572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40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4000"/>
            </a:br>
            <a:r>
              <a:rPr b="1" lang="ru-RU" sz="40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974960" y="1980720"/>
            <a:ext cx="4752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лейбо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это очень интересная и полезная игра. Резкие удары по мячу, прыжки, быстрые перемещения развивают мышцы, укрепляют сердце и легкие. Играющим часто приходится в долю секунды принимать решение. Это вырабатывает у них сообразительность, быстроту реакции, хороший глазомер. Такие качества не помешают и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ть в волейбол можно повсюду: в спортивном зале, во дворе, на дачной зеленой лужайке, на пля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6" descr="volley1i"/>
          <p:cNvPicPr/>
          <p:nvPr/>
        </p:nvPicPr>
        <p:blipFill>
          <a:blip r:embed="rId1"/>
          <a:stretch/>
        </p:blipFill>
        <p:spPr>
          <a:xfrm>
            <a:off x="6583320" y="2708280"/>
            <a:ext cx="3003480" cy="2241720"/>
          </a:xfrm>
          <a:prstGeom prst="rect">
            <a:avLst/>
          </a:prstGeom>
          <a:ln w="0">
            <a:noFill/>
          </a:ln>
        </p:spPr>
      </p:pic>
    </p:spTree>
  </p:cSld>
  <p:transition spd="slow" advTm="49000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8" name="Picture 6" descr="rodmani"/>
          <p:cNvPicPr/>
          <p:nvPr/>
        </p:nvPicPr>
        <p:blipFill>
          <a:blip r:embed="rId1"/>
          <a:stretch/>
        </p:blipFill>
        <p:spPr>
          <a:xfrm>
            <a:off x="2190600" y="2205000"/>
            <a:ext cx="2719440" cy="30258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214960" y="1980720"/>
            <a:ext cx="4300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скетбо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очень увлекательная командная игра. Ее основу составляют такие естественные упражнения, как бег, прыжки, передача и бросок мя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2240" indent="-1922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скетболистам все время приходится менять направление и скорость, часто делать повороты на месте и в движении, бегать и прыгать. Все это вырабатывает быстроту, ловкость и выносливость. Кроме того, баскетбол развивает смелость, настойчивость, сообразительность и умение действовать коллектив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4000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В здоровом теле </a:t>
            </a:r>
            <a:br>
              <a:rPr sz="3600"/>
            </a:br>
            <a:r>
              <a:rPr b="1" lang="ru-RU" sz="3600" spc="-1" strike="noStrike">
                <a:solidFill>
                  <a:srgbClr val="ff99cc"/>
                </a:solidFill>
                <a:latin typeface="Calibri Light"/>
              </a:rPr>
              <a:t>                             – здоровый ду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48040" y="1981080"/>
            <a:ext cx="377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2240" indent="-1922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утб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6" descr="footboli"/>
          <p:cNvPicPr/>
          <p:nvPr/>
        </p:nvPicPr>
        <p:blipFill>
          <a:blip r:embed="rId1"/>
          <a:stretch/>
        </p:blipFill>
        <p:spPr>
          <a:xfrm>
            <a:off x="5791320" y="2565360"/>
            <a:ext cx="3724200" cy="2781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n17"/>
          <p:cNvPicPr/>
          <p:nvPr/>
        </p:nvPicPr>
        <p:blipFill>
          <a:blip r:embed="rId2"/>
          <a:stretch/>
        </p:blipFill>
        <p:spPr>
          <a:xfrm>
            <a:off x="247680" y="4581360"/>
            <a:ext cx="1090440" cy="1557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9:50:52Z</dcterms:created>
  <dc:creator>Computer</dc:creator>
  <dc:description/>
  <dc:language>en-US</dc:language>
  <cp:lastModifiedBy>Елена Козлова</cp:lastModifiedBy>
  <dcterms:modified xsi:type="dcterms:W3CDTF">2015-03-18T10:59:24Z</dcterms:modified>
  <cp:revision>10</cp:revision>
  <dc:subject/>
  <dc:title>В здоровом теле                               – здоровый дух</dc:title>
</cp:coreProperties>
</file>