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camera.wav" ContentType="audio/x-wav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56F-DAB7-4B17-9568-AB3F9EB4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780-CA1D-4F33-8448-67A0D4B5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155-4A00-4F2F-BC7C-87AB9843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637-2DC9-430A-A8C8-F7E65C1F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6E73-D47E-4060-A698-C7072B3D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C24D-8ED4-4CB6-8067-36B3CE7E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6051-F674-4CD4-B0D5-AC26174E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7EE9-5B82-4534-AE8D-EF226F34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9652-B146-4B25-AC39-D96CF5EE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2E1C-C475-4410-88AA-D2AF77EB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E648-FD52-4352-A5BF-53309612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E4C-A2CD-44CB-A384-DCB84D29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1116-43B9-463E-B912-A732A88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3DA2-9526-490B-A622-5B863613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F1BD-6744-422B-A0F7-6030F8B3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55FB-541C-4C4A-AFD8-855A593D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8C47-5FBE-4E98-AE94-9B68C6B6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B3F0-E92B-4215-897C-1D87EED9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62FB-CBCB-4340-9155-3E24F9B8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4294-AB32-435A-B989-23DC9AD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5CA49-71BF-4A9F-B339-B675E690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35FC-E847-4847-A22C-3F5E2A57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464-AA62-4E6C-92C5-575A0DD8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35DD-87D6-4255-82E7-B98397C7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2AE4-EDFF-43DE-AF8B-8EBA18A2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7D37-482B-45E7-8F37-7CDA86D0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E2BF-9215-4ABB-8634-61572BF8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2221-1A1B-4386-B8A7-DD020E31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042A-B3DF-4883-B78C-D5D9ACE8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5E84-EC40-4213-8198-24E82442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ADB37-54D6-4816-9B4E-75DFA88A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10DA-3FDE-43BE-8CD8-7A8756B0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D1C4C-5497-4BB9-9918-92FF2833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866-A9ED-42F2-9D9E-5B5011F7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19FC-8FE6-46DD-B7F0-78E460CE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67EA-69F3-4441-B465-4CB3B8D4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42F5-4CE8-48AC-AB6C-AA3006AF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F473-1D63-4477-95AA-7441C70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C5CF-9FED-410A-B2E0-636D413B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CC68-0718-44DF-9769-381BE283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A371-E88C-4F83-860A-18A7692E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A229-A533-4499-9515-8F60DC14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A804-54EC-449B-9C48-48A69557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CF753-5CA5-4199-B79A-80680E50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C95-0F79-4AFB-869F-B061A0E8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EDD5D-2113-416B-8B69-AEC4A903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D672-D9A4-466E-A934-1596BEF1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88433-8590-4DBC-B555-701F3A80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8996-A8CC-4067-B5A5-219EE0D9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831E5-E9BF-486E-9304-B77F4628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18EA5-A2F8-4F62-B789-A464A1A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EBCC5-8E55-4142-9564-590ACDC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9264-A88C-4F77-8BDF-7324C5B3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F2B6B-A6D8-4FF9-A292-D061805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A2C4F-D13D-4F55-8D58-FE69B4F6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F9A-218D-421F-8516-FA9A5BF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2552-9061-4E9A-AC9A-C71D0769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918-FE4A-491E-902F-251E2F03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9A1-1BA3-49FB-A6EA-3E6993D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777-0FF1-4E9F-8272-1A036FC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E1B2-35F5-4561-B326-FFC21862F06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048A-354E-4410-AEA3-8E5521ECC0D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54F0-C49D-45B7-B756-0D5E0AA9F6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F008-F72D-4C4E-A4E8-45CA4486C2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52EB-B743-452D-9646-8D1BE05CC3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8d3e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8d3e"/>
                </a:solidFill>
                <a:latin typeface="Times New Roman"/>
              </a:rPr>
              <a:t>Обобщающий урок по теме: «Показательные неравенства» </a:t>
            </a:r>
            <a:br>
              <a:rPr sz="4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полнил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читель математик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БОУ СОШ №76 п. Гигант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Коваль Н.М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414360"/>
            <a:ext cx="73278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1b587c"/>
                </a:solidFill>
                <a:latin typeface="Times New Roman"/>
              </a:rPr>
              <a:t>При а</a:t>
            </a:r>
            <a:r>
              <a:rPr b="1" i="1" lang="en-US" sz="3200" spc="-1" strike="noStrike">
                <a:solidFill>
                  <a:srgbClr val="1b587c"/>
                </a:solidFill>
                <a:latin typeface="Times New Roman"/>
              </a:rPr>
              <a:t>&gt;1 </a:t>
            </a:r>
            <a:r>
              <a:rPr b="1" i="1" lang="ru-RU" sz="3200" spc="-1" strike="noStrike">
                <a:solidFill>
                  <a:srgbClr val="1b587c"/>
                </a:solidFill>
                <a:latin typeface="Times New Roman"/>
              </a:rPr>
              <a:t>функция возрастае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685800" y="1219320"/>
                <a:ext cx="63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2044800" y="1219320"/>
                <a:ext cx="80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0"/>
              <p:cNvSpPr txBox="1"/>
              <p:nvPr/>
            </p:nvSpPr>
            <p:spPr>
              <a:xfrm>
                <a:off x="1371600" y="1295280"/>
                <a:ext cx="71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1"/>
              <p:cNvSpPr txBox="1"/>
              <p:nvPr/>
            </p:nvSpPr>
            <p:spPr>
              <a:xfrm>
                <a:off x="609480" y="2286000"/>
                <a:ext cx="6447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2"/>
              <p:cNvSpPr txBox="1"/>
              <p:nvPr/>
            </p:nvSpPr>
            <p:spPr>
              <a:xfrm>
                <a:off x="1371600" y="2133720"/>
                <a:ext cx="719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3"/>
              <p:cNvSpPr txBox="1"/>
              <p:nvPr/>
            </p:nvSpPr>
            <p:spPr>
              <a:xfrm>
                <a:off x="2133720" y="2108160"/>
                <a:ext cx="6681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4"/>
              <p:cNvSpPr txBox="1"/>
              <p:nvPr/>
            </p:nvSpPr>
            <p:spPr>
              <a:xfrm>
                <a:off x="4876920" y="1219320"/>
                <a:ext cx="63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5"/>
              <p:cNvSpPr txBox="1"/>
              <p:nvPr/>
            </p:nvSpPr>
            <p:spPr>
              <a:xfrm>
                <a:off x="5638680" y="1295280"/>
                <a:ext cx="71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6"/>
              <p:cNvSpPr txBox="1"/>
              <p:nvPr/>
            </p:nvSpPr>
            <p:spPr>
              <a:xfrm>
                <a:off x="6388200" y="1295280"/>
                <a:ext cx="80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7"/>
              <p:cNvSpPr txBox="1"/>
              <p:nvPr/>
            </p:nvSpPr>
            <p:spPr>
              <a:xfrm>
                <a:off x="4876920" y="2286000"/>
                <a:ext cx="644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8"/>
              <p:cNvSpPr txBox="1"/>
              <p:nvPr/>
            </p:nvSpPr>
            <p:spPr>
              <a:xfrm>
                <a:off x="5638680" y="2286000"/>
                <a:ext cx="71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9"/>
              <p:cNvSpPr txBox="1"/>
              <p:nvPr/>
            </p:nvSpPr>
            <p:spPr>
              <a:xfrm>
                <a:off x="6400800" y="2182680"/>
                <a:ext cx="6681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5" name="Rectangle 20"/>
          <p:cNvSpPr/>
          <p:nvPr/>
        </p:nvSpPr>
        <p:spPr>
          <a:xfrm>
            <a:off x="690120" y="3063960"/>
            <a:ext cx="73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23232"/>
                </a:solidFill>
                <a:latin typeface="Times New Roman"/>
              </a:rPr>
              <a:t>При 0</a:t>
            </a:r>
            <a:r>
              <a:rPr b="1" i="1" lang="en-US" sz="4400" spc="-1" strike="noStrike">
                <a:solidFill>
                  <a:srgbClr val="323232"/>
                </a:solidFill>
                <a:latin typeface="Times New Roman"/>
              </a:rPr>
              <a:t>&lt;</a:t>
            </a:r>
            <a:r>
              <a:rPr b="1" i="1" lang="ru-RU" sz="4400" spc="-1" strike="noStrike">
                <a:solidFill>
                  <a:srgbClr val="323232"/>
                </a:solidFill>
                <a:latin typeface="Times New Roman"/>
              </a:rPr>
              <a:t>а</a:t>
            </a:r>
            <a:r>
              <a:rPr b="1" i="1" lang="en-US" sz="4400" spc="-1" strike="noStrike">
                <a:solidFill>
                  <a:srgbClr val="323232"/>
                </a:solidFill>
                <a:latin typeface="Times New Roman"/>
              </a:rPr>
              <a:t>&lt;1 </a:t>
            </a:r>
            <a:r>
              <a:rPr b="1" i="1" lang="ru-RU" sz="4400" spc="-1" strike="noStrike">
                <a:solidFill>
                  <a:srgbClr val="323232"/>
                </a:solidFill>
                <a:latin typeface="Times New Roman"/>
              </a:rPr>
              <a:t>функция убыв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1"/>
              <p:cNvSpPr txBox="1"/>
              <p:nvPr/>
            </p:nvSpPr>
            <p:spPr>
              <a:xfrm>
                <a:off x="838080" y="3886200"/>
                <a:ext cx="63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2"/>
              <p:cNvSpPr txBox="1"/>
              <p:nvPr/>
            </p:nvSpPr>
            <p:spPr>
              <a:xfrm>
                <a:off x="1523880" y="3962520"/>
                <a:ext cx="719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3"/>
              <p:cNvSpPr txBox="1"/>
              <p:nvPr/>
            </p:nvSpPr>
            <p:spPr>
              <a:xfrm>
                <a:off x="2349360" y="3962520"/>
                <a:ext cx="80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4"/>
              <p:cNvSpPr txBox="1"/>
              <p:nvPr/>
            </p:nvSpPr>
            <p:spPr>
              <a:xfrm>
                <a:off x="6462720" y="3962520"/>
                <a:ext cx="81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5"/>
              <p:cNvSpPr txBox="1"/>
              <p:nvPr/>
            </p:nvSpPr>
            <p:spPr>
              <a:xfrm>
                <a:off x="4876920" y="3962520"/>
                <a:ext cx="63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6"/>
              <p:cNvSpPr txBox="1"/>
              <p:nvPr/>
            </p:nvSpPr>
            <p:spPr>
              <a:xfrm>
                <a:off x="5715000" y="4038480"/>
                <a:ext cx="71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7"/>
              <p:cNvSpPr txBox="1"/>
              <p:nvPr/>
            </p:nvSpPr>
            <p:spPr>
              <a:xfrm>
                <a:off x="838080" y="4800600"/>
                <a:ext cx="6447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8"/>
              <p:cNvSpPr txBox="1"/>
              <p:nvPr/>
            </p:nvSpPr>
            <p:spPr>
              <a:xfrm>
                <a:off x="4876920" y="4876920"/>
                <a:ext cx="6444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9"/>
              <p:cNvSpPr txBox="1"/>
              <p:nvPr/>
            </p:nvSpPr>
            <p:spPr>
              <a:xfrm>
                <a:off x="2284560" y="4699080"/>
                <a:ext cx="6696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0"/>
              <p:cNvSpPr txBox="1"/>
              <p:nvPr/>
            </p:nvSpPr>
            <p:spPr>
              <a:xfrm>
                <a:off x="6400800" y="4775040"/>
                <a:ext cx="6681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1"/>
              <p:cNvSpPr txBox="1"/>
              <p:nvPr/>
            </p:nvSpPr>
            <p:spPr>
              <a:xfrm>
                <a:off x="5562720" y="4876920"/>
                <a:ext cx="718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2"/>
              <p:cNvSpPr txBox="1"/>
              <p:nvPr/>
            </p:nvSpPr>
            <p:spPr>
              <a:xfrm>
                <a:off x="1600200" y="4800600"/>
                <a:ext cx="71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609480" y="457200"/>
            <a:ext cx="83059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23232"/>
                </a:solidFill>
                <a:latin typeface="Times New Roman"/>
              </a:rPr>
              <a:t>Решения показательных неравенст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32323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Способ  Уравнивание оснований правой и левой части</a:t>
            </a:r>
            <a:r>
              <a:rPr b="1" lang="ru-RU" sz="4400" spc="-1" strike="noStrike">
                <a:solidFill>
                  <a:srgbClr val="32323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Решите неравенство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914400" y="1905120"/>
                <a:ext cx="33274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971640" y="3141720"/>
                <a:ext cx="3236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117360" y="4495680"/>
                <a:ext cx="8861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609480" y="5257800"/>
                <a:ext cx="21812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7"/>
              <p:cNvSpPr txBox="1"/>
              <p:nvPr/>
            </p:nvSpPr>
            <p:spPr>
              <a:xfrm>
                <a:off x="5372280" y="5257800"/>
                <a:ext cx="3554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Line 9"/>
          <p:cNvSpPr/>
          <p:nvPr/>
        </p:nvSpPr>
        <p:spPr>
          <a:xfrm>
            <a:off x="609480" y="617220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587c"/>
                </a:solidFill>
                <a:latin typeface="Times New Roman"/>
              </a:rPr>
              <a:t>Решите неравенство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359000" y="1606680"/>
                <a:ext cx="369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250920" y="3141720"/>
                <a:ext cx="83804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убыв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124000" y="4724280"/>
                <a:ext cx="1047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5292720" y="4724280"/>
                <a:ext cx="18748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6867360" y="1427040"/>
                <a:ext cx="3686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0"/>
              <p:cNvSpPr txBox="1"/>
              <p:nvPr/>
            </p:nvSpPr>
            <p:spPr>
              <a:xfrm>
                <a:off x="900000" y="1197000"/>
                <a:ext cx="262440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3" name="Line 11"/>
          <p:cNvSpPr/>
          <p:nvPr/>
        </p:nvSpPr>
        <p:spPr>
          <a:xfrm>
            <a:off x="1828800" y="640080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23232"/>
                </a:solidFill>
                <a:latin typeface="Times New Roman"/>
              </a:rPr>
              <a:t>Решите неравенст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4"/>
              <p:cNvSpPr txBox="1"/>
              <p:nvPr/>
            </p:nvSpPr>
            <p:spPr>
              <a:xfrm>
                <a:off x="990720" y="3352680"/>
                <a:ext cx="7238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основание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"/>
              <p:cNvSpPr txBox="1"/>
              <p:nvPr/>
            </p:nvSpPr>
            <p:spPr>
              <a:xfrm>
                <a:off x="609480" y="3809880"/>
                <a:ext cx="28371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4294080" y="5029200"/>
                <a:ext cx="234972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8"/>
              <p:cNvSpPr txBox="1"/>
              <p:nvPr/>
            </p:nvSpPr>
            <p:spPr>
              <a:xfrm>
                <a:off x="1143000" y="990720"/>
                <a:ext cx="1677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9"/>
              <p:cNvSpPr txBox="1"/>
              <p:nvPr/>
            </p:nvSpPr>
            <p:spPr>
              <a:xfrm>
                <a:off x="762120" y="4876920"/>
                <a:ext cx="19033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0"/>
              <p:cNvSpPr txBox="1"/>
              <p:nvPr/>
            </p:nvSpPr>
            <p:spPr>
              <a:xfrm>
                <a:off x="990720" y="2514600"/>
                <a:ext cx="1873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Line 12"/>
          <p:cNvSpPr/>
          <p:nvPr/>
        </p:nvSpPr>
        <p:spPr>
          <a:xfrm>
            <a:off x="914400" y="624852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03280" y="1773360"/>
            <a:ext cx="8183520" cy="294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тейшие показательные неравен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равенства, решаемые вынесением за скобки степени с меньшим показа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равенства, решаемые введение новой  перемен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WordArt 3"/>
          <p:cNvSpPr txBox="1"/>
          <p:nvPr/>
        </p:nvSpPr>
        <p:spPr>
          <a:xfrm>
            <a:off x="1476360" y="404640"/>
            <a:ext cx="64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казательные неравенств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24000" y="3429000"/>
            <a:ext cx="8496000" cy="25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6804000" y="4005360"/>
            <a:ext cx="432000" cy="43164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4427640" y="4076640"/>
            <a:ext cx="431640" cy="43200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24000" y="1557360"/>
            <a:ext cx="849600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6659640" y="2276640"/>
            <a:ext cx="431640" cy="43164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500720" y="2276640"/>
            <a:ext cx="504720" cy="504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Простейшие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показательные неравенств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160640" y="1995480"/>
                <a:ext cx="2028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023840" y="3763800"/>
                <a:ext cx="209736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3247920" y="2133720"/>
                <a:ext cx="22924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755640" y="2565360"/>
                <a:ext cx="23036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: </m:t>
                    </m:r>
                    <m:r>
                      <m:t xml:space="preserve">х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5508720" y="2133720"/>
                <a:ext cx="2089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826920" y="5157720"/>
                <a:ext cx="2592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:</m:t>
                    </m:r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2987640" y="3573360"/>
                <a:ext cx="280836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6"/>
              <p:cNvSpPr txBox="1"/>
              <p:nvPr/>
            </p:nvSpPr>
            <p:spPr>
              <a:xfrm>
                <a:off x="5796000" y="3933720"/>
                <a:ext cx="1800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AutoShape 17"/>
          <p:cNvSpPr/>
          <p:nvPr/>
        </p:nvSpPr>
        <p:spPr>
          <a:xfrm>
            <a:off x="6516720" y="333360"/>
            <a:ext cx="2158920" cy="360360"/>
          </a:xfrm>
          <a:custGeom>
            <a:avLst/>
            <a:gdLst>
              <a:gd name="textAreaLeft" fmla="*/ 23040 w 2158920"/>
              <a:gd name="textAreaRight" fmla="*/ 2135880 w 21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29298" h="21600">
                <a:moveTo>
                  <a:pt x="0" y="0"/>
                </a:moveTo>
                <a:lnTo>
                  <a:pt x="129298" y="0"/>
                </a:lnTo>
                <a:lnTo>
                  <a:pt x="129298" y="21600"/>
                </a:lnTo>
                <a:lnTo>
                  <a:pt x="0" y="21600"/>
                </a:lnTo>
                <a:close/>
              </a:path>
              <a:path fill="lightenLess" w="129298" h="21600">
                <a:moveTo>
                  <a:pt x="0" y="0"/>
                </a:moveTo>
                <a:lnTo>
                  <a:pt x="129298" y="0"/>
                </a:lnTo>
                <a:lnTo>
                  <a:pt x="127898" y="1400"/>
                </a:lnTo>
                <a:lnTo>
                  <a:pt x="1400" y="1400"/>
                </a:lnTo>
                <a:close/>
              </a:path>
              <a:path fill="darken" w="129298" h="21600">
                <a:moveTo>
                  <a:pt x="129298" y="0"/>
                </a:moveTo>
                <a:lnTo>
                  <a:pt x="129298" y="21600"/>
                </a:lnTo>
                <a:lnTo>
                  <a:pt x="127898" y="20200"/>
                </a:lnTo>
                <a:lnTo>
                  <a:pt x="127898" y="1400"/>
                </a:lnTo>
                <a:close/>
              </a:path>
              <a:path fill="darkenLess" w="129298" h="21600">
                <a:moveTo>
                  <a:pt x="129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898" y="20200"/>
                </a:lnTo>
                <a:close/>
              </a:path>
              <a:path fill="lighten" w="129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95280" y="2637000"/>
            <a:ext cx="8569440" cy="396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Решение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показательных неравенст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1204920" y="2978280"/>
                <a:ext cx="23432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905040" y="3895560"/>
                <a:ext cx="28652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6"/>
              <p:cNvSpPr txBox="1"/>
              <p:nvPr/>
            </p:nvSpPr>
            <p:spPr>
              <a:xfrm>
                <a:off x="963720" y="4811760"/>
                <a:ext cx="2530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8"/>
              <p:cNvSpPr txBox="1"/>
              <p:nvPr/>
            </p:nvSpPr>
            <p:spPr>
              <a:xfrm>
                <a:off x="539640" y="5589720"/>
                <a:ext cx="2376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7"/>
          <p:cNvSpPr/>
          <p:nvPr/>
        </p:nvSpPr>
        <p:spPr>
          <a:xfrm>
            <a:off x="395280" y="1484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пособ 2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Вынесение за скобки степени с меньшим показ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9"/>
              <p:cNvSpPr txBox="1"/>
              <p:nvPr/>
            </p:nvSpPr>
            <p:spPr>
              <a:xfrm>
                <a:off x="5292720" y="2852640"/>
                <a:ext cx="16034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0"/>
              <p:cNvSpPr txBox="1"/>
              <p:nvPr/>
            </p:nvSpPr>
            <p:spPr>
              <a:xfrm>
                <a:off x="5148360" y="3645000"/>
                <a:ext cx="1922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9" name="Text Box 11"/>
          <p:cNvSpPr/>
          <p:nvPr/>
        </p:nvSpPr>
        <p:spPr>
          <a:xfrm>
            <a:off x="4788000" y="587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2"/>
              <p:cNvSpPr txBox="1"/>
              <p:nvPr/>
            </p:nvSpPr>
            <p:spPr>
              <a:xfrm>
                <a:off x="5435640" y="5084640"/>
                <a:ext cx="14079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6012000" y="4437000"/>
                <a:ext cx="18367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Rectangle 14"/>
          <p:cNvSpPr/>
          <p:nvPr/>
        </p:nvSpPr>
        <p:spPr>
          <a:xfrm>
            <a:off x="4572000" y="4508640"/>
            <a:ext cx="1368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>
            <a:off x="4067280" y="285264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6"/>
          <p:cNvSpPr/>
          <p:nvPr/>
        </p:nvSpPr>
        <p:spPr>
          <a:xfrm>
            <a:off x="291636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2987640" y="566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6516720" y="333360"/>
            <a:ext cx="2158920" cy="360360"/>
          </a:xfrm>
          <a:custGeom>
            <a:avLst/>
            <a:gdLst>
              <a:gd name="textAreaLeft" fmla="*/ 23040 w 2158920"/>
              <a:gd name="textAreaRight" fmla="*/ 2135880 w 21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29298" h="21600">
                <a:moveTo>
                  <a:pt x="0" y="0"/>
                </a:moveTo>
                <a:lnTo>
                  <a:pt x="129298" y="0"/>
                </a:lnTo>
                <a:lnTo>
                  <a:pt x="129298" y="21600"/>
                </a:lnTo>
                <a:lnTo>
                  <a:pt x="0" y="21600"/>
                </a:lnTo>
                <a:close/>
              </a:path>
              <a:path fill="lightenLess" w="129298" h="21600">
                <a:moveTo>
                  <a:pt x="0" y="0"/>
                </a:moveTo>
                <a:lnTo>
                  <a:pt x="129298" y="0"/>
                </a:lnTo>
                <a:lnTo>
                  <a:pt x="127898" y="1400"/>
                </a:lnTo>
                <a:lnTo>
                  <a:pt x="1400" y="1400"/>
                </a:lnTo>
                <a:close/>
              </a:path>
              <a:path fill="darken" w="129298" h="21600">
                <a:moveTo>
                  <a:pt x="129298" y="0"/>
                </a:moveTo>
                <a:lnTo>
                  <a:pt x="129298" y="21600"/>
                </a:lnTo>
                <a:lnTo>
                  <a:pt x="127898" y="20200"/>
                </a:lnTo>
                <a:lnTo>
                  <a:pt x="127898" y="1400"/>
                </a:lnTo>
                <a:close/>
              </a:path>
              <a:path fill="darkenLess" w="129298" h="21600">
                <a:moveTo>
                  <a:pt x="129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898" y="20200"/>
                </a:lnTo>
                <a:close/>
              </a:path>
              <a:path fill="lighten" w="129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466560" y="1557360"/>
            <a:ext cx="8713800" cy="511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Решение показательных неравенст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399960" y="1557360"/>
                <a:ext cx="2979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533520" y="2205000"/>
                <a:ext cx="3795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1332000" y="2852640"/>
                <a:ext cx="2662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8"/>
              <p:cNvSpPr txBox="1"/>
              <p:nvPr/>
            </p:nvSpPr>
            <p:spPr>
              <a:xfrm>
                <a:off x="612720" y="3573360"/>
                <a:ext cx="2443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ectangle 7"/>
          <p:cNvSpPr/>
          <p:nvPr/>
        </p:nvSpPr>
        <p:spPr>
          <a:xfrm>
            <a:off x="324000" y="692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пособ 3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введение новой  пе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395280" y="4316400"/>
                <a:ext cx="4272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20560" y="4724280"/>
                <a:ext cx="23385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1"/>
              <p:cNvSpPr txBox="1"/>
              <p:nvPr/>
            </p:nvSpPr>
            <p:spPr>
              <a:xfrm>
                <a:off x="803160" y="5516640"/>
                <a:ext cx="19926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2"/>
              <p:cNvSpPr txBox="1"/>
              <p:nvPr/>
            </p:nvSpPr>
            <p:spPr>
              <a:xfrm>
                <a:off x="5457960" y="1724040"/>
                <a:ext cx="2935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3"/>
              <p:cNvSpPr txBox="1"/>
              <p:nvPr/>
            </p:nvSpPr>
            <p:spPr>
              <a:xfrm>
                <a:off x="6084720" y="3429000"/>
                <a:ext cx="1373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4"/>
              <p:cNvSpPr txBox="1"/>
              <p:nvPr/>
            </p:nvSpPr>
            <p:spPr>
              <a:xfrm>
                <a:off x="5491080" y="4653000"/>
                <a:ext cx="1503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Text Box 15"/>
          <p:cNvSpPr/>
          <p:nvPr/>
        </p:nvSpPr>
        <p:spPr>
          <a:xfrm>
            <a:off x="5219640" y="6093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6"/>
              <p:cNvSpPr txBox="1"/>
              <p:nvPr/>
            </p:nvSpPr>
            <p:spPr>
              <a:xfrm>
                <a:off x="6084720" y="4076640"/>
                <a:ext cx="15670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7"/>
              <p:cNvSpPr txBox="1"/>
              <p:nvPr/>
            </p:nvSpPr>
            <p:spPr>
              <a:xfrm>
                <a:off x="5800680" y="5157720"/>
                <a:ext cx="930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Text Box 18"/>
          <p:cNvSpPr/>
          <p:nvPr/>
        </p:nvSpPr>
        <p:spPr>
          <a:xfrm>
            <a:off x="5435640" y="5805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5508720" y="5661000"/>
            <a:ext cx="1368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0"/>
          <p:cNvSpPr/>
          <p:nvPr/>
        </p:nvSpPr>
        <p:spPr>
          <a:xfrm>
            <a:off x="5148360" y="1773360"/>
            <a:ext cx="0" cy="47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>
            <a:off x="250920" y="4221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3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592360" cy="385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4" descr=""/>
          <p:cNvPicPr/>
          <p:nvPr/>
        </p:nvPicPr>
        <p:blipFill>
          <a:blip r:embed="rId3"/>
          <a:stretch/>
        </p:blipFill>
        <p:spPr>
          <a:xfrm>
            <a:off x="6300720" y="2565360"/>
            <a:ext cx="935280" cy="5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7"/>
              <p:cNvSpPr txBox="1"/>
              <p:nvPr/>
            </p:nvSpPr>
            <p:spPr>
              <a:xfrm>
                <a:off x="7219800" y="4581360"/>
                <a:ext cx="1503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8"/>
              <p:cNvSpPr txBox="1"/>
              <p:nvPr/>
            </p:nvSpPr>
            <p:spPr>
              <a:xfrm>
                <a:off x="7496280" y="5229360"/>
                <a:ext cx="996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шить самостоятельно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8080" y="19047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3000"/>
          </a:bodyPr>
          <a:p>
            <a:pPr marL="219600" indent="-21960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бота по вариантам, на индивидуальных карточках 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4038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95280" y="692280"/>
            <a:ext cx="8497800" cy="151272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23232"/>
                </a:solidFill>
                <a:latin typeface="Tahoma"/>
              </a:rPr>
              <a:t>Показательные неравен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39640" y="2852640"/>
            <a:ext cx="33829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003640" y="2637000"/>
            <a:ext cx="38163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ейшие нераве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547640" y="4292640"/>
            <a:ext cx="52563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неравен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205092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659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4211640" y="2205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Определение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362800" cy="345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Показательные неравенства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– </a:t>
            </a:r>
            <a:br>
              <a:rPr sz="3300"/>
            </a:br>
            <a:r>
              <a:rPr b="0" i="1" lang="ru-RU" sz="3300" spc="-1" strike="noStrike" u="sng">
                <a:solidFill>
                  <a:srgbClr val="ff0000"/>
                </a:solidFill>
                <a:uFillTx/>
                <a:latin typeface="Verdana"/>
              </a:rPr>
              <a:t>это неравенства, в которых неизвестное содержится в показателе степени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781360" y="5008680"/>
                <a:ext cx="13698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6"/>
              <p:cNvSpPr txBox="1"/>
              <p:nvPr/>
            </p:nvSpPr>
            <p:spPr>
              <a:xfrm>
                <a:off x="4775040" y="5073480"/>
                <a:ext cx="2995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468360" y="51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иды неравенств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нейное нер-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х+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8х+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lt;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0024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вадратное нер-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2-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+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800240" y="4038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11280" y="549360"/>
            <a:ext cx="7921440" cy="504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8542"/>
                </a:solidFill>
                <a:latin typeface="Verdana"/>
              </a:rPr>
              <a:t>Простейшие показательные неравенства – это неравенства вида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1042920" y="2637000"/>
                <a:ext cx="216072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042920" y="364500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Rectangle 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4788000" y="2565360"/>
                <a:ext cx="23050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1"/>
              <p:cNvSpPr txBox="1"/>
              <p:nvPr/>
            </p:nvSpPr>
            <p:spPr>
              <a:xfrm>
                <a:off x="4859280" y="3573360"/>
                <a:ext cx="21909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Line 12"/>
          <p:cNvSpPr/>
          <p:nvPr/>
        </p:nvSpPr>
        <p:spPr>
          <a:xfrm>
            <a:off x="3924360" y="27813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611280" y="454104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де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&gt; 0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чис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24000" y="2637000"/>
            <a:ext cx="8496000" cy="172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"/>
          <p:cNvSpPr/>
          <p:nvPr/>
        </p:nvSpPr>
        <p:spPr>
          <a:xfrm>
            <a:off x="7308720" y="3213000"/>
            <a:ext cx="503280" cy="5493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932360" y="2997360"/>
            <a:ext cx="504720" cy="502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3059280" y="3284640"/>
            <a:ext cx="502920" cy="5745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971640" y="2997360"/>
            <a:ext cx="431640" cy="502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250920" y="333360"/>
            <a:ext cx="86421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ри решении </a:t>
            </a:r>
            <a:r>
              <a:rPr b="1" i="1" lang="ru-RU" sz="3600" spc="-1" strike="noStrike">
                <a:solidFill>
                  <a:srgbClr val="1b587c"/>
                </a:solidFill>
                <a:latin typeface="Arial"/>
              </a:rPr>
              <a:t>простейших</a:t>
            </a:r>
            <a:r>
              <a:rPr b="0" i="1" lang="ru-RU" sz="36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неравенств используют свойства возрастания или убывания показательной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2"/>
              <p:cNvSpPr txBox="1"/>
              <p:nvPr/>
            </p:nvSpPr>
            <p:spPr>
              <a:xfrm>
                <a:off x="539640" y="2852640"/>
                <a:ext cx="34560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4"/>
              <p:cNvSpPr txBox="1"/>
              <p:nvPr/>
            </p:nvSpPr>
            <p:spPr>
              <a:xfrm>
                <a:off x="4356000" y="2852640"/>
                <a:ext cx="39610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15"/>
          <p:cNvSpPr/>
          <p:nvPr/>
        </p:nvSpPr>
        <p:spPr>
          <a:xfrm>
            <a:off x="250920" y="4365720"/>
            <a:ext cx="856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4140360" y="2924280"/>
            <a:ext cx="0" cy="1296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"/>
          <p:cNvPicPr/>
          <p:nvPr/>
        </p:nvPicPr>
        <p:blipFill>
          <a:blip r:embed="rId1"/>
          <a:srcRect l="11002" t="22000" r="32004" b="9998"/>
          <a:stretch/>
        </p:blipFill>
        <p:spPr>
          <a:xfrm>
            <a:off x="324000" y="1890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>
            <a:off x="22860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266688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2209680" y="838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3429000" y="838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0"/>
              <p:cNvSpPr txBox="1"/>
              <p:nvPr/>
            </p:nvSpPr>
            <p:spPr>
              <a:xfrm>
                <a:off x="1676520" y="2514600"/>
                <a:ext cx="3855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1"/>
              <p:cNvSpPr txBox="1"/>
              <p:nvPr/>
            </p:nvSpPr>
            <p:spPr>
              <a:xfrm>
                <a:off x="2514600" y="3581280"/>
                <a:ext cx="2523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676520" y="762120"/>
                <a:ext cx="40788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3"/>
              <p:cNvSpPr txBox="1"/>
              <p:nvPr/>
            </p:nvSpPr>
            <p:spPr>
              <a:xfrm>
                <a:off x="3276720" y="3581280"/>
                <a:ext cx="272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4"/>
              <p:cNvSpPr txBox="1"/>
              <p:nvPr/>
            </p:nvSpPr>
            <p:spPr>
              <a:xfrm>
                <a:off x="457200" y="304920"/>
                <a:ext cx="10033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4" name="Picture 15" descr=""/>
          <p:cNvPicPr/>
          <p:nvPr/>
        </p:nvPicPr>
        <p:blipFill>
          <a:blip r:embed="rId2"/>
          <a:srcRect l="45000" t="26000" r="0" b="8669"/>
          <a:stretch/>
        </p:blipFill>
        <p:spPr>
          <a:xfrm>
            <a:off x="4952880" y="189000"/>
            <a:ext cx="4191120" cy="373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5" name="Object 16"/>
              <p:cNvSpPr txBox="1"/>
              <p:nvPr/>
            </p:nvSpPr>
            <p:spPr>
              <a:xfrm>
                <a:off x="7485120" y="380880"/>
                <a:ext cx="16588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Line 17"/>
          <p:cNvSpPr/>
          <p:nvPr/>
        </p:nvSpPr>
        <p:spPr>
          <a:xfrm flipH="1">
            <a:off x="5638320" y="838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5638680" y="838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 flipH="1">
            <a:off x="6400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640080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1"/>
              <p:cNvSpPr txBox="1"/>
              <p:nvPr/>
            </p:nvSpPr>
            <p:spPr>
              <a:xfrm>
                <a:off x="7010280" y="2514600"/>
                <a:ext cx="3859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2"/>
              <p:cNvSpPr txBox="1"/>
              <p:nvPr/>
            </p:nvSpPr>
            <p:spPr>
              <a:xfrm>
                <a:off x="6248520" y="3581280"/>
                <a:ext cx="2523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3"/>
              <p:cNvSpPr txBox="1"/>
              <p:nvPr/>
            </p:nvSpPr>
            <p:spPr>
              <a:xfrm>
                <a:off x="7086600" y="685800"/>
                <a:ext cx="407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4"/>
              <p:cNvSpPr txBox="1"/>
              <p:nvPr/>
            </p:nvSpPr>
            <p:spPr>
              <a:xfrm>
                <a:off x="5486400" y="3657600"/>
                <a:ext cx="272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5"/>
              <p:cNvSpPr txBox="1"/>
              <p:nvPr/>
            </p:nvSpPr>
            <p:spPr>
              <a:xfrm>
                <a:off x="228600" y="4191120"/>
                <a:ext cx="1994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6"/>
              <p:cNvSpPr txBox="1"/>
              <p:nvPr/>
            </p:nvSpPr>
            <p:spPr>
              <a:xfrm>
                <a:off x="380880" y="5029200"/>
                <a:ext cx="1486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7"/>
              <p:cNvSpPr txBox="1"/>
              <p:nvPr/>
            </p:nvSpPr>
            <p:spPr>
              <a:xfrm>
                <a:off x="6781680" y="4191120"/>
                <a:ext cx="1994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8"/>
              <p:cNvSpPr txBox="1"/>
              <p:nvPr/>
            </p:nvSpPr>
            <p:spPr>
              <a:xfrm>
                <a:off x="6934320" y="510552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9"/>
              <p:cNvSpPr txBox="1"/>
              <p:nvPr/>
            </p:nvSpPr>
            <p:spPr>
              <a:xfrm>
                <a:off x="3200400" y="5181480"/>
                <a:ext cx="261000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9" name="Oval 30"/>
          <p:cNvSpPr/>
          <p:nvPr/>
        </p:nvSpPr>
        <p:spPr>
          <a:xfrm>
            <a:off x="2195640" y="765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1"/>
          <p:cNvSpPr/>
          <p:nvPr/>
        </p:nvSpPr>
        <p:spPr>
          <a:xfrm>
            <a:off x="22096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2"/>
          <p:cNvSpPr/>
          <p:nvPr/>
        </p:nvSpPr>
        <p:spPr>
          <a:xfrm>
            <a:off x="685800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3"/>
          <p:cNvSpPr/>
          <p:nvPr/>
        </p:nvSpPr>
        <p:spPr>
          <a:xfrm>
            <a:off x="6858000" y="838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2627280" y="3573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19640" y="35733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64008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56386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5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4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50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6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3500"/>
                            </p:stCondLst>
                            <p:childTnLst>
                              <p:par>
                                <p:cTn id="17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Times New Roman"/>
              </a:rPr>
              <a:t>Какие из перечисленных функций являются возрастающими, а какие убывающими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2"/>
              <p:cNvSpPr txBox="1"/>
              <p:nvPr/>
            </p:nvSpPr>
            <p:spPr>
              <a:xfrm>
                <a:off x="5548320" y="4495680"/>
                <a:ext cx="3595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озрастающая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143000" y="1600200"/>
                <a:ext cx="23860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5"/>
              <p:cNvSpPr txBox="1"/>
              <p:nvPr/>
            </p:nvSpPr>
            <p:spPr>
              <a:xfrm>
                <a:off x="1143000" y="2895480"/>
                <a:ext cx="31050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1066680" y="4038480"/>
                <a:ext cx="28004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1143000" y="5257800"/>
                <a:ext cx="2681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4267080" y="2057400"/>
                <a:ext cx="3598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озрастающая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4024440" y="3276720"/>
                <a:ext cx="388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бывающая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0,5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3"/>
              <p:cNvSpPr txBox="1"/>
              <p:nvPr/>
            </p:nvSpPr>
            <p:spPr>
              <a:xfrm>
                <a:off x="4267080" y="5638680"/>
                <a:ext cx="3656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озрастающая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587c"/>
                </a:solidFill>
                <a:latin typeface="Verdana"/>
              </a:rPr>
              <a:t>Какие из функций являются возрастающими, а какие убывающими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838080" y="1752480"/>
                <a:ext cx="272736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838080" y="4267080"/>
                <a:ext cx="32241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4102200" y="2362320"/>
                <a:ext cx="37116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бывающая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"/>
              <p:cNvSpPr txBox="1"/>
              <p:nvPr/>
            </p:nvSpPr>
            <p:spPr>
              <a:xfrm>
                <a:off x="3773520" y="4495680"/>
                <a:ext cx="54259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бывающая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и</m:t>
                    </m:r>
                    <m:r>
                      <m:t xml:space="preserve">0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2:27:35Z</dcterms:created>
  <dc:creator>admin</dc:creator>
  <dc:description/>
  <dc:language>en-US</dc:language>
  <cp:lastModifiedBy>МОУ СОШ №76</cp:lastModifiedBy>
  <dcterms:modified xsi:type="dcterms:W3CDTF">2015-03-19T16:04:49Z</dcterms:modified>
  <cp:revision>81</cp:revision>
  <dc:subject/>
  <dc:title>Показательные уравнения</dc:title>
</cp:coreProperties>
</file>