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4456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88D-A4DF-4B4A-920B-0453F17AC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66C-ED9E-45B3-BA6D-E90D5A3DF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AA7-7F1F-485C-A14B-F8E8EA1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73E-0F4E-4CE6-B48D-5E48BBF8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DE0-C397-40D2-B7B2-BFC80180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9E2-4C6C-442A-9728-376BA70D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7393-46CD-46A1-93C2-73C835D9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C6BA-675D-4680-96BF-28C5674D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158E-6BCA-419E-BA61-7DFCB336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A5B6-8304-4FE6-B950-33D95C7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F665-A3A8-416D-A7C4-ADC901E1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B7B2-2779-4111-93F2-0A3089C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BF3-4259-4E2C-A165-5BDA80A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1A8-E429-4347-9AEC-2986477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93E-DF32-4C14-A7F4-0B2023B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2F4E-91DD-4301-86C0-B5D2F89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C5D0-5D49-42E3-AC13-97E56B46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FB9-B835-4BC7-98D0-6CCCD042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AFD-C08B-40A6-A822-2C5CE339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4F8-BD3D-473A-AAB0-EE094791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99E-79A4-4758-B5C8-625FE2C8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3D3-CAFA-4ECD-859E-05213723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451-67DC-4A6A-95BD-DF89D08A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07A-2C19-4ADC-805F-347D334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2AF-26F8-4123-BEF1-01ACFD4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EA9-9AFE-4AB9-ABCD-5B2A80C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4456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F283-8BEB-4F46-A83D-E72676C5AC7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4456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4168-7344-4D41-B995-B605F525086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9"/>
          <p:cNvSpPr/>
          <p:nvPr/>
        </p:nvSpPr>
        <p:spPr>
          <a:xfrm>
            <a:off x="357192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1947960" y="1989000"/>
            <a:ext cx="60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  <a:ea typeface="Arial"/>
              </a:rPr>
              <a:t>Краткие прилагатель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с двумя скругленными соседними углами 1"/>
          <p:cNvSpPr/>
          <p:nvPr/>
        </p:nvSpPr>
        <p:spPr>
          <a:xfrm>
            <a:off x="5364000" y="5013360"/>
            <a:ext cx="293076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a7a"/>
                </a:solidFill>
                <a:latin typeface="Palatino Linotype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2e1f"/>
                </a:solidFill>
                <a:latin typeface="Palatino Linotype"/>
              </a:rPr>
              <a:t>Имена прилагательные могут быть краткой и полной формы</a:t>
            </a:r>
            <a:endParaRPr b="0" lang="en-US" sz="32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57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олные прилагательные отвечают на вопрос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1" lang="ru-RU" sz="3200" spc="-1" strike="noStrike">
                <a:solidFill>
                  <a:srgbClr val="9d4969"/>
                </a:solidFill>
                <a:latin typeface="Century Gothic"/>
              </a:rPr>
              <a:t>какой? чей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043"/>
                </a:solidFill>
                <a:latin typeface="Century Gothic"/>
              </a:rPr>
              <a:t># гладкий, дядин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Краткие прилагательные отвечают на вопрос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     </a:t>
            </a:r>
            <a:r>
              <a:rPr b="1" lang="ru-RU" sz="3200" spc="-1" strike="noStrike">
                <a:solidFill>
                  <a:srgbClr val="9d4969"/>
                </a:solidFill>
                <a:latin typeface="Century Gothic"/>
              </a:rPr>
              <a:t>каков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043"/>
                </a:solidFill>
                <a:latin typeface="Century Gothic"/>
              </a:rPr>
              <a:t># пахуч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26828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ы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вы?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ы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с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в?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башк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(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ва?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лен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арок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в?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ив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о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во?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ло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907560"/>
            <a:ext cx="83595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2e1f"/>
                </a:solidFill>
                <a:latin typeface="Century Gothic"/>
              </a:rPr>
              <a:t>Запишите пословицы. Укажите краткие прилагательные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1) Для умелой руки все работы легк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2) Корень учения горек, да плод сладок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3)Сам стар, да душа молод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52e1f"/>
                </a:solidFill>
                <a:latin typeface="Century Gothic"/>
              </a:rPr>
              <a:t>Распределительный диктант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Яркий, талантлив,красивый, свеж, высокий, низок, зол, богатый, светел, весел, темный, колюч, горячий, краток, могуч, краткий, красив,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76120" y="1120680"/>
          <a:ext cx="8666280" cy="4997520"/>
        </p:xfrm>
        <a:graphic>
          <a:graphicData uri="http://schemas.openxmlformats.org/drawingml/2006/table">
            <a:tbl>
              <a:tblPr/>
              <a:tblGrid>
                <a:gridCol w="4334040"/>
                <a:gridCol w="4332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Palatino Linotype"/>
                        </a:rPr>
                        <a:t>Полные прилага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Palatino Linotype"/>
                        </a:rPr>
                        <a:t>Краткие прилага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Яр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раси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Бога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ём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Горя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рат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алантл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в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Низ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З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вет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ес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лю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Могу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рас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с одним вырезанным углом 2"/>
          <p:cNvSpPr/>
          <p:nvPr/>
        </p:nvSpPr>
        <p:spPr>
          <a:xfrm>
            <a:off x="250920" y="189000"/>
            <a:ext cx="388944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2e1f"/>
                </a:solidFill>
                <a:latin typeface="Palatino Linotype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424456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Водопад (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каков?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) могуч, гремуч,  блестящ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Бензин (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каков?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) горюч и вонюч,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Цвет (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каков?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) беж,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Ёж (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каков?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) колюч,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Лес (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каков?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) дремуч, скрипуч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Мальчик (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каков?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) певуч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26064"/>
                </a:solidFill>
                <a:latin typeface="Century Gothic"/>
              </a:rPr>
              <a:t>Краткие прилагательные мужского рода оканчивающиеся на шипящий пишутся без</a:t>
            </a:r>
            <a:r>
              <a:rPr b="1" i="1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i="1" lang="ru-RU" sz="3600" spc="-1" strike="noStrike">
                <a:solidFill>
                  <a:srgbClr val="502652"/>
                </a:solidFill>
                <a:latin typeface="Century Gothic"/>
              </a:rPr>
              <a:t>Ь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19:58Z</dcterms:created>
  <dc:creator>Татьяна</dc:creator>
  <dc:description>Корпорация Майкрософт</dc:description>
  <cp:keywords>Корпорация Майкрософт</cp:keywords>
  <dc:language>en-US</dc:language>
  <cp:lastModifiedBy>user</cp:lastModifiedBy>
  <dcterms:modified xsi:type="dcterms:W3CDTF">2015-03-13T08:54:04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01049</vt:lpwstr>
  </property>
</Properties>
</file>