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3232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7824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2"/>
          </p:nvPr>
        </p:nvSpPr>
        <p:spPr>
          <a:xfrm>
            <a:off x="4278240" y="1015488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090792-DFE9-43C1-9BE9-BA8E2D6A2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B717A5-2510-420A-A378-771B943A4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7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BCB14-C2A0-4465-88E0-43DBF9943C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67880"/>
            <a:ext cx="90583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86A29-23B2-478F-A1CE-3E6957947C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6788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120" y="436788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F66E0-87C2-4F9C-820C-D3DFBF903F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636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5800" y="1767960"/>
            <a:ext cx="291636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8320" y="1767960"/>
            <a:ext cx="291636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67880"/>
            <a:ext cx="291636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5800" y="4367880"/>
            <a:ext cx="291636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8320" y="4367880"/>
            <a:ext cx="291636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0D859-4258-4A36-BCB3-F37850F92E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832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7086F-E488-4CCE-833E-1DEE298FD7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3B9E7-F21C-4695-B5D9-74F01EEF35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9B2F4-BBE3-40EA-8E63-E33052B286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CED11-D845-47B7-9999-4F2A5E58EC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58320" cy="57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6FB01-2F3E-4A54-B75C-636BAB65A1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6788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C1823-1EE4-4EFF-887D-0748083457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120" y="436788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2AD06-F04D-4854-AFC5-99A5BC14D6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67880"/>
            <a:ext cx="90583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E0F15-AEC0-4721-8A6E-CA18154748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832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03280" y="6886440"/>
            <a:ext cx="23414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48080" y="6886440"/>
            <a:ext cx="31892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36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CEDC9-7BF0-4C5F-A413-C1B88281090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9280" y="6300720"/>
            <a:ext cx="9899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59280" y="1979640"/>
            <a:ext cx="3366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3280" y="306360"/>
            <a:ext cx="9066240" cy="12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3280" y="1768320"/>
            <a:ext cx="906624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79640" y="5400720"/>
            <a:ext cx="4859280" cy="1260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20720" y="716040"/>
            <a:ext cx="8820000" cy="1084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079640" y="1800360"/>
            <a:ext cx="1079280" cy="900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160720" y="1979640"/>
            <a:ext cx="6895800" cy="779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413000" y="2879640"/>
            <a:ext cx="1646280" cy="900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3240000" y="2879640"/>
            <a:ext cx="2075040" cy="900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1620720" y="3959280"/>
            <a:ext cx="3780000" cy="900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659640" y="5400720"/>
            <a:ext cx="2700360" cy="107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 fill="hold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dur="indefinite" fill="hold">
                      <p:stCondLst>
                        <p:cond delay="indefinite"/>
                      </p:stCondLst>
                      <p:childTnLst>
                        <p:par>
                          <p:cTn id="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dur="indefinite" fill="hold">
                      <p:stCondLst>
                        <p:cond delay="indefinite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4:32:33Z</dcterms:created>
  <dc:creator/>
  <dc:description/>
  <dc:language>en-US</dc:language>
  <cp:lastModifiedBy>Галина Рулькевич</cp:lastModifiedBy>
  <dcterms:modified xsi:type="dcterms:W3CDTF">2015-02-23T08:07:59Z</dcterms:modified>
  <cp:revision>5</cp:revision>
  <dc:subject/>
  <dc:title>Слайд 1</dc:title>
</cp:coreProperties>
</file>