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jpeg" ContentType="image/jpeg"/>
  <Override PartName="/ppt/media/image13.png" ContentType="image/png"/>
  <Override PartName="/ppt/media/image8.png" ContentType="image/png"/>
  <Override PartName="/ppt/media/image1.gif" ContentType="image/gif"/>
  <Override PartName="/ppt/media/image6.jpeg" ContentType="image/jpeg"/>
  <Override PartName="/ppt/media/image10.png" ContentType="image/png"/>
  <Override PartName="/ppt/media/image3.wmf" ContentType="image/x-wmf"/>
  <Override PartName="/ppt/media/chimes.wav" ContentType="audio/x-wav"/>
  <Override PartName="/ppt/media/image16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91B-0B24-44E0-BD83-3A243DC4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60F-8851-4081-B356-96F79AE7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511-E279-4447-83C4-849124F7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135-C055-4D80-91C4-F3075702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81A-D4F4-4BC3-8A4B-EEB68A93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605-7FDB-4F35-A953-49F10667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5E9-45A5-4130-9BB9-D93029BB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043-FD11-4767-9026-7884DCD0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620-FA93-460A-8907-333F0029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415-CA55-4489-9AF6-700E2F45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063-936E-4FD5-B7EF-F38F63A7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135-0C57-441C-BDDC-2ADD0912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0282-F9E0-42FF-81C9-CB21B4B1B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11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838080"/>
            <a:ext cx="3909960" cy="23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ревняя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952880" y="4267080"/>
            <a:ext cx="3810240" cy="21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дия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0988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Интегрированный ур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истории и информат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5 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129" descr=""/>
          <p:cNvPicPr/>
          <p:nvPr/>
        </p:nvPicPr>
        <p:blipFill>
          <a:blip r:embed="rId1"/>
          <a:stretch/>
        </p:blipFill>
        <p:spPr>
          <a:xfrm>
            <a:off x="3352680" y="49528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45" name="обезьяна1%20copy" descr=""/>
          <p:cNvPicPr/>
          <p:nvPr/>
        </p:nvPicPr>
        <p:blipFill>
          <a:blip r:embed="rId2"/>
          <a:stretch/>
        </p:blipFill>
        <p:spPr>
          <a:xfrm>
            <a:off x="5334120" y="228600"/>
            <a:ext cx="3305160" cy="3567240"/>
          </a:xfrm>
          <a:prstGeom prst="rect">
            <a:avLst/>
          </a:prstGeom>
          <a:ln w="0">
            <a:noFill/>
          </a:ln>
        </p:spPr>
      </p:pic>
      <p:pic>
        <p:nvPicPr>
          <p:cNvPr id="46" name="BANANAS1" descr=""/>
          <p:cNvPicPr/>
          <p:nvPr/>
        </p:nvPicPr>
        <p:blipFill>
          <a:blip r:embed="rId3"/>
          <a:stretch/>
        </p:blipFill>
        <p:spPr>
          <a:xfrm>
            <a:off x="5334120" y="3200400"/>
            <a:ext cx="834840" cy="925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0960" y="307800"/>
            <a:ext cx="69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кажите пожалуйста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143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ак звали бога, который, согласно верованиям индийцев, создал людей из разных частей своего тел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920" y="190512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ах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360" y="250992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Из какой части тела бога Брахмы появились жрецы-брахман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34840" y="28605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7680" y="3424320"/>
            <a:ext cx="76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Из какой части тела бога Брахмы появились воин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34480" y="36226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р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360" y="433872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Из какой части тела бога Брахмы появились земледельц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9600" y="47242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бе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525312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Из какой части тела бога Брахмы появились слу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11520" y="560376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ступней н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380880"/>
            <a:ext cx="8245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Уважаемые пятиклассник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ы совершили путешествие в Древнюю Индию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зучение истории этой удивительной страны мы продолжим на следующих уроках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А сейчас нам интересно узнать, что же вы запомнили из этого путешествия. Для этого перейдите в программу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«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crosoft Word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74560"/>
            <a:ext cx="815328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Уважаемые пятиклассники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Приглашаем вас в виртуальное путешествие по удивительной стране Индии. Надеемся, что оно будет для вас интересным и познавательны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Месторасположение Древней Инд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карта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433760" cy="586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51720" y="47242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Столиц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99480" y="114300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Индия расположе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2080" y="15238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Южной Аз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84160" y="20527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ерега омыва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4920" y="236232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76880" y="296712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оры на севере Инд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5600" y="33526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мала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38098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лавные реки Инд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9280" y="411480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д, Ган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8040" y="5029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талипут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еопард%20copy" descr=""/>
          <p:cNvPicPr/>
          <p:nvPr/>
        </p:nvPicPr>
        <p:blipFill>
          <a:blip r:embed="rId2"/>
          <a:stretch/>
        </p:blipFill>
        <p:spPr>
          <a:xfrm>
            <a:off x="5181480" y="4444920"/>
            <a:ext cx="3962520" cy="241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0"/>
            <a:ext cx="73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Растительный и живот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змея%20copy" descr=""/>
          <p:cNvPicPr/>
          <p:nvPr/>
        </p:nvPicPr>
        <p:blipFill>
          <a:blip r:embed="rId3"/>
          <a:stretch/>
        </p:blipFill>
        <p:spPr>
          <a:xfrm>
            <a:off x="8031240" y="5257800"/>
            <a:ext cx="1112760" cy="1762200"/>
          </a:xfrm>
          <a:prstGeom prst="rect">
            <a:avLst/>
          </a:prstGeom>
          <a:ln w="0">
            <a:noFill/>
          </a:ln>
        </p:spPr>
      </p:pic>
      <p:pic>
        <p:nvPicPr>
          <p:cNvPr id="63" name="ANI010" descr=""/>
          <p:cNvPicPr/>
          <p:nvPr/>
        </p:nvPicPr>
        <p:blipFill>
          <a:blip r:embed="rId4"/>
          <a:stretch/>
        </p:blipFill>
        <p:spPr>
          <a:xfrm>
            <a:off x="2286000" y="3276720"/>
            <a:ext cx="2106720" cy="2155680"/>
          </a:xfrm>
          <a:prstGeom prst="rect">
            <a:avLst/>
          </a:prstGeom>
          <a:ln w="0">
            <a:noFill/>
          </a:ln>
        </p:spPr>
      </p:pic>
      <p:pic>
        <p:nvPicPr>
          <p:cNvPr id="64" name="ев%20copy" descr=""/>
          <p:cNvPicPr/>
          <p:nvPr/>
        </p:nvPicPr>
        <p:blipFill>
          <a:blip r:embed="rId5"/>
          <a:stretch/>
        </p:blipFill>
        <p:spPr>
          <a:xfrm>
            <a:off x="0" y="4745160"/>
            <a:ext cx="3429000" cy="2112840"/>
          </a:xfrm>
          <a:prstGeom prst="rect">
            <a:avLst/>
          </a:prstGeom>
          <a:ln w="0">
            <a:noFill/>
          </a:ln>
        </p:spPr>
      </p:pic>
      <p:pic>
        <p:nvPicPr>
          <p:cNvPr id="65" name="обезьяна1%20copy" descr=""/>
          <p:cNvPicPr/>
          <p:nvPr/>
        </p:nvPicPr>
        <p:blipFill>
          <a:blip r:embed="rId6"/>
          <a:stretch/>
        </p:blipFill>
        <p:spPr>
          <a:xfrm>
            <a:off x="6897600" y="304920"/>
            <a:ext cx="2246400" cy="2423880"/>
          </a:xfrm>
          <a:prstGeom prst="rect">
            <a:avLst/>
          </a:prstGeom>
          <a:ln w="0">
            <a:noFill/>
          </a:ln>
        </p:spPr>
      </p:pic>
      <p:pic>
        <p:nvPicPr>
          <p:cNvPr id="66" name="бамбук%20копия" descr=""/>
          <p:cNvPicPr/>
          <p:nvPr/>
        </p:nvPicPr>
        <p:blipFill>
          <a:blip r:embed="rId7"/>
          <a:stretch/>
        </p:blipFill>
        <p:spPr>
          <a:xfrm>
            <a:off x="0" y="0"/>
            <a:ext cx="14590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8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6880" y="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Животные и бо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змейсв%20copy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1673280" cy="4734000"/>
          </a:xfrm>
          <a:prstGeom prst="rect">
            <a:avLst/>
          </a:prstGeom>
          <a:ln w="0">
            <a:noFill/>
          </a:ln>
        </p:spPr>
      </p:pic>
      <p:pic>
        <p:nvPicPr>
          <p:cNvPr id="69" name="Ганеша%20copy" descr=""/>
          <p:cNvPicPr/>
          <p:nvPr/>
        </p:nvPicPr>
        <p:blipFill>
          <a:blip r:embed="rId2"/>
          <a:stretch/>
        </p:blipFill>
        <p:spPr>
          <a:xfrm>
            <a:off x="6810480" y="3048120"/>
            <a:ext cx="2333520" cy="4800600"/>
          </a:xfrm>
          <a:prstGeom prst="rect">
            <a:avLst/>
          </a:prstGeom>
          <a:ln w="0">
            <a:noFill/>
          </a:ln>
        </p:spPr>
      </p:pic>
      <p:pic>
        <p:nvPicPr>
          <p:cNvPr id="70" name="татуя%20льва%20со%20словами%20copy" descr=""/>
          <p:cNvPicPr/>
          <p:nvPr/>
        </p:nvPicPr>
        <p:blipFill>
          <a:blip r:embed="rId3"/>
          <a:stretch/>
        </p:blipFill>
        <p:spPr>
          <a:xfrm>
            <a:off x="3276720" y="533520"/>
            <a:ext cx="2079360" cy="6019560"/>
          </a:xfrm>
          <a:prstGeom prst="rect">
            <a:avLst/>
          </a:prstGeom>
          <a:ln w="0">
            <a:noFill/>
          </a:ln>
        </p:spPr>
      </p:pic>
      <p:pic>
        <p:nvPicPr>
          <p:cNvPr id="71" name="COW" descr=""/>
          <p:cNvPicPr/>
          <p:nvPr/>
        </p:nvPicPr>
        <p:blipFill>
          <a:blip r:embed="rId4"/>
          <a:stretch/>
        </p:blipFill>
        <p:spPr>
          <a:xfrm>
            <a:off x="5257800" y="1214280"/>
            <a:ext cx="1828800" cy="1262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666880" y="4724280"/>
            <a:ext cx="314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ерхняя часть каменной колонны, воздвигнутой при царе Ашоке. Сейчас изображение четырех львов – герб Республики Инд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2895480"/>
            <a:ext cx="17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Бог Ганеша. Старинная индийская скульп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295280"/>
            <a:ext cx="27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вященный змей и танцующее божество. Старинная индийская стату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60948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орову называли матерью, божественной кормилиц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5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34640" y="155520"/>
            <a:ext cx="69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кажите пожалуйста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447920"/>
            <a:ext cx="57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акие животные обитают в джунглях Инд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414504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аких животных индийцы почитали и обожествля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5120" y="2022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ь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12560" y="2971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иг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72160" y="20988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8200" y="29718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ме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7880" y="21337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зья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7440" y="48006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4120" y="541008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м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6080" y="47242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40480" y="533412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маленький%20брахма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149640" cy="4724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5040" y="928800"/>
            <a:ext cx="855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ст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группа людей, обладающая определенными правами и обязанностями. Принадлежность к касте передавалась по наследств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19432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аждый индиец с самого рождения принадлежал к одной из четырех кас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4680" y="3124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ре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51760" y="38098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натные во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48006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емледель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600" y="5715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ндийские кас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55400" y="304920"/>
            <a:ext cx="69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кажите пожалуйста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4428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ак называется группа людей, обладающая определенными правами и обязанностями, принадлежность к которой передавалась по наследств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3720" y="240336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1099080" y="3271680"/>
            <a:ext cx="103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Назовите основные касты, существовавшие в Древней Инд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6200" y="39625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рецы-брахм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5920" y="472428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4680" y="52578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емледель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5943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Брахма%20copy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537000" cy="560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66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38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дийцы верили, что каждая каста произошла из какой-либо части тела бога Брах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34480" y="16416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рецы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рахм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10080" y="205704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20574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2438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1760" y="446076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земледель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87692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2600" y="47242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лу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57800" y="5105160"/>
            <a:ext cx="205740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13560" y="2144880"/>
            <a:ext cx="21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рот) – поэтому они знают, как произносить молит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9880" y="5372280"/>
            <a:ext cx="21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ступни ног) – находятся ниже все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590920"/>
            <a:ext cx="19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руки) – поэтому умеют сражать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040" y="491508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бедра) – пашут землю и пасут ск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852120" y="0"/>
            <a:ext cx="1104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Миф о происхождении четыре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4:33:18Z</dcterms:created>
  <dc:creator>Alex</dc:creator>
  <dc:description/>
  <dc:language>en-US</dc:language>
  <cp:lastModifiedBy>Teacher</cp:lastModifiedBy>
  <dcterms:modified xsi:type="dcterms:W3CDTF">2003-12-01T06:59:49Z</dcterms:modified>
  <cp:revision>16</cp:revision>
  <dc:subject/>
  <dc:title>Презентация PowerPoint</dc:title>
</cp:coreProperties>
</file>