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E6C-5119-4C2C-B53C-2CCD235D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836-9FD9-444C-B6E3-6E57ED9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93E-92D7-497C-86C9-553CEDB7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6F1-52F1-4A50-8E2F-24FAC149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EA7-AEFF-478E-A044-32325058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2FB-8079-4612-A4CD-8C5B10EA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82E-97E0-42C4-9528-DCB1AA2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D18-EA48-4ABB-A480-D519964B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58B-ECDF-4B8A-A66D-915C38C2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2CA-E168-4771-9017-204B5CD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F0B-E346-4B73-B3BE-8F7C732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729-7080-47B0-938E-C2445BE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7EF-D00F-4486-8F86-48262F1B3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Европейское общество</a:t>
            </a:r>
            <a:br>
              <a:rPr sz="4400"/>
            </a:b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в раннее 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797280" cy="378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Text Box 5"/>
          <p:cNvSpPr/>
          <p:nvPr/>
        </p:nvSpPr>
        <p:spPr>
          <a:xfrm>
            <a:off x="53964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ение наемных было тяжелым. Низкая оплата труда женщин 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6093000"/>
            <a:ext cx="345600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ской брод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427640" y="1484280"/>
            <a:ext cx="4392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Кровавые закон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рет на сбор милостыни на городских у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шение бродяги занимающегося попрошайни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ильственное превращение пойманного бродяги в рабо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еймение сбежавшего, но пойманного  бродя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5, стр.50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 сообщение по выбранной 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«Питание европейцев в Новое время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-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в.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«Гигиена европейцев в Новое время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-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в.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" name="Прямая со стрелкой 19"/>
          <p:cNvCxnSpPr>
            <a:endCxn id="43" idx="0"/>
          </p:cNvCxnSpPr>
          <p:nvPr/>
        </p:nvCxnSpPr>
        <p:spPr>
          <a:xfrm>
            <a:off x="4500720" y="1341000"/>
            <a:ext cx="2016720" cy="2592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4" name="Прямая со стрелкой 17"/>
          <p:cNvCxnSpPr>
            <a:endCxn id="45" idx="0"/>
          </p:cNvCxnSpPr>
          <p:nvPr/>
        </p:nvCxnSpPr>
        <p:spPr>
          <a:xfrm flipH="1">
            <a:off x="2410920" y="1341360"/>
            <a:ext cx="2090160" cy="2664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уктура 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179280" y="2060640"/>
            <a:ext cx="2521080" cy="7207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уржу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2987640" y="206064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6156360" y="206064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5003640" y="3933720"/>
            <a:ext cx="3024360" cy="100800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емные рабо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900000" y="4005360"/>
            <a:ext cx="3024360" cy="7189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родя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9"/>
          <p:cNvCxnSpPr/>
          <p:nvPr/>
        </p:nvCxnSpPr>
        <p:spPr>
          <a:xfrm flipH="1">
            <a:off x="1618920" y="1340280"/>
            <a:ext cx="2882160" cy="648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1" name="Прямая со стрелкой 13"/>
          <p:cNvCxnSpPr/>
          <p:nvPr/>
        </p:nvCxnSpPr>
        <p:spPr>
          <a:xfrm flipH="1">
            <a:off x="4498200" y="1341000"/>
            <a:ext cx="2520" cy="648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2" name="Прямая со стрелкой 15"/>
          <p:cNvCxnSpPr>
            <a:endCxn id="49" idx="0"/>
          </p:cNvCxnSpPr>
          <p:nvPr/>
        </p:nvCxnSpPr>
        <p:spPr>
          <a:xfrm>
            <a:off x="4500360" y="1341360"/>
            <a:ext cx="2951640" cy="72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жуазия Нов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112536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«Буржу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(Франци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) – почтенные граждане города, владеющие собственностью и ведущие достойн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564000" y="836640"/>
            <a:ext cx="5037120" cy="335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611280" y="4653000"/>
            <a:ext cx="799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очитайте пункт 1, стр. 50 и ответьте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о называли «буржуа»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категории населения входили в состав буржуа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жуазия Нов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1773360"/>
            <a:ext cx="3816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уржуаз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) - предприниматели, имевшие свое дело в торговле, промышленности или банковск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19640" y="1989000"/>
            <a:ext cx="352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Откупщ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человек, бравший на откуп сбор какой-либо пошлины или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Таль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главный налог 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естья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716360" y="1484280"/>
            <a:ext cx="403236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жители Европы – крестья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 используя текст учебника –стр. 50-51, пункт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зменилось положение крестьян в Нов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400280" cy="4367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140360" y="2565360"/>
            <a:ext cx="4803480" cy="3370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5003640" y="609300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нцузское крестья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4000" y="692280"/>
            <a:ext cx="280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Фермер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стьяне, использовавшие наемный труд и тех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4000" y="314172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атрак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емные сельскохозяйственные рабо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492360" y="765000"/>
            <a:ext cx="56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ущественное расслоение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житочные 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оря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5040360" cy="27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4"/>
          <p:cNvSpPr/>
          <p:nvPr/>
        </p:nvSpPr>
        <p:spPr>
          <a:xfrm>
            <a:off x="468360" y="6146640"/>
            <a:ext cx="42498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оряне за игрой в шахматы. Коне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32000" y="9810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 предпринимательства захватил дворянство. С кон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начинается проце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огоражива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сильственный сгон крестьян с земли дворянами и превращение этих наделов в пастбища для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50920" y="1341360"/>
            <a:ext cx="33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овое дворянство (джентри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дворяне, занимавшиеся предприним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470560" y="112536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тарое дворя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дворяне не желавшие перемен и старавшееся сохранить свои привилегии (землевладельцы- аристокра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47636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оря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2555640" y="69228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724360" y="620640"/>
            <a:ext cx="1008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3203640" y="692280"/>
            <a:ext cx="79200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50920" y="3860640"/>
            <a:ext cx="338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таринное родовое дворя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ворянство живущее за счёт доходов от поместий, от службы при дворе или в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572000" y="378936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Воздушные дворя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дневшие 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 flipH="1">
            <a:off x="4355640" y="620640"/>
            <a:ext cx="73080" cy="43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5003640" y="692280"/>
            <a:ext cx="360360" cy="30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284720" y="5084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еродовитые дворян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ившие дворянский ти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Люди с дорожной обочи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156360" y="3860640"/>
            <a:ext cx="3311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Люмпе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лица, лишённые средств к существ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городские бедня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ЮЛИЯ\Мои документы\Мои рисунки\труд детей.jpg"/>
          <p:cNvPicPr/>
          <p:nvPr/>
        </p:nvPicPr>
        <p:blipFill>
          <a:blip r:embed="rId1"/>
          <a:stretch/>
        </p:blipFill>
        <p:spPr>
          <a:xfrm>
            <a:off x="5076720" y="981000"/>
            <a:ext cx="3800520" cy="2714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6" name="Text Box 6"/>
          <p:cNvSpPr/>
          <p:nvPr/>
        </p:nvSpPr>
        <p:spPr>
          <a:xfrm>
            <a:off x="519120" y="3448080"/>
            <a:ext cx="27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364500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ЮЛИЯ\Мои документы\Мои рисунки\070921134836p.jpg"/>
          <p:cNvPicPr/>
          <p:nvPr/>
        </p:nvPicPr>
        <p:blipFill>
          <a:blip r:embed="rId2"/>
          <a:stretch/>
        </p:blipFill>
        <p:spPr>
          <a:xfrm>
            <a:off x="3059280" y="3860640"/>
            <a:ext cx="3095280" cy="26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9"/>
          <p:cNvSpPr/>
          <p:nvPr/>
        </p:nvSpPr>
        <p:spPr>
          <a:xfrm>
            <a:off x="395280" y="981000"/>
            <a:ext cx="2881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емные рабочие часто попадали в разряд бед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тайте п.4, стр.53 и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наёмные рабочие превращались в нищих и бродя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28:28Z</dcterms:created>
  <dc:creator>User</dc:creator>
  <dc:description/>
  <dc:language>en-US</dc:language>
  <cp:lastModifiedBy>Дима</cp:lastModifiedBy>
  <dcterms:modified xsi:type="dcterms:W3CDTF">2015-03-17T15:57:09Z</dcterms:modified>
  <cp:revision>6</cp:revision>
  <dc:subject/>
  <dc:title>Европейское общество в раннее Новое время</dc:title>
</cp:coreProperties>
</file>