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2C7-72D9-4951-BAF6-F84F557C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FAD-0F1D-400A-8BE2-FCEFA9B3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148-F288-4E2A-BD1D-FC751415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9FE-4F4E-4A88-9E5F-B7ABF99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C59F-9E52-4A93-BABA-519D7467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D1DD-42BC-4232-A40D-9B5E623B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384-F43A-4697-84AA-1C686029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91B6-6734-4BEC-B9E9-CDE635B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5E24-AD20-4C4B-9C67-E06C130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807D-D287-4149-B4BE-1FD2CD5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73A-900C-4924-89E8-AED7FC2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52A-8046-43B7-86AC-FA8F7D28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E41C-A98C-45E6-B5F8-934A853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1595-446F-4E30-9A5E-8C037DF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D7E3-80BE-4B6B-A946-7A3F117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4662-741D-402D-BF31-94C6B01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A32-8BA9-46A3-9DE5-62D1D623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F32-8674-4F4D-8BF6-BFC07B75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728-3A60-40F9-9B6F-4227380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F7F-8E16-41B8-9679-337FEDC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108-AEC1-4F11-9AEA-85BB52B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771-B31D-46CF-9046-DED80B4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5DB-50DD-4A5D-B726-D143A5E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5B7-79A4-403B-A024-2BBB0FC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C09-0A61-4A6E-8E6D-7483E8C1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501-9012-4A25-A6D6-A7628F73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153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Hobbies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aying basketball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17492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Running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2316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Martial arts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3922560"/>
            <a:ext cx="3733920" cy="293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1371600"/>
            <a:ext cx="3962160" cy="264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95880" y="3809880"/>
            <a:ext cx="28782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atching</a:t>
            </a: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films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46880" y="4170240"/>
            <a:ext cx="359712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932200" cy="187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575640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Listening to music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283280" cy="4291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17528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Cooking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1760" y="1600200"/>
            <a:ext cx="3197160" cy="4686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332240" cy="288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248520" y="4114800"/>
            <a:ext cx="25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ashing the floor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044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Reading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240000">
            <a:off x="4724280" y="2057040"/>
            <a:ext cx="4156200" cy="4156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240000">
            <a:off x="456840" y="1523520"/>
            <a:ext cx="36831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Making dresses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927600" cy="4191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384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Fashion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165480" cy="4076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2835360"/>
            <a:ext cx="586728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laying the musical instrument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300000">
            <a:off x="685440" y="1600200"/>
            <a:ext cx="3581280" cy="269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1300000">
            <a:off x="4876920" y="1600200"/>
            <a:ext cx="335268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1300000">
            <a:off x="1828440" y="4038120"/>
            <a:ext cx="3429000" cy="2295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1300000">
            <a:off x="6172200" y="3733560"/>
            <a:ext cx="21589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Looking after animal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745080" cy="4529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427032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peaking English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67480" cy="4935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Playing computer game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32440" y="2705040"/>
            <a:ext cx="4111560" cy="4152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5375160" cy="4224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your hob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you like doing after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es your best friend like doing at the weeke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es your mother like doing after th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hobby is the most intere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aying the violin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572000" cy="3549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46134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aying the piano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765680" cy="318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3814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aying the guitar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300000">
            <a:off x="4190760" y="2438280"/>
            <a:ext cx="4765680" cy="317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4038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Doing sports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1467000"/>
            <a:ext cx="6933960" cy="5205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300000">
            <a:off x="685440" y="1294920"/>
            <a:ext cx="3301920" cy="2476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Riding a bicycle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21420000">
            <a:off x="685800" y="3505320"/>
            <a:ext cx="4240080" cy="2827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3230640" cy="2289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 rot="21360000">
            <a:off x="5866920" y="3505320"/>
            <a:ext cx="265752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aying handball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0960" y="3551400"/>
            <a:ext cx="4883040" cy="3306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7656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wimming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1300000">
            <a:off x="4647960" y="4038120"/>
            <a:ext cx="3886200" cy="2587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1300000">
            <a:off x="4876560" y="1295280"/>
            <a:ext cx="3965400" cy="296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21300000">
            <a:off x="304920" y="4038120"/>
            <a:ext cx="3917880" cy="264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300000">
            <a:off x="380520" y="1219320"/>
            <a:ext cx="42674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</cp:lastModifiedBy>
  <dcterms:modified xsi:type="dcterms:W3CDTF">2014-02-17T05:37:1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