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90F-44AA-4B19-B426-44CECA3C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7E7-C146-43AE-B7EC-F7520DC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A89-A543-45BE-969E-39625983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2CA-1FDD-40BA-9615-EB3C40F4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37B3-F0EC-463B-B0D8-C01521A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EAD5-E162-4DDF-83F1-93DC359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943-658B-42BA-842A-711EABB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078-F768-446D-9FA9-F3D33BB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D6F-4687-45B4-A1DE-20515FB8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C14-71E8-4E57-B329-1020275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2F0D-55D5-4539-AD38-2D38ED4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732-E324-43B8-8ECF-C7D173F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CFC-487E-4405-8C4B-5155237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7DE8-FBF5-4F9A-9F53-90BFD31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9249-76F3-477C-BCB9-3C1168D7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5ECC-D26E-4EEB-B191-DC61CD38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EB15-37B3-4F43-953F-A1E09A33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1EE-64B1-4DEB-99D7-A84DBE61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E09-F4E2-4072-AC2D-994C946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A70-7A5D-4C5F-A572-FD8B1F56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D16-2E85-4457-A750-171B331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3DB-48EC-42BD-803D-1C58F29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56D-B65A-458F-8150-26E50A4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81A-1D44-4D76-AB87-E604EE5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590B-AD7A-453E-A719-4010EC106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5E9-E297-49F8-B22A-25A569C17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00800" cy="1366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Урок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420640"/>
            <a:ext cx="8964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сложение и вычитание вида: 3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+5, 35-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0, 35-5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познакомить детей со случаями сложения и вычитания, основанными на знании десятичного состава чисел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овершенствовать вычислительные навыки и  умения решать задачи ,сравнивать именованные числ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развитие внима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VII</a:t>
            </a: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. Работа над задачей и пройденным материал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3, с. 1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уст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ыполняется самостоятельно с последующей самопроверкой (лист с ответами лежит на столе учителя). Карандашом надписываются промежуточные действ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ащиеся, которые быстро справились с работой, выполняют задания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36, № 38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з рабочей тетради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с. 16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VIII</a:t>
            </a: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. Подведение итогов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 № 4, 5, с. 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7850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М. И. Мор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ик «Математика» 2 клас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Просвещение, 2006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Н. Ф. Вапняр, А. М. Пышкал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традь по математи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сква «Просвещение» 1980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. В. Кульневич, Т. П. Лакоцен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традиционные уроки в начальной школе (часть 1). Ростов - на – Дону: Издательство «Учитель», 2002 г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Т. В. Смолеус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глядные таблицы по математи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сква «Просвещение», 2002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6400800" cy="1366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с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896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ариант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II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60+3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80+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79-9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54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7-40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33-3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95-90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28-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27-7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87-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50+8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0+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720" y="1341360"/>
            <a:ext cx="8062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8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8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Сообщение темы и целей у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799"/>
              </a:spcBef>
              <a:buClr>
                <a:srgbClr val="008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стный сче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у-ка в сторону карандаши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 костяшек, ни ручек, ни мел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ный счет. Мы творим это дел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олько силой ума и душ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имание! Внимание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ется соревнова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ласс делится на 3 команды – по ряд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9966ff"/>
                </a:solidFill>
                <a:latin typeface="Comic Sans MS"/>
              </a:rPr>
              <a:t> раунд «Сосчитай-ка»</a:t>
            </a:r>
            <a:br>
              <a:rPr sz="44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задание для каждой команд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403280" y="2133720"/>
            <a:ext cx="6476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700360" y="2133720"/>
            <a:ext cx="6476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4067280" y="2133720"/>
            <a:ext cx="6476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435640" y="2133720"/>
            <a:ext cx="6476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6804000" y="2133720"/>
            <a:ext cx="6476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403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843280" y="227664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435640" y="2276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804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067280" y="2276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70036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40328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050920" y="2421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3348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4716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608472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2195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349236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5928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22764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1403280" y="3284640"/>
            <a:ext cx="649440" cy="649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2700360" y="3284640"/>
            <a:ext cx="649440" cy="649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30"/>
          <p:cNvSpPr/>
          <p:nvPr/>
        </p:nvSpPr>
        <p:spPr>
          <a:xfrm>
            <a:off x="4067280" y="3284640"/>
            <a:ext cx="649080" cy="649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31"/>
          <p:cNvSpPr/>
          <p:nvPr/>
        </p:nvSpPr>
        <p:spPr>
          <a:xfrm>
            <a:off x="5435640" y="3284640"/>
            <a:ext cx="649080" cy="649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32"/>
          <p:cNvSpPr/>
          <p:nvPr/>
        </p:nvSpPr>
        <p:spPr>
          <a:xfrm>
            <a:off x="6877080" y="3284640"/>
            <a:ext cx="649080" cy="649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14032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270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5435640" y="342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4140360" y="3429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687708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39"/>
          <p:cNvSpPr/>
          <p:nvPr/>
        </p:nvSpPr>
        <p:spPr>
          <a:xfrm>
            <a:off x="2050920" y="3573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1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71636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44"/>
          <p:cNvSpPr/>
          <p:nvPr/>
        </p:nvSpPr>
        <p:spPr>
          <a:xfrm>
            <a:off x="608472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3348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4716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615636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50"/>
          <p:cNvSpPr/>
          <p:nvPr/>
        </p:nvSpPr>
        <p:spPr>
          <a:xfrm>
            <a:off x="1403280" y="4365720"/>
            <a:ext cx="647640" cy="64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53"/>
          <p:cNvSpPr/>
          <p:nvPr/>
        </p:nvSpPr>
        <p:spPr>
          <a:xfrm>
            <a:off x="2700360" y="4365720"/>
            <a:ext cx="647640" cy="64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54"/>
          <p:cNvSpPr/>
          <p:nvPr/>
        </p:nvSpPr>
        <p:spPr>
          <a:xfrm>
            <a:off x="3995640" y="4365720"/>
            <a:ext cx="647640" cy="64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5435640" y="4365720"/>
            <a:ext cx="647640" cy="64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56"/>
          <p:cNvSpPr/>
          <p:nvPr/>
        </p:nvSpPr>
        <p:spPr>
          <a:xfrm>
            <a:off x="6877080" y="4365720"/>
            <a:ext cx="647640" cy="64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57"/>
          <p:cNvSpPr/>
          <p:nvPr/>
        </p:nvSpPr>
        <p:spPr>
          <a:xfrm>
            <a:off x="205092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59"/>
          <p:cNvSpPr/>
          <p:nvPr/>
        </p:nvSpPr>
        <p:spPr>
          <a:xfrm>
            <a:off x="2050920" y="465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60"/>
          <p:cNvSpPr/>
          <p:nvPr/>
        </p:nvSpPr>
        <p:spPr>
          <a:xfrm>
            <a:off x="334800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63"/>
          <p:cNvSpPr/>
          <p:nvPr/>
        </p:nvSpPr>
        <p:spPr>
          <a:xfrm>
            <a:off x="4643280" y="4653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64"/>
          <p:cNvSpPr/>
          <p:nvPr/>
        </p:nvSpPr>
        <p:spPr>
          <a:xfrm>
            <a:off x="6084720" y="4653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2260440" y="43178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3607200" y="4317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4924440" y="4245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508800" y="424512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II </a:t>
            </a:r>
            <a:r>
              <a:rPr b="0" lang="ru-RU" sz="4400" spc="-1" strike="noStrike">
                <a:solidFill>
                  <a:srgbClr val="9966ff"/>
                </a:solidFill>
                <a:latin typeface="Comic Sans MS"/>
              </a:rPr>
              <a:t>раунд «Проверяй-ка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айти ошиб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5-9=7          18-9=9      12-4=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2-5=7          13-6=8      16-9=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+6=14          7+5=13      8+5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+7=15          14-8=6       11-6=5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III</a:t>
            </a:r>
            <a:r>
              <a:rPr b="0" lang="ru-RU" sz="4400" spc="-1" strike="noStrike">
                <a:solidFill>
                  <a:srgbClr val="9966ff"/>
                </a:solidFill>
                <a:latin typeface="Comic Sans MS"/>
              </a:rPr>
              <a:t>раунд «Заменяй-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892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м = … дм;     1 дм = … см     1 см = … м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м = … см;     1 дм = … мм    20 мм = … с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м 2 см = … см     4 см 5 мм = … мм   4 м = … д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трудились! Молодц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граждение команды-победительниц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60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годня у нас на минутке чистописания особая циф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ифра вроде буквы О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ноль, иль ниче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углый ноль такой хорошеньки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не значит ничегошень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С. Марша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ставь за единицей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ифра десять на странице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Прокомментируйте письмо цифры 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веты учащихся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традях записывается одна строка цифры 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. 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тер дует нам в лиц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качалось деревц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Ветер! Тише, тише, тиш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ревцо все выше, выш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700360" y="4508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Дети делают движения рукам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1723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V</a:t>
            </a: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. Работа над новой тем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Сегодня снова у нас в гостях Знайка Математик. А что это значит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Новая тем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Новая математическая тайна ждет своего открытия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едлагаю заняться перекладыванием пучков и отдельных палочек. Выложите число 3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Сколько десятков? Единиц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3дес. 2ед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Уберите 2 палочки. Сколько осталось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3 дес. = 30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Верните палочки на прежнее место, а уберите пучки. Что осталось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А сейчас все это проделаем на числах. Как получили число 32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30+2=3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Сколько палочек убирали сначала? 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2. 32-2=30 или 3 дес.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Что делали дальше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Убирали 3 пучка. 32-30=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Какой можно сделать вывод?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Если из числа вычесть все десятки, останутся только единицы, и наоборот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VI</a:t>
            </a: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. Закрепление</a:t>
            </a:r>
            <a:br>
              <a:rPr sz="44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абота по учебни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еть записи около вертикальной линии – прокоммен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1, с. 1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ыполняется на доске и в тетрадях с подробным устным объясн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выполняется самостоятельно по вариантам, с последующей взаимопроверкой в пар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8:45:09Z</dcterms:created>
  <dc:creator>витос</dc:creator>
  <dc:description/>
  <dc:language>en-US</dc:language>
  <cp:lastModifiedBy>Лысякова Наталья Николаевна</cp:lastModifiedBy>
  <dcterms:modified xsi:type="dcterms:W3CDTF">2015-03-07T20:38:35Z</dcterms:modified>
  <cp:revision>27</cp:revision>
  <dc:subject/>
  <dc:title>План</dc:title>
</cp:coreProperties>
</file>