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B0B-4CA0-4F8B-8820-AE899D00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D2F-21EF-4512-99B9-C6791BF9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77B-D093-4A80-90CC-F73698F1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4ED-B826-4CF9-8442-A3E5FE21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82D-E21B-40AF-91AF-80A71F6D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B2D-61D8-48EE-96C1-0AD5226B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5FC-D1D9-4D4F-BC80-1838294A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86E-859C-42F2-B845-7EB8A1C7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A11-7BE0-4A93-B0FC-B9B2DAAB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F72-F097-415E-A668-D6F8AABB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312-2ED1-4B77-B69E-97EFA821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936-266C-4C5F-BC07-FADDD9F0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BE27-74DE-4E08-931A-21DE1E5D7D5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        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Петербург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                                   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                                            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Петроград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Ленинград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4" descr="C:\Users\сммм\Desktop\59640514_800pxZnamenka.jpg"/>
          <p:cNvPicPr/>
          <p:nvPr/>
        </p:nvPicPr>
        <p:blipFill>
          <a:blip r:embed="rId1"/>
          <a:stretch/>
        </p:blipFill>
        <p:spPr>
          <a:xfrm>
            <a:off x="4929120" y="28584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Users\сммм\Desktop\1257614441_40.jpg"/>
          <p:cNvPicPr/>
          <p:nvPr/>
        </p:nvPicPr>
        <p:blipFill>
          <a:blip r:embed="rId2"/>
          <a:stretch/>
        </p:blipFill>
        <p:spPr>
          <a:xfrm>
            <a:off x="285840" y="1857240"/>
            <a:ext cx="4357440" cy="321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Users\сммм\Desktop\post-1-1175619057.jpg"/>
          <p:cNvPicPr/>
          <p:nvPr/>
        </p:nvPicPr>
        <p:blipFill>
          <a:blip r:embed="rId3"/>
          <a:stretch/>
        </p:blipFill>
        <p:spPr>
          <a:xfrm>
            <a:off x="4857840" y="3857760"/>
            <a:ext cx="4000320" cy="26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941 - 1945 г.г. – Великая Отечественная вой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C:\Users\сммм\Desktop\1336632645_war_48.jpg"/>
          <p:cNvPicPr/>
          <p:nvPr/>
        </p:nvPicPr>
        <p:blipFill>
          <a:blip r:embed="rId1"/>
          <a:stretch/>
        </p:blipFill>
        <p:spPr>
          <a:xfrm>
            <a:off x="3071880" y="2928960"/>
            <a:ext cx="5715000" cy="373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сммм\Desktop\979d.jpg"/>
          <p:cNvPicPr/>
          <p:nvPr/>
        </p:nvPicPr>
        <p:blipFill>
          <a:blip r:embed="rId2"/>
          <a:stretch/>
        </p:blipFill>
        <p:spPr>
          <a:xfrm>
            <a:off x="428760" y="1571760"/>
            <a:ext cx="4889520" cy="318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941 -1944 г.г. – блокада Ленинград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C:\Users\сммм\Desktop\f60631ab989cd141dea1efd93819a73c.jpg"/>
          <p:cNvPicPr/>
          <p:nvPr/>
        </p:nvPicPr>
        <p:blipFill>
          <a:blip r:embed="rId1"/>
          <a:stretch/>
        </p:blipFill>
        <p:spPr>
          <a:xfrm>
            <a:off x="5000760" y="1571760"/>
            <a:ext cx="3863880" cy="505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сммм\Desktop\i.jpg"/>
          <p:cNvPicPr/>
          <p:nvPr/>
        </p:nvPicPr>
        <p:blipFill>
          <a:blip r:embed="rId2"/>
          <a:stretch/>
        </p:blipFill>
        <p:spPr>
          <a:xfrm>
            <a:off x="857160" y="2571840"/>
            <a:ext cx="3714840" cy="300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950 – 1970 г.г. – развитие науки и техники. Освоение космос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C:\Users\сммм\Desktop\e6e781ad48e2.jpg"/>
          <p:cNvPicPr/>
          <p:nvPr/>
        </p:nvPicPr>
        <p:blipFill>
          <a:blip r:embed="rId1"/>
          <a:stretch/>
        </p:blipFill>
        <p:spPr>
          <a:xfrm>
            <a:off x="785880" y="2214720"/>
            <a:ext cx="7786800" cy="448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946 – 1991 г.г. «Холодная войн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C:\Users\сммм\Desktop\cold-war.gif"/>
          <p:cNvPicPr/>
          <p:nvPr/>
        </p:nvPicPr>
        <p:blipFill>
          <a:blip r:embed="rId1"/>
          <a:stretch/>
        </p:blipFill>
        <p:spPr>
          <a:xfrm>
            <a:off x="928800" y="1486080"/>
            <a:ext cx="742932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Периоды истории Петербурга-Ленинграда в XX век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357120" y="1558440"/>
            <a:ext cx="8358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Петроград-Ленинград (1917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1941 гг.)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2. Ленинград в годы Великой Отечественной войны (1941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1945 гг.)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3. Советский город (1945-1991 гг.)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4. Санкт-Петербург в начале XXI век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сммм\Desktop\1298022525_47.jpg"/>
          <p:cNvPicPr/>
          <p:nvPr/>
        </p:nvPicPr>
        <p:blipFill>
          <a:blip r:embed="rId1"/>
          <a:stretch/>
        </p:blipFill>
        <p:spPr>
          <a:xfrm>
            <a:off x="428760" y="285840"/>
            <a:ext cx="8215200" cy="621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сммм\Desktop\0c8cc24c4585.jpg"/>
          <p:cNvPicPr/>
          <p:nvPr/>
        </p:nvPicPr>
        <p:blipFill>
          <a:blip r:embed="rId1"/>
          <a:stretch/>
        </p:blipFill>
        <p:spPr>
          <a:xfrm>
            <a:off x="2357280" y="214200"/>
            <a:ext cx="4714920" cy="642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сммм\Desktop\0_2b804_f320276b_XL.jpg"/>
          <p:cNvPicPr/>
          <p:nvPr/>
        </p:nvPicPr>
        <p:blipFill>
          <a:blip r:embed="rId1"/>
          <a:stretch/>
        </p:blipFill>
        <p:spPr>
          <a:xfrm>
            <a:off x="285840" y="214200"/>
            <a:ext cx="5079960" cy="3071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сммм\Desktop\news_16_5.jpg"/>
          <p:cNvPicPr/>
          <p:nvPr/>
        </p:nvPicPr>
        <p:blipFill>
          <a:blip r:embed="rId2"/>
          <a:stretch/>
        </p:blipFill>
        <p:spPr>
          <a:xfrm>
            <a:off x="5500800" y="714240"/>
            <a:ext cx="3381120" cy="528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сммм\Desktop\afbf764bb7.jpg"/>
          <p:cNvPicPr/>
          <p:nvPr/>
        </p:nvPicPr>
        <p:blipFill>
          <a:blip r:embed="rId3"/>
          <a:stretch/>
        </p:blipFill>
        <p:spPr>
          <a:xfrm>
            <a:off x="285840" y="3429000"/>
            <a:ext cx="5024520" cy="314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500040" y="385560"/>
            <a:ext cx="86439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?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Почему события, происходившие в городе в XX веке, называются «советским периодом»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?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Как вы считаете, какие исторические источники важнее и интереснее для исследования: официальные или личные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?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Предположите, по каким историческим источникам петербургские школьники в будущем будут изучать историю города XXI века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571680" y="1557720"/>
            <a:ext cx="828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Выучить записи конспект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Провести мониторинг иноформации, представленной в печатных и цифровых источниках, и вспомнить какие события происходили в Петербурге в период с 1914 по 1917 г.г.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Вспомнить, какие события происходили в Петербурге в 1917 – 1924 г.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321444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Санкт – Петербург – Ленинград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Век 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XX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.</a:t>
            </a:r>
            <a:br>
              <a:rPr sz="5400"/>
            </a:br>
            <a:br>
              <a:rPr sz="5400"/>
            </a:br>
            <a:r>
              <a:rPr b="1" i="1" lang="ru-RU" sz="3600" spc="-1" strike="noStrike">
                <a:solidFill>
                  <a:srgbClr val="dbf5f9"/>
                </a:solidFill>
                <a:latin typeface="Calibri"/>
                <a:ea typeface="Times New Roman"/>
              </a:rPr>
              <a:t>урок № 1 Введение в курс </a:t>
            </a:r>
            <a:br>
              <a:rPr sz="3600"/>
            </a:br>
            <a:r>
              <a:rPr b="1" i="1" lang="ru-RU" sz="3600" spc="-1" strike="noStrike">
                <a:solidFill>
                  <a:srgbClr val="dbf5f9"/>
                </a:solidFill>
                <a:latin typeface="Calibri"/>
                <a:ea typeface="Times New Roman"/>
              </a:rPr>
              <a:t>9класс</a:t>
            </a:r>
            <a:br>
              <a:rPr sz="5400"/>
            </a:br>
            <a:br>
              <a:rPr sz="5400"/>
            </a:br>
            <a:r>
              <a:rPr b="1" i="1" lang="ru-RU" sz="2400" spc="-1" strike="noStrike">
                <a:solidFill>
                  <a:srgbClr val="dbf5f9"/>
                </a:solidFill>
                <a:latin typeface="Calibri"/>
                <a:ea typeface="Times New Roman"/>
              </a:rPr>
              <a:t>Презентация выполнена учителем ИКП </a:t>
            </a:r>
            <a:br>
              <a:rPr sz="2400"/>
            </a:br>
            <a:r>
              <a:rPr b="1" i="1" lang="ru-RU" sz="2400" spc="-1" strike="noStrike">
                <a:solidFill>
                  <a:srgbClr val="dbf5f9"/>
                </a:solidFill>
                <a:latin typeface="Calibri"/>
                <a:ea typeface="Times New Roman"/>
              </a:rPr>
              <a:t>ГБОУ школа № 217 Прийменко Е.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288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12 июня 1991 года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в Ленинграде состоялся референдум, по результатам которого  54 % ленинградцев высказалис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за возвращение родному городу его первоначального имени -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Санкт- Петербург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4" descr="C:\Users\сммм\Desktop\0bcc6ea7eb95c8c172ff2e4cfb04b49d.jpg"/>
          <p:cNvPicPr/>
          <p:nvPr/>
        </p:nvPicPr>
        <p:blipFill>
          <a:blip r:embed="rId1"/>
          <a:stretch/>
        </p:blipFill>
        <p:spPr>
          <a:xfrm>
            <a:off x="2357280" y="2143080"/>
            <a:ext cx="4429440" cy="25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71680" y="1087920"/>
            <a:ext cx="8572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С 6 сентября 1991 года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указом  Президиума Верховного Совета РСФСР город – герой Ленинград официально стал именоваться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Calibri"/>
              </a:rPr>
              <a:t>Санкт – Петербур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  <a:ea typeface="Times New Roman"/>
              </a:rPr>
              <a:t>История города и области в 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  <a:ea typeface="Times New Roman"/>
              </a:rPr>
              <a:t>XX 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  <a:ea typeface="Times New Roman"/>
              </a:rPr>
              <a:t>век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155520" y="-1461960"/>
            <a:ext cx="57531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C:\Users\сммм\Desktop\a6884eba7a31481fbee612a0ae6f6927c1687568339109.jpg"/>
          <p:cNvPicPr/>
          <p:nvPr/>
        </p:nvPicPr>
        <p:blipFill>
          <a:blip r:embed="rId1"/>
          <a:stretch/>
        </p:blipFill>
        <p:spPr>
          <a:xfrm>
            <a:off x="857160" y="1905120"/>
            <a:ext cx="7429680" cy="445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Общая характеристика эпох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214200" y="949320"/>
            <a:ext cx="85726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* 1914 год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- I мировая войн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* 1905 – 1907 г.г.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-  Русская революция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1917 февраль - 1917 октябрь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- революции оказавшие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влияние на Европу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12 марта 1918 г.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-  изменение статуса города (перенос                             столицы)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* 1941 г.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-  II мировая война, Великая Отечественная война,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* 1941 -1944 г.г.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- блокада и героическая оборона Ленинград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* 1950 - 1970 г.г. 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- развитие науки и техники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* 1957 г.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- начало освоения космос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* 1946 – 1991 г.г.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- «Холодная война»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* 1991 г.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-  распад СССР…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914 год –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I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мировая вой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Users\сммм\Desktop\417.jpg"/>
          <p:cNvPicPr/>
          <p:nvPr/>
        </p:nvPicPr>
        <p:blipFill>
          <a:blip r:embed="rId1"/>
          <a:stretch/>
        </p:blipFill>
        <p:spPr>
          <a:xfrm>
            <a:off x="214200" y="1143000"/>
            <a:ext cx="4929480" cy="32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сммм\Desktop\21.jpg"/>
          <p:cNvPicPr/>
          <p:nvPr/>
        </p:nvPicPr>
        <p:blipFill>
          <a:blip r:embed="rId2"/>
          <a:stretch/>
        </p:blipFill>
        <p:spPr>
          <a:xfrm>
            <a:off x="3000240" y="2786040"/>
            <a:ext cx="592452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905 – 1907 г.г. -  Русская революци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Users\сммм\Desktop\1905-russian-revolution.jpg"/>
          <p:cNvPicPr/>
          <p:nvPr/>
        </p:nvPicPr>
        <p:blipFill>
          <a:blip r:embed="rId1"/>
          <a:stretch/>
        </p:blipFill>
        <p:spPr>
          <a:xfrm>
            <a:off x="507960" y="1785960"/>
            <a:ext cx="8128080" cy="47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917 год – февральская и октябрьская револю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C:\Users\сммм\Desktop\internacional.jpg"/>
          <p:cNvPicPr/>
          <p:nvPr/>
        </p:nvPicPr>
        <p:blipFill>
          <a:blip r:embed="rId1"/>
          <a:stretch/>
        </p:blipFill>
        <p:spPr>
          <a:xfrm>
            <a:off x="1285920" y="1571760"/>
            <a:ext cx="6858000" cy="48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22:14Z</dcterms:created>
  <dc:creator>Мы</dc:creator>
  <dc:description/>
  <dc:language>en-US</dc:language>
  <cp:lastModifiedBy>сммм</cp:lastModifiedBy>
  <dcterms:modified xsi:type="dcterms:W3CDTF">2013-06-27T09:21:18Z</dcterms:modified>
  <cp:revision>34</cp:revision>
  <dc:subject/>
  <dc:title>Животные в скульптуре Санкт-Петербурга.</dc:title>
</cp:coreProperties>
</file>