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D98-7613-432D-861B-9452E94B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75D-019A-42D0-9408-8B797B39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416-CE12-4848-9EB0-05A27889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2D9-3EF5-4A4E-924A-587E4169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332-7228-48B8-B769-421D4F81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A02-74C4-4D24-B781-D190928F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25F-CBA3-4C68-972F-C285073D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2BF-0861-43CB-9399-512DFF5D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9C0-A872-415F-9C08-6005C3EA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7AA-F4C6-467C-B145-9861A109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1D8-B83F-491B-BF7B-A8ADA3C4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D51-7C2D-4576-B7EF-368F3AE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40C5-00FA-4ADD-920B-85C6951C7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64920" y="457560"/>
            <a:ext cx="4403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Чтобы сказки не обидеть-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до их почаще видеть.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х читать и рисовать,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х любить и в них играть!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казки всех отучат злиться,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А научат веселиться,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ть добрее и скромнее,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пеливее, мудрее,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ти, Саши, Тани,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ши, Кати, Вани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 другие ребятишки,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Кто читать умеет книжки,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казки чаще доставайте,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Ежедневно их читайте.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98160"/>
            <a:ext cx="7918560" cy="48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4800" spc="-1" strike="noStrike">
                <a:solidFill>
                  <a:srgbClr val="003300"/>
                </a:solidFill>
                <a:latin typeface="Comic Sans MS"/>
              </a:rPr>
              <a:t>Вводный урок по теме</a:t>
            </a:r>
            <a:br>
              <a:rPr sz="4800"/>
            </a:br>
            <a:r>
              <a:rPr b="0" lang="ru-RU" sz="4800" spc="-1" strike="noStrike">
                <a:solidFill>
                  <a:srgbClr val="003300"/>
                </a:solidFill>
                <a:latin typeface="Comic Sans MS"/>
              </a:rPr>
              <a:t> «Литературная сказка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42560" y="5419800"/>
            <a:ext cx="788364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9395" t="2715" r="5531" b="13519"/>
          <a:stretch/>
        </p:blipFill>
        <p:spPr>
          <a:xfrm>
            <a:off x="1979640" y="189000"/>
            <a:ext cx="4897440" cy="5256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 flipV="1" rot="10800000">
            <a:off x="2289240" y="5299560"/>
            <a:ext cx="456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митрий  Наркисович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ин-Сибиряк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852-1912гг.)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5"/>
          <p:cNvSpPr/>
          <p:nvPr/>
        </p:nvSpPr>
        <p:spPr>
          <a:xfrm>
            <a:off x="2268360" y="476280"/>
            <a:ext cx="4248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Monotype Corsiva"/>
              </a:rPr>
              <a:t>СКАЗКИ</a:t>
            </a:r>
            <a:endParaRPr b="1" lang="en-US" sz="8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2123640" y="2205000"/>
            <a:ext cx="2303640" cy="1368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395280" y="3645000"/>
            <a:ext cx="3240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РУССКИ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НАРОДНЫЕ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4500720" y="2205000"/>
            <a:ext cx="2158920" cy="14400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5435640" y="3716280"/>
            <a:ext cx="3240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ЛИТЕРАТУРНЫЕ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" dur="2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" dur="2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5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" dur="25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25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2707920"/>
            <a:ext cx="806436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Monotype Corsiva"/>
              </a:rPr>
              <a:t>ЛИТЕРАТУРНЫЕ</a:t>
            </a:r>
            <a:br>
              <a:rPr sz="7200"/>
            </a:br>
            <a:r>
              <a:rPr b="1" lang="ru-RU" sz="7200" spc="-1" strike="noStrike">
                <a:solidFill>
                  <a:srgbClr val="ff0066"/>
                </a:solidFill>
                <a:latin typeface="Monotype Corsiva"/>
              </a:rPr>
              <a:t>СКАЗКИ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6247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Д.Н.Мамин-Сибир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12000" y="1628280"/>
            <a:ext cx="2674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«Сказочка про Воронушку - чёрную головушку и жёлтую птичку Канарей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10270" t="18628" r="21694" b="16776"/>
          <a:stretch/>
        </p:blipFill>
        <p:spPr>
          <a:xfrm>
            <a:off x="0" y="620640"/>
            <a:ext cx="5219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2133360"/>
            <a:ext cx="309564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«УМНЕЕ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 ВСЕ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99640" y="0"/>
            <a:ext cx="748836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Д.Н.Мамин-Сибир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8440" t="15624" r="16139" b="10874"/>
          <a:stretch/>
        </p:blipFill>
        <p:spPr>
          <a:xfrm>
            <a:off x="4067280" y="692280"/>
            <a:ext cx="5076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33cc"/>
                </a:solidFill>
                <a:latin typeface="Monotype Corsiva"/>
              </a:rPr>
              <a:t>МОЛОДЦЫ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Monotype Corsiva"/>
              </a:rPr>
              <a:t>СПАСИБО  ЗА 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Пользователь\Downloads\0_7a543_fa1da350_XL.jpg"/>
          <p:cNvPicPr/>
          <p:nvPr/>
        </p:nvPicPr>
        <p:blipFill>
          <a:blip r:embed="rId1"/>
          <a:stretch/>
        </p:blipFill>
        <p:spPr>
          <a:xfrm>
            <a:off x="1428840" y="357120"/>
            <a:ext cx="6215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Пользователь\Desktop\мой урок\95608562_large_baba_yaga_11.jpg"/>
          <p:cNvPicPr/>
          <p:nvPr/>
        </p:nvPicPr>
        <p:blipFill>
          <a:blip r:embed="rId1"/>
          <a:stretch/>
        </p:blipFill>
        <p:spPr>
          <a:xfrm>
            <a:off x="2143080" y="642960"/>
            <a:ext cx="450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Пользователь\Downloads\inforaduga.ru_avtor-shevcov-aa-pochemu-to-mne-kazhetsya-chto-prisypaniya_1.jpeg"/>
          <p:cNvPicPr/>
          <p:nvPr/>
        </p:nvPicPr>
        <p:blipFill>
          <a:blip r:embed="rId1"/>
          <a:stretch/>
        </p:blipFill>
        <p:spPr>
          <a:xfrm>
            <a:off x="1000080" y="571680"/>
            <a:ext cx="7143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Пользователь\Desktop\мой урок\gusi-lebedi.jpg"/>
          <p:cNvPicPr/>
          <p:nvPr/>
        </p:nvPicPr>
        <p:blipFill>
          <a:blip r:embed="rId1"/>
          <a:stretch/>
        </p:blipFill>
        <p:spPr>
          <a:xfrm>
            <a:off x="1071720" y="571680"/>
            <a:ext cx="67150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32000" y="333360"/>
            <a:ext cx="360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c"/>
              </a:rPr>
              <a:t>Сидит в корзине дев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c"/>
              </a:rPr>
              <a:t>У мишки за  сп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c"/>
              </a:rPr>
              <a:t>Он сам, того не ве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c"/>
              </a:rPr>
              <a:t>Несёт её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c"/>
              </a:rPr>
              <a:t>«МАША  И  МЕДВЕД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56140" t="13517" r="9929" b="12633"/>
          <a:stretch/>
        </p:blipFill>
        <p:spPr>
          <a:xfrm>
            <a:off x="0" y="3240"/>
            <a:ext cx="4572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675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А.С.Пушкин «Сказка о царе Салтане 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rcRect l="6522" t="9312" r="13453" b="2469"/>
          <a:stretch/>
        </p:blipFill>
        <p:spPr>
          <a:xfrm>
            <a:off x="4500720" y="1052640"/>
            <a:ext cx="46432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Д.Н.Мамин-Сибир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339408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Серая  Шей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rcRect l="16600" t="10933" r="8001" b="12442"/>
          <a:stretch/>
        </p:blipFill>
        <p:spPr>
          <a:xfrm>
            <a:off x="4284720" y="620640"/>
            <a:ext cx="4859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rcRect l="35527" t="35670" r="15039" b="22689"/>
          <a:stretch/>
        </p:blipFill>
        <p:spPr>
          <a:xfrm>
            <a:off x="4932360" y="1700280"/>
            <a:ext cx="4211640" cy="5157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551628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усская  народная 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Сивка-Бур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5520" y="259920"/>
            <a:ext cx="4038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усская народная сказка «Иван-царевич  и серый вол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rcRect l="27362" t="24815" r="20472" b="21488"/>
          <a:stretch/>
        </p:blipFill>
        <p:spPr>
          <a:xfrm>
            <a:off x="0" y="0"/>
            <a:ext cx="4211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04:10:59Z</dcterms:created>
  <dc:creator>Your User Name</dc:creator>
  <dc:description/>
  <dc:language>en-US</dc:language>
  <cp:lastModifiedBy>шинкарева</cp:lastModifiedBy>
  <dcterms:modified xsi:type="dcterms:W3CDTF">2015-03-11T06:19:19Z</dcterms:modified>
  <cp:revision>30</cp:revision>
  <dc:subject/>
  <dc:title>Слайд 1</dc:title>
</cp:coreProperties>
</file>