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E5D-3E79-46BE-9F25-A7677F30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0FB-93C5-4CA5-9BBF-3DC779D5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E07-26CA-4177-AC38-557A744B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B4E-ECAB-417E-8AC7-3C4E4142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D978C-7F51-40C2-B5A2-F708C855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82631-5095-4424-A971-B8362716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D9879-1C4D-479E-8D1B-C4AEDB2C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C6D5B-A095-4390-B72B-F69AF122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492FF-2114-4731-8194-C29DDB02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DD4E5-CB3F-445C-B4E4-81F664D6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F4342-8C5A-4CC5-8609-9BBD3DEE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991-20E1-4B8A-BD2F-18BBFEE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D50C2-3C6C-4C25-AED7-CDAA9B7D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5454A-4C7B-4A54-AF87-86C55F1D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14EC4-345A-454D-A023-6FD81802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F4AD9-FE1C-4E4F-8A20-A278E10B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0491E-AA93-46F7-9F50-4064AE77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B79-45EF-4114-8C7E-A1FB3126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177-DFCB-4683-A7F9-6D6CC35E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57C-0678-4188-A933-9F8DE9AC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FFB-4D70-47E5-8985-C7353BFA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DEE-E912-4810-B352-3360939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97F-1F6A-40A8-AF2C-D9EA20D1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987-F781-4D3B-8EE6-33F7FB9F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7CB0-CCD5-45C1-B54F-E2AFB6569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528C-F1E2-4D59-BB51-325AD7540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51120" y="126828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7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Tahoma"/>
              </a:rPr>
              <a:t>    </a:t>
            </a:r>
            <a:r>
              <a:rPr b="0" lang="en-US" sz="6000" spc="-1" strike="noStrike">
                <a:solidFill>
                  <a:srgbClr val="0066ff"/>
                </a:solidFill>
                <a:latin typeface="Tahoma"/>
              </a:rPr>
              <a:t>Зима  прощай -</a:t>
            </a:r>
            <a:endParaRPr b="0" lang="en-US" sz="6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280" y="558936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a50021"/>
                </a:solidFill>
                <a:latin typeface="Tahoma"/>
              </a:rPr>
              <a:t>Гуляй масленица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1496880"/>
            <a:ext cx="54007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 феврале люди прощаются с зимой и готовятся к встрече весны Это один из наиболее ярких народных праздников, который проводится с особенным размахом. Проводам зимы и встрече весны придавалось важное значение.</a:t>
            </a:r>
            <a:endParaRPr b="0" lang="en-US" sz="2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5589720"/>
            <a:ext cx="800280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давна сложился порядок провожания Масленицы. Смена забав и веселья в течение недели имела определенную последовательность, что закрепилось в названиях дней Маслен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77744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Понедельник-</a:t>
            </a:r>
            <a:r>
              <a:rPr b="0" i="1" lang="en-US" sz="4400" spc="-1" strike="noStrike">
                <a:solidFill>
                  <a:srgbClr val="a50021"/>
                </a:solidFill>
                <a:latin typeface="Tahoma"/>
              </a:rPr>
              <a:t>встреча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0920" y="5229360"/>
            <a:ext cx="8281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этот день из соломы делали чучело Масленицы, надевали на него старую женскую одежду, насаживали это чучело на шест и с пением возили в санях по деревне. Затем отвозили на самую высокую снежную гору, чтобы Масленица видела, откуда придет весна. Молодежь строила снежные горы, мастерила качели, веселилась, шутила, пела песни в честь Маслениц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2741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Вторник — </a:t>
            </a:r>
            <a:r>
              <a:rPr b="0" i="1" lang="en-US" sz="4400" spc="-1" strike="noStrike">
                <a:solidFill>
                  <a:srgbClr val="a50021"/>
                </a:solidFill>
                <a:latin typeface="Tahoma"/>
              </a:rPr>
              <a:t>заигрыш.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556272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ети и взрослые ходили от дома к дому, поздравляли с Масленицей и выпрашивали блины. Все ходили к друг другу в гости, пели песни, шутили. В этот день начинались игрища и потех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61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002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Среда — </a:t>
            </a:r>
            <a:r>
              <a:rPr b="0" i="1" lang="en-US" sz="4400" spc="-1" strike="noStrike">
                <a:solidFill>
                  <a:srgbClr val="a50021"/>
                </a:solidFill>
                <a:latin typeface="Tahoma"/>
              </a:rPr>
              <a:t>лакомка.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5661000"/>
            <a:ext cx="82184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этот день в каждой семье накрывали столы с вкусной едой, пекли блины. Всюду появлялись шатры, торговые палатки. В них продавались горячие сбитн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напитки из воды, меда и пряностей)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каленые орехи, медовые прян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6480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Четверг -</a:t>
            </a:r>
            <a:r>
              <a:rPr b="0" i="1" lang="en-US" sz="4000" spc="-1" strike="noStrike">
                <a:solidFill>
                  <a:srgbClr val="a50021"/>
                </a:solidFill>
                <a:latin typeface="Tahoma"/>
              </a:rPr>
              <a:t>разгул, перелом, широкий четверг.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5013360"/>
            <a:ext cx="793260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этот день гуляли с утра до вечера, плясали, водили хороводы, пели частушки. С этого дня начиналась Широкая Масленица, хозяйственные работы прекращались, празднования разворачивались во всю ширь. Народ предавался всевозможным потехам, устраивались катания на лошадях, различные соревнования, которые завершались шумными пируш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201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Пятница -</a:t>
            </a:r>
            <a:r>
              <a:rPr b="0" i="1" lang="en-US" sz="4400" spc="-1" strike="noStrike">
                <a:solidFill>
                  <a:srgbClr val="a50021"/>
                </a:solidFill>
                <a:latin typeface="Tahoma"/>
              </a:rPr>
              <a:t>тещины вечера.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5229360"/>
            <a:ext cx="83628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тещины вечерки зятья угощают своих тещ блин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335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Суббота - </a:t>
            </a:r>
            <a:r>
              <a:rPr b="0" i="1" lang="en-US" sz="4000" spc="-1" strike="noStrike">
                <a:solidFill>
                  <a:srgbClr val="a50021"/>
                </a:solidFill>
                <a:latin typeface="Tahoma"/>
              </a:rPr>
              <a:t>Золовкины посиделки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5229000"/>
            <a:ext cx="81471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этот день молодожены приглашали к себе в гости родных и потчевали их угощением. Велись разговоры о житие-бытье, мирились, если до этого в ссоре находились. Этот день считался всегда семей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84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Воскресенье —</a:t>
            </a:r>
            <a:r>
              <a:rPr b="0" i="1" lang="en-US" sz="4000" spc="-1" strike="noStrike">
                <a:solidFill>
                  <a:srgbClr val="a50021"/>
                </a:solidFill>
                <a:latin typeface="Tahoma"/>
              </a:rPr>
              <a:t>Прощеный день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5373360"/>
            <a:ext cx="8218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Это был проводы Масленицы. В поле раскладывали костер из соломы и сжигали куклу с песнями. В прощеное воскресенье люди просили друг у друга прощения за нанесенные в течение года оби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1413000"/>
            <a:ext cx="7265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Plaxa</cp:lastModifiedBy>
  <dcterms:modified xsi:type="dcterms:W3CDTF">2014-11-23T18:16:39Z</dcterms:modified>
  <cp:revision>40</cp:revision>
  <dc:subject/>
  <dc:title>Слайд 1</dc:title>
</cp:coreProperties>
</file>