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1219358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4920" cy="40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20A79-11B7-40DE-83B5-9429F5B6ED0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094FB-076C-481E-9038-F9075F11311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0966-D963-4E3B-B471-7090B1330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752F-E397-423C-A3A3-3E4668D2B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918B-730F-4A80-8D3C-E28D725E1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BDBF-A705-45B6-B3A4-F4C49ECAE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80FAE-1FB3-4D64-BE49-50AC8890C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6FC0B-6E79-40B0-9AA3-F473E8C84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19C72-F80E-4475-86FD-81396E4FD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3BAF2-F997-4053-8DE8-6901C9A73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3F1CA-2504-4D3F-B435-5521B5662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A0005-F217-449B-997C-D24076AAB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3336A-A95F-4ABB-8FE9-CF4729EC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8672-74A1-4B41-9491-504F61632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8EB76-760F-4E03-A85D-BD4E5A1C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2FFE3-0A38-4145-AD5E-B7BBA8A7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C6E85-2B24-430A-A0D9-E8F720ABB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6896E-C095-4042-8BF8-4F1342870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34412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002800" y="21934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44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34412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8002800" y="4295880"/>
            <a:ext cx="34840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034A0-039E-4ED7-89CE-5478BD43A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DAE6-0691-46BC-97B5-548285A1B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9986-C6EB-4009-8EFC-E7AD79E1A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1EB4-357F-44FD-AD35-E4475D54C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895120" y="763560"/>
            <a:ext cx="861084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D0BD-026E-4EDE-A39A-6428690DF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EEEA-320B-4E37-A4AD-B27315A9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29800" y="42958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1DDA-2D09-45DB-8D54-6DA61410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29800" y="2193480"/>
            <a:ext cx="5280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4295880"/>
            <a:ext cx="10820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309A-8DE5-4558-B6BD-85E67F34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14414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7" descr=""/>
          <p:cNvPicPr/>
          <p:nvPr/>
        </p:nvPicPr>
        <p:blipFill>
          <a:blip r:embed="rId3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371240" y="1802880"/>
            <a:ext cx="9448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7908840" y="4314960"/>
            <a:ext cx="2911680" cy="3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entury Gothic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75A54-8E04-4AE0-AA7D-D8D1002A1B41}" type="datetime">
              <a:rPr b="0" lang="ru-RU" sz="1800" spc="-1" strike="noStrike">
                <a:solidFill>
                  <a:srgbClr val="000000"/>
                </a:solidFill>
                <a:latin typeface="Century Gothic"/>
                <a:ea typeface="Lucida Sans Unicode"/>
              </a:rPr>
              <a:t>29.07.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1371600" y="4324320"/>
            <a:ext cx="64008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8077320" y="14302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entury Gothic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3804D-289B-42E0-9531-4BC265BC9B4E}" type="slidenum">
              <a:rPr b="0" lang="ru-RU" sz="1800" spc="-1" strike="noStrike">
                <a:solidFill>
                  <a:srgbClr val="000000"/>
                </a:solidFill>
                <a:latin typeface="Century Gothic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Aft>
                <a:spcPts val="1412"/>
              </a:spcAft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Aft>
                <a:spcPts val="1412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Aft>
                <a:spcPts val="1412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1441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440" y="2193480"/>
            <a:ext cx="108205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594640" y="6356520"/>
            <a:ext cx="291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entury Gothic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11D12-A9CE-410E-A9DB-E6D73F62D874}" type="datetime">
              <a:rPr b="0" lang="ru-RU" sz="1800" spc="-1" strike="noStrike">
                <a:solidFill>
                  <a:srgbClr val="000000"/>
                </a:solidFill>
                <a:latin typeface="Century Gothic"/>
                <a:ea typeface="Lucida Sans Unicode"/>
              </a:rPr>
              <a:t>29.07.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685800" y="6356160"/>
            <a:ext cx="777240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763120" y="38052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entury Gothic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1E94C-AA7E-444D-BCD2-344BC565A8B0}" type="slidenum">
              <a:rPr b="0" lang="ru-RU" sz="1800" spc="-1" strike="noStrike">
                <a:solidFill>
                  <a:srgbClr val="000000"/>
                </a:solidFill>
                <a:latin typeface="Century Gothic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0" descr="темы детских презентаций - Коллекция рефератов по биологии, …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79160" y="523440"/>
            <a:ext cx="9448920" cy="54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Учитель года 2015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Номинация "Специалист"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Педагог – психолог/тьютор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Малофеева Нина Сергеевна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1666800" y="2571840"/>
            <a:ext cx="2222640" cy="37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4" name="Picture 20" descr="Зеленый лес - PowerPoint бесплатные Шаблоны для презентаций"/>
          <p:cNvPicPr/>
          <p:nvPr/>
        </p:nvPicPr>
        <p:blipFill>
          <a:blip r:embed="rId1"/>
          <a:stretch/>
        </p:blipFill>
        <p:spPr>
          <a:xfrm>
            <a:off x="0" y="0"/>
            <a:ext cx="1202544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Box 4"/>
          <p:cNvSpPr/>
          <p:nvPr/>
        </p:nvSpPr>
        <p:spPr>
          <a:xfrm>
            <a:off x="1666800" y="3857760"/>
            <a:ext cx="9001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Ребенок не только отражает и копирует нас, он еще создает нас как взрослых и как родителей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0" descr="Зеленый лес - PowerPoint бесплатные Шаблоны для презентаций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8" name="Picture 2" descr="C:\Users\1\Pictures\дружба.jpg"/>
          <p:cNvPicPr/>
          <p:nvPr/>
        </p:nvPicPr>
        <p:blipFill>
          <a:blip r:embed="rId2"/>
          <a:stretch/>
        </p:blipFill>
        <p:spPr>
          <a:xfrm>
            <a:off x="2424240" y="1700280"/>
            <a:ext cx="7765920" cy="47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0" descr="темы детских презентаций - Коллекция рефератов по биологии, …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Потрясающе)) - Babyblog.ru"/>
          <p:cNvPicPr/>
          <p:nvPr/>
        </p:nvPicPr>
        <p:blipFill>
          <a:blip r:embed="rId2"/>
          <a:stretch/>
        </p:blipFill>
        <p:spPr>
          <a:xfrm>
            <a:off x="595440" y="3500280"/>
            <a:ext cx="1954080" cy="2805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Скачать Девочка картинки для детей нарисованные 5"/>
          <p:cNvPicPr/>
          <p:nvPr/>
        </p:nvPicPr>
        <p:blipFill>
          <a:blip r:embed="rId3"/>
          <a:stretch/>
        </p:blipFill>
        <p:spPr>
          <a:xfrm>
            <a:off x="6024600" y="3500280"/>
            <a:ext cx="1897200" cy="2372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Culture: Влюбленным в живопись посвящается!"/>
          <p:cNvPicPr/>
          <p:nvPr/>
        </p:nvPicPr>
        <p:blipFill>
          <a:blip r:embed="rId4"/>
          <a:stretch/>
        </p:blipFill>
        <p:spPr>
          <a:xfrm>
            <a:off x="8238960" y="1428840"/>
            <a:ext cx="3783240" cy="32144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http://nsportal.ru/sites/default/files/2015/03/08/nin-9742.jpg"/>
          <p:cNvPicPr/>
          <p:nvPr/>
        </p:nvPicPr>
        <p:blipFill>
          <a:blip r:embed="rId5"/>
          <a:stretch/>
        </p:blipFill>
        <p:spPr>
          <a:xfrm>
            <a:off x="3309840" y="785880"/>
            <a:ext cx="2481480" cy="378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0" descr="Зеленый лес - PowerPoint бесплатные Шаблоны для презентаций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http://nsportal.ru/sites/default/files/2015/03/08/nina_30mai2009-5658.jpg"/>
          <p:cNvPicPr/>
          <p:nvPr/>
        </p:nvPicPr>
        <p:blipFill>
          <a:blip r:embed="rId2"/>
          <a:stretch/>
        </p:blipFill>
        <p:spPr>
          <a:xfrm>
            <a:off x="452520" y="1500120"/>
            <a:ext cx="3471840" cy="2286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http://nsportal.ru/sites/default/files/2015/03/08/nina_30mai2009-5658.jpg"/>
          <p:cNvPicPr/>
          <p:nvPr/>
        </p:nvPicPr>
        <p:blipFill>
          <a:blip r:embed="rId3"/>
          <a:stretch/>
        </p:blipFill>
        <p:spPr>
          <a:xfrm>
            <a:off x="2952720" y="2786040"/>
            <a:ext cx="2286000" cy="1504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Exclamation mark из Kopirin. Роялти-фри вектор #7972483 на Fotolia.ru"/>
          <p:cNvPicPr/>
          <p:nvPr/>
        </p:nvPicPr>
        <p:blipFill>
          <a:blip r:embed="rId4"/>
          <a:stretch/>
        </p:blipFill>
        <p:spPr>
          <a:xfrm>
            <a:off x="8810640" y="1428840"/>
            <a:ext cx="981000" cy="1395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Новости"/>
          <p:cNvPicPr/>
          <p:nvPr/>
        </p:nvPicPr>
        <p:blipFill>
          <a:blip r:embed="rId5"/>
          <a:stretch/>
        </p:blipFill>
        <p:spPr>
          <a:xfrm>
            <a:off x="9667800" y="928800"/>
            <a:ext cx="2133720" cy="195264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8" descr="Exclamation mark из Kopirin. Роялти-фри вектор #7972483 на Fotolia.ru"/>
          <p:cNvPicPr/>
          <p:nvPr/>
        </p:nvPicPr>
        <p:blipFill>
          <a:blip r:embed="rId6"/>
          <a:stretch/>
        </p:blipFill>
        <p:spPr>
          <a:xfrm>
            <a:off x="7453440" y="2714760"/>
            <a:ext cx="981000" cy="1395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Exclamation mark из Kopirin. Роялти-фри вектор #7972483 на Fotolia.ru"/>
          <p:cNvPicPr/>
          <p:nvPr/>
        </p:nvPicPr>
        <p:blipFill>
          <a:blip r:embed="rId7"/>
          <a:stretch/>
        </p:blipFill>
        <p:spPr>
          <a:xfrm>
            <a:off x="5738760" y="3786120"/>
            <a:ext cx="981000" cy="1395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Exclamation mark из Kopirin. Роялти-фри вектор #7972483 на Fotolia.ru"/>
          <p:cNvPicPr/>
          <p:nvPr/>
        </p:nvPicPr>
        <p:blipFill>
          <a:blip r:embed="rId8"/>
          <a:stretch/>
        </p:blipFill>
        <p:spPr>
          <a:xfrm>
            <a:off x="4024440" y="4857840"/>
            <a:ext cx="981000" cy="1395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Exclamation mark из Kopirin. Роялти-фри вектор #7972483 на Fotolia.ru"/>
          <p:cNvPicPr/>
          <p:nvPr/>
        </p:nvPicPr>
        <p:blipFill>
          <a:blip r:embed="rId9"/>
          <a:stretch/>
        </p:blipFill>
        <p:spPr>
          <a:xfrm>
            <a:off x="1738440" y="5286240"/>
            <a:ext cx="981000" cy="139572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8"/>
          <p:cNvSpPr/>
          <p:nvPr/>
        </p:nvSpPr>
        <p:spPr>
          <a:xfrm>
            <a:off x="6810480" y="4179960"/>
            <a:ext cx="5715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ЧЬ ДЕТЯМ И РОДИТЕЛЯМ УСЛЫШАТЬ ДРУГ ДРУГ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 САМОГО СЕБЯ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ОТ РАБОТА ПЕДАГОГА-ПСИХОЛО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0" descr="Зеленый лес - PowerPoint бесплатные Шаблоны для презентаций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763560"/>
            <a:ext cx="861084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5" name="Picture 2" descr="C:\Users\Нина\Desktop\IMG_1898.JPG"/>
          <p:cNvPicPr/>
          <p:nvPr/>
        </p:nvPicPr>
        <p:blipFill>
          <a:blip r:embed="rId2"/>
          <a:stretch/>
        </p:blipFill>
        <p:spPr>
          <a:xfrm>
            <a:off x="666720" y="3571920"/>
            <a:ext cx="3251160" cy="2438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C:\Users\Нина\Desktop\IMG_1733.JPG"/>
          <p:cNvPicPr/>
          <p:nvPr/>
        </p:nvPicPr>
        <p:blipFill>
          <a:blip r:embed="rId3"/>
          <a:stretch/>
        </p:blipFill>
        <p:spPr>
          <a:xfrm>
            <a:off x="3809880" y="1428840"/>
            <a:ext cx="4214880" cy="3160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C:\Users\Нина\Desktop\IMG_1833.JPG"/>
          <p:cNvPicPr/>
          <p:nvPr/>
        </p:nvPicPr>
        <p:blipFill>
          <a:blip r:embed="rId4"/>
          <a:stretch/>
        </p:blipFill>
        <p:spPr>
          <a:xfrm>
            <a:off x="7881840" y="142920"/>
            <a:ext cx="3251160" cy="243828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16"/>
          <p:cNvSpPr/>
          <p:nvPr/>
        </p:nvSpPr>
        <p:spPr>
          <a:xfrm>
            <a:off x="6095880" y="4549680"/>
            <a:ext cx="609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haroni"/>
              </a:rPr>
              <a:t>Психолог... что приходит на ум, когда мы слышим это слово? Какое-то ощущение тайны связано с этим словом. Как будто человек, носящий это звание, знает что-то такое, от чего мир вдруг станет лучше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0" descr="темы детских презентаций - Коллекция рефератов по биологии, …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"/>
          <p:cNvPicPr/>
          <p:nvPr/>
        </p:nvPicPr>
        <p:blipFill>
          <a:blip r:embed="rId2"/>
          <a:stretch/>
        </p:blipFill>
        <p:spPr>
          <a:xfrm>
            <a:off x="2809800" y="1643040"/>
            <a:ext cx="2995560" cy="45036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4"/>
          <p:cNvSpPr/>
          <p:nvPr/>
        </p:nvSpPr>
        <p:spPr>
          <a:xfrm>
            <a:off x="6167520" y="3071880"/>
            <a:ext cx="5143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ы удивитесь, но порою, дошколята сами могут нам преподать урок, самый главный урок нашей жизни - урок Доброты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0" descr="темы детских презентаций - Коллекция рефератов по биологии, …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2" descr="http://nsportal.ru/sites/default/files/2015/03/08/nina_30mai2009-5103.jpg"/>
          <p:cNvPicPr/>
          <p:nvPr/>
        </p:nvPicPr>
        <p:blipFill>
          <a:blip r:embed="rId2"/>
          <a:stretch/>
        </p:blipFill>
        <p:spPr>
          <a:xfrm>
            <a:off x="2595600" y="1571760"/>
            <a:ext cx="3224160" cy="4919400"/>
          </a:xfrm>
          <a:prstGeom prst="rect">
            <a:avLst/>
          </a:prstGeom>
          <a:ln w="0">
            <a:noFill/>
          </a:ln>
        </p:spPr>
      </p:pic>
      <p:sp>
        <p:nvSpPr>
          <p:cNvPr id="124" name="TextBox 6"/>
          <p:cNvSpPr/>
          <p:nvPr/>
        </p:nvSpPr>
        <p:spPr>
          <a:xfrm>
            <a:off x="6167520" y="2714760"/>
            <a:ext cx="5218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огда, помогая взрослым понять своих детей, я прихожу к мысли, что порой легче подсказать ребенку как рассказать родителям о своих желаниях, чем подсказать взрослому, как он нужен своему ребен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0" descr="темы детских презентаций - Коллекция рефератов по биологии, …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C:\Users\Нина\Pictures\2015-03-10\IMG_1799.JPG"/>
          <p:cNvPicPr/>
          <p:nvPr/>
        </p:nvPicPr>
        <p:blipFill>
          <a:blip r:embed="rId2"/>
          <a:stretch/>
        </p:blipFill>
        <p:spPr>
          <a:xfrm>
            <a:off x="484200" y="714240"/>
            <a:ext cx="5619600" cy="5929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C:\Users\Нина\Pictures\2015-03-10\IMG_1802.JPG"/>
          <p:cNvPicPr/>
          <p:nvPr/>
        </p:nvPicPr>
        <p:blipFill>
          <a:blip r:embed="rId3"/>
          <a:stretch/>
        </p:blipFill>
        <p:spPr>
          <a:xfrm>
            <a:off x="6381720" y="714240"/>
            <a:ext cx="5500800" cy="592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0" descr="Зеленый лес - PowerPoint бесплатные Шаблоны для презентаций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" descr="C:\Users\Нина\Desktop\DSCN0469.JPG"/>
          <p:cNvPicPr/>
          <p:nvPr/>
        </p:nvPicPr>
        <p:blipFill>
          <a:blip r:embed="rId2"/>
          <a:stretch/>
        </p:blipFill>
        <p:spPr>
          <a:xfrm>
            <a:off x="2809800" y="214200"/>
            <a:ext cx="8358120" cy="6143760"/>
          </a:xfrm>
          <a:prstGeom prst="rect">
            <a:avLst/>
          </a:prstGeom>
          <a:ln w="0">
            <a:noFill/>
          </a:ln>
        </p:spPr>
      </p:pic>
      <p:sp>
        <p:nvSpPr>
          <p:cNvPr id="130" name="TextBox 8"/>
          <p:cNvSpPr/>
          <p:nvPr/>
        </p:nvSpPr>
        <p:spPr>
          <a:xfrm>
            <a:off x="7167600" y="714240"/>
            <a:ext cx="4786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Мир ребенка хрупок и нестабилен и от непонимания он рассыпается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0" descr="Зеленый лес - PowerPoint бесплатные Шаблоны для презентаций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Аудиокниги, аудиоспектакли Записи в рубрике Аудиокниги, аудиоспектакли Дневник galochkamp : LiveInternet - Российский Сервис Онл"/>
          <p:cNvPicPr/>
          <p:nvPr/>
        </p:nvPicPr>
        <p:blipFill>
          <a:blip r:embed="rId2"/>
          <a:stretch/>
        </p:blipFill>
        <p:spPr>
          <a:xfrm>
            <a:off x="2523960" y="798480"/>
            <a:ext cx="7429680" cy="570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льзователь</dc:creator>
  <dc:description/>
  <dc:language>en-US</dc:language>
  <cp:lastModifiedBy>Пользователь</cp:lastModifiedBy>
  <dcterms:modified xsi:type="dcterms:W3CDTF">2015-03-19T06:33:43Z</dcterms:modified>
  <cp:revision>132</cp:revision>
  <dc:subject/>
  <dc:title>Социально-образовательный проект  «МЫ ВМЕСТЕ!»</dc:title>
</cp:coreProperties>
</file>