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9AF4-3D3D-4D3C-B83C-45384FF42F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03D9-B7C3-4ABB-B7B9-EEF5EDF655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44D-5546-4F7C-9CF3-AE2EB39C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965-08B9-4014-AD1A-AE834786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B3C-A855-439A-8792-7CB94066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246-7778-4A56-A7F8-169F5C95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C4EF-E52C-434E-B6D0-AED7B135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1930-6B64-4A67-8EA4-6E940C99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2BA7-6226-4E7E-91BC-4E72F048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34F1-8501-462C-BF2A-39136E27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43FC-C6EB-4E30-87C7-FEC4A522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F2F3-50E5-4957-9ADB-FB92AAA2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44BE-B601-49EB-97ED-0AF4628F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68D-2A42-463A-8A8D-5D1214C9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E14A-0130-4264-9D4D-4C7C679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3172-7D8A-4C3E-827F-368B7A1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0014-1BDD-4C4D-B042-5C4A2CEF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D17B-460A-4B36-9F96-C5288FEE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AF0B-8F38-4513-B199-15B2D7AB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B70-6C05-498C-AF2A-EDA00842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7A2-6B32-4DDE-BFED-9A511CA7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638-6535-498F-A19E-7DB4E5B1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143-0179-4B9A-9638-1C344BA5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DFA-64FB-4AEE-828F-9CE0B4A6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8C7-7037-4447-96E8-88087209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332-C95F-47DA-9341-50459AD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1802880"/>
            <a:ext cx="9448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908840" y="4314960"/>
            <a:ext cx="29116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8D7D-F876-41E8-B4ED-B380AD1D5DBC}" type="datetime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31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371600" y="4324320"/>
            <a:ext cx="6400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4CF4-95CE-434F-B4CC-4F1069774753}" type="slidenum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7CFA-0018-494C-A2C1-14418272E3BB}" type="datetime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31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800" y="6356160"/>
            <a:ext cx="77724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2878-0EA0-4906-9969-BD9D74D3C546}" type="slidenum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9160" y="523440"/>
            <a:ext cx="9448920" cy="54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Учитель года 2015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Номинация "Специалист"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едагог – психолог/тьютор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алофеева Нина Сергеевна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666800" y="2571840"/>
            <a:ext cx="222264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0254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1666800" y="3857760"/>
            <a:ext cx="90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ебенок не только отражает и копирует нас, он еще создает нас как взрослых и как родителей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Picture 2" descr="C:\Users\1\Pictures\дружба.jpg"/>
          <p:cNvPicPr/>
          <p:nvPr/>
        </p:nvPicPr>
        <p:blipFill>
          <a:blip r:embed="rId2"/>
          <a:stretch/>
        </p:blipFill>
        <p:spPr>
          <a:xfrm>
            <a:off x="2424240" y="1700280"/>
            <a:ext cx="776592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Потрясающе)) - Babyblog.ru"/>
          <p:cNvPicPr/>
          <p:nvPr/>
        </p:nvPicPr>
        <p:blipFill>
          <a:blip r:embed="rId2"/>
          <a:stretch/>
        </p:blipFill>
        <p:spPr>
          <a:xfrm>
            <a:off x="595440" y="3500280"/>
            <a:ext cx="1954080" cy="2805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Скачать Девочка картинки для детей нарисованные 5"/>
          <p:cNvPicPr/>
          <p:nvPr/>
        </p:nvPicPr>
        <p:blipFill>
          <a:blip r:embed="rId3"/>
          <a:stretch/>
        </p:blipFill>
        <p:spPr>
          <a:xfrm>
            <a:off x="6024600" y="3500280"/>
            <a:ext cx="1897200" cy="237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ulture: Влюбленным в живопись посвящается!"/>
          <p:cNvPicPr/>
          <p:nvPr/>
        </p:nvPicPr>
        <p:blipFill>
          <a:blip r:embed="rId4"/>
          <a:stretch/>
        </p:blipFill>
        <p:spPr>
          <a:xfrm>
            <a:off x="8238960" y="1428840"/>
            <a:ext cx="3783240" cy="3214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http://nsportal.ru/sites/default/files/2015/03/08/nin-9742.jpg"/>
          <p:cNvPicPr/>
          <p:nvPr/>
        </p:nvPicPr>
        <p:blipFill>
          <a:blip r:embed="rId5"/>
          <a:stretch/>
        </p:blipFill>
        <p:spPr>
          <a:xfrm>
            <a:off x="3309840" y="785880"/>
            <a:ext cx="248148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nsportal.ru/sites/default/files/2015/03/08/nina_30mai2009-5658.jpg"/>
          <p:cNvPicPr/>
          <p:nvPr/>
        </p:nvPicPr>
        <p:blipFill>
          <a:blip r:embed="rId2"/>
          <a:stretch/>
        </p:blipFill>
        <p:spPr>
          <a:xfrm>
            <a:off x="452520" y="1500120"/>
            <a:ext cx="347184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nsportal.ru/sites/default/files/2015/03/08/nina_30mai2009-5658.jpg"/>
          <p:cNvPicPr/>
          <p:nvPr/>
        </p:nvPicPr>
        <p:blipFill>
          <a:blip r:embed="rId3"/>
          <a:stretch/>
        </p:blipFill>
        <p:spPr>
          <a:xfrm>
            <a:off x="2952720" y="2786040"/>
            <a:ext cx="2286000" cy="150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Exclamation mark из Kopirin. Роялти-фри вектор #7972483 на Fotolia.ru"/>
          <p:cNvPicPr/>
          <p:nvPr/>
        </p:nvPicPr>
        <p:blipFill>
          <a:blip r:embed="rId4"/>
          <a:stretch/>
        </p:blipFill>
        <p:spPr>
          <a:xfrm>
            <a:off x="8810640" y="1428840"/>
            <a:ext cx="981000" cy="1395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Новости"/>
          <p:cNvPicPr/>
          <p:nvPr/>
        </p:nvPicPr>
        <p:blipFill>
          <a:blip r:embed="rId5"/>
          <a:stretch/>
        </p:blipFill>
        <p:spPr>
          <a:xfrm>
            <a:off x="9667800" y="928800"/>
            <a:ext cx="2133720" cy="19526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Exclamation mark из Kopirin. Роялти-фри вектор #7972483 на Fotolia.ru"/>
          <p:cNvPicPr/>
          <p:nvPr/>
        </p:nvPicPr>
        <p:blipFill>
          <a:blip r:embed="rId6"/>
          <a:stretch/>
        </p:blipFill>
        <p:spPr>
          <a:xfrm>
            <a:off x="7453440" y="2714760"/>
            <a:ext cx="981000" cy="139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xclamation mark из Kopirin. Роялти-фри вектор #7972483 на Fotolia.ru"/>
          <p:cNvPicPr/>
          <p:nvPr/>
        </p:nvPicPr>
        <p:blipFill>
          <a:blip r:embed="rId7"/>
          <a:stretch/>
        </p:blipFill>
        <p:spPr>
          <a:xfrm>
            <a:off x="5738760" y="3786120"/>
            <a:ext cx="981000" cy="139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Exclamation mark из Kopirin. Роялти-фри вектор #7972483 на Fotolia.ru"/>
          <p:cNvPicPr/>
          <p:nvPr/>
        </p:nvPicPr>
        <p:blipFill>
          <a:blip r:embed="rId8"/>
          <a:stretch/>
        </p:blipFill>
        <p:spPr>
          <a:xfrm>
            <a:off x="4024440" y="4857840"/>
            <a:ext cx="981000" cy="139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Exclamation mark из Kopirin. Роялти-фри вектор #7972483 на Fotolia.ru"/>
          <p:cNvPicPr/>
          <p:nvPr/>
        </p:nvPicPr>
        <p:blipFill>
          <a:blip r:embed="rId9"/>
          <a:stretch/>
        </p:blipFill>
        <p:spPr>
          <a:xfrm>
            <a:off x="1738440" y="5286240"/>
            <a:ext cx="981000" cy="1395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8"/>
          <p:cNvSpPr/>
          <p:nvPr/>
        </p:nvSpPr>
        <p:spPr>
          <a:xfrm>
            <a:off x="6810480" y="417996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ЧЬ ДЕТЯМ И РОДИТЕЛЯМ УСЛЫШАТЬ ДРУГ ДРУ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САМОГО СЕБ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Т РАБОТА ПЕДАГОГА-ПСИХО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5" name="Picture 2" descr="C:\Users\Нина\Desktop\IMG_1898.JPG"/>
          <p:cNvPicPr/>
          <p:nvPr/>
        </p:nvPicPr>
        <p:blipFill>
          <a:blip r:embed="rId2"/>
          <a:stretch/>
        </p:blipFill>
        <p:spPr>
          <a:xfrm>
            <a:off x="666720" y="3571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Users\Нина\Desktop\IMG_1733.JPG"/>
          <p:cNvPicPr/>
          <p:nvPr/>
        </p:nvPicPr>
        <p:blipFill>
          <a:blip r:embed="rId3"/>
          <a:stretch/>
        </p:blipFill>
        <p:spPr>
          <a:xfrm>
            <a:off x="3809880" y="14288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Users\Нина\Desktop\IMG_1833.JPG"/>
          <p:cNvPicPr/>
          <p:nvPr/>
        </p:nvPicPr>
        <p:blipFill>
          <a:blip r:embed="rId4"/>
          <a:stretch/>
        </p:blipFill>
        <p:spPr>
          <a:xfrm>
            <a:off x="7881840" y="14292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6"/>
          <p:cNvSpPr/>
          <p:nvPr/>
        </p:nvSpPr>
        <p:spPr>
          <a:xfrm>
            <a:off x="6095880" y="454968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haroni"/>
              </a:rPr>
              <a:t>Психолог... что приходит на ум, когда мы слышим это слово? Какое-то ощущение тайны связано с этим словом. Как будто человек, носящий это звание, знает что-то такое, от чего мир вдруг станет лучше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2"/>
          <a:stretch/>
        </p:blipFill>
        <p:spPr>
          <a:xfrm>
            <a:off x="2809800" y="1643040"/>
            <a:ext cx="2995560" cy="4503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6167520" y="3071880"/>
            <a:ext cx="514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 удивитесь, но порою, дошколята сами могут нам преподать урок, самый главный урок нашей жизни - урок Доброты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http://nsportal.ru/sites/default/files/2015/03/08/nina_30mai2009-5103.jpg"/>
          <p:cNvPicPr/>
          <p:nvPr/>
        </p:nvPicPr>
        <p:blipFill>
          <a:blip r:embed="rId2"/>
          <a:stretch/>
        </p:blipFill>
        <p:spPr>
          <a:xfrm>
            <a:off x="2595600" y="1571760"/>
            <a:ext cx="3224160" cy="4919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6167520" y="2714760"/>
            <a:ext cx="521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гда, помогая взрослым понять своих детей, я прихожу к мысли, что порой легче подсказать ребенку как рассказать родителям о своих желаниях, чем подсказать взрослому, как он нужен своему ребен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Нина\Pictures\2015-03-10\IMG_1799.JPG"/>
          <p:cNvPicPr/>
          <p:nvPr/>
        </p:nvPicPr>
        <p:blipFill>
          <a:blip r:embed="rId2"/>
          <a:stretch/>
        </p:blipFill>
        <p:spPr>
          <a:xfrm>
            <a:off x="484200" y="714240"/>
            <a:ext cx="5619600" cy="5929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Нина\Pictures\2015-03-10\IMG_1802.JPG"/>
          <p:cNvPicPr/>
          <p:nvPr/>
        </p:nvPicPr>
        <p:blipFill>
          <a:blip r:embed="rId3"/>
          <a:stretch/>
        </p:blipFill>
        <p:spPr>
          <a:xfrm>
            <a:off x="6381720" y="714240"/>
            <a:ext cx="5500800" cy="592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C:\Users\Нина\Desktop\DSCN0469.JPG"/>
          <p:cNvPicPr/>
          <p:nvPr/>
        </p:nvPicPr>
        <p:blipFill>
          <a:blip r:embed="rId2"/>
          <a:stretch/>
        </p:blipFill>
        <p:spPr>
          <a:xfrm>
            <a:off x="2809800" y="214200"/>
            <a:ext cx="8358120" cy="61437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7167600" y="714240"/>
            <a:ext cx="47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ир ребенка хрупок и нестабилен и от непонимания он рассыпае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Аудиокниги, аудиоспектакли Записи в рубрике Аудиокниги, аудиоспектакли Дневник galochkamp : LiveInternet - Российский Сервис Онл"/>
          <p:cNvPicPr/>
          <p:nvPr/>
        </p:nvPicPr>
        <p:blipFill>
          <a:blip r:embed="rId2"/>
          <a:stretch/>
        </p:blipFill>
        <p:spPr>
          <a:xfrm>
            <a:off x="2523960" y="798480"/>
            <a:ext cx="7429680" cy="570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5-03-19T06:33:43Z</dcterms:modified>
  <cp:revision>132</cp:revision>
  <dc:subject/>
  <dc:title>Социально-образовательный проект  «МЫ ВМЕСТЕ!»</dc:title>
</cp:coreProperties>
</file>