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068D-99A7-48EC-B8B9-D502A90851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8C71-658D-4D8A-B424-B1C2973FDC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16B-D593-460A-9E68-EE46E66F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23B-0439-407A-B28C-597FA6E3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C398-531C-425E-A575-D2820389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B2F-8996-42B2-9506-4470E30E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C1A1-5DCF-4E53-BA5B-84B482BD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0195-4EB2-4C01-A949-27F5F5DB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B4E5-2B2D-4EAA-AB3A-35877385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BF7A-F3E6-40B9-8739-FAAC84B0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C1EC-4AC8-429A-A899-84462D04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117A-14BA-40EE-9CD1-1B216096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7954-C9EB-47C0-8F13-54829A3F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7B8-4C5C-443A-8BB8-4354BC22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1B4E-504C-4AB9-BE2E-74386351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E92B-6AD4-4403-8A9D-9CAB352A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AD88-CEEB-44D2-BF2C-040264FA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2F58-0AE5-4CBA-81A5-ECCE240D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D322-1431-4C97-8E16-437C2934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7AC-F5D7-407D-8A45-26982D1F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01EF-45C9-42BB-B2C5-78F549F5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357A-9275-4B68-B1AA-8AABF154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6D6-B8A7-48B8-93C9-43DA4EB4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FF55-ACE0-4982-B418-28F3C49D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684-5B8D-4306-A01E-FC73F228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E72-D430-4AD0-85C0-D48C9BF0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240" y="1802880"/>
            <a:ext cx="9448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7908840" y="4314960"/>
            <a:ext cx="291168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0D72-A94A-49A5-A159-0AED49A81BA0}" type="datetime">
              <a: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371600" y="4324320"/>
            <a:ext cx="6400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077320" y="1430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3228-94B7-49FE-A93B-7981B2C0E082}" type="slidenum">
              <a: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94640" y="6356520"/>
            <a:ext cx="291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E924-1DB4-490D-8913-2BDE5DA9162C}" type="datetime">
              <a: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800" y="6356160"/>
            <a:ext cx="77724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763120" y="3805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4F4F-A854-408C-A959-71250051B641}" type="slidenum">
              <a: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темы детских презентаций - Коллекция рефератов по биологии, …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79160" y="523440"/>
            <a:ext cx="9448920" cy="54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Учитель года 2015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Номинация "Специалист"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Педагог – психолог/тьютор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Малофеева Нина Сергеевна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666800" y="2571840"/>
            <a:ext cx="222264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4" name="Picture 20" descr="Зеленый лес - PowerPoint бесплатные Шабл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1202544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1666800" y="3857760"/>
            <a:ext cx="900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Ребенок не только отражает и копирует нас, он еще создает нас как взрослых и как родителей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Зеленый лес - PowerPoint бесплатные Шабл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8" name="Picture 2" descr="C:\Users\1\Pictures\дружба.jpg"/>
          <p:cNvPicPr/>
          <p:nvPr/>
        </p:nvPicPr>
        <p:blipFill>
          <a:blip r:embed="rId2"/>
          <a:stretch/>
        </p:blipFill>
        <p:spPr>
          <a:xfrm>
            <a:off x="2424240" y="1700280"/>
            <a:ext cx="776592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темы детских презентаций - Коллекция рефератов по биологии, …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Потрясающе)) - Babyblog.ru"/>
          <p:cNvPicPr/>
          <p:nvPr/>
        </p:nvPicPr>
        <p:blipFill>
          <a:blip r:embed="rId2"/>
          <a:stretch/>
        </p:blipFill>
        <p:spPr>
          <a:xfrm>
            <a:off x="595440" y="3500280"/>
            <a:ext cx="1954080" cy="2805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Скачать Девочка картинки для детей нарисованные 5"/>
          <p:cNvPicPr/>
          <p:nvPr/>
        </p:nvPicPr>
        <p:blipFill>
          <a:blip r:embed="rId3"/>
          <a:stretch/>
        </p:blipFill>
        <p:spPr>
          <a:xfrm>
            <a:off x="6024600" y="3500280"/>
            <a:ext cx="1897200" cy="2372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ulture: Влюбленным в живопись посвящается!"/>
          <p:cNvPicPr/>
          <p:nvPr/>
        </p:nvPicPr>
        <p:blipFill>
          <a:blip r:embed="rId4"/>
          <a:stretch/>
        </p:blipFill>
        <p:spPr>
          <a:xfrm>
            <a:off x="8238960" y="1428840"/>
            <a:ext cx="3783240" cy="3214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http://nsportal.ru/sites/default/files/2015/03/08/nin-9742.jpg"/>
          <p:cNvPicPr/>
          <p:nvPr/>
        </p:nvPicPr>
        <p:blipFill>
          <a:blip r:embed="rId5"/>
          <a:stretch/>
        </p:blipFill>
        <p:spPr>
          <a:xfrm>
            <a:off x="3309840" y="785880"/>
            <a:ext cx="248148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0" descr="Зеленый лес - PowerPoint бесплатные Шабл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http://nsportal.ru/sites/default/files/2015/03/08/nina_30mai2009-5658.jpg"/>
          <p:cNvPicPr/>
          <p:nvPr/>
        </p:nvPicPr>
        <p:blipFill>
          <a:blip r:embed="rId2"/>
          <a:stretch/>
        </p:blipFill>
        <p:spPr>
          <a:xfrm>
            <a:off x="452520" y="1500120"/>
            <a:ext cx="347184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nsportal.ru/sites/default/files/2015/03/08/nina_30mai2009-5658.jpg"/>
          <p:cNvPicPr/>
          <p:nvPr/>
        </p:nvPicPr>
        <p:blipFill>
          <a:blip r:embed="rId3"/>
          <a:stretch/>
        </p:blipFill>
        <p:spPr>
          <a:xfrm>
            <a:off x="2952720" y="2786040"/>
            <a:ext cx="2286000" cy="1504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Exclamation mark из Kopirin. Роялти-фри вектор #7972483 на Fotolia.ru"/>
          <p:cNvPicPr/>
          <p:nvPr/>
        </p:nvPicPr>
        <p:blipFill>
          <a:blip r:embed="rId4"/>
          <a:stretch/>
        </p:blipFill>
        <p:spPr>
          <a:xfrm>
            <a:off x="8810640" y="1428840"/>
            <a:ext cx="981000" cy="1395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Новости"/>
          <p:cNvPicPr/>
          <p:nvPr/>
        </p:nvPicPr>
        <p:blipFill>
          <a:blip r:embed="rId5"/>
          <a:stretch/>
        </p:blipFill>
        <p:spPr>
          <a:xfrm>
            <a:off x="9667800" y="928800"/>
            <a:ext cx="2133720" cy="19526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Exclamation mark из Kopirin. Роялти-фри вектор #7972483 на Fotolia.ru"/>
          <p:cNvPicPr/>
          <p:nvPr/>
        </p:nvPicPr>
        <p:blipFill>
          <a:blip r:embed="rId6"/>
          <a:stretch/>
        </p:blipFill>
        <p:spPr>
          <a:xfrm>
            <a:off x="7453440" y="2714760"/>
            <a:ext cx="981000" cy="1395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Exclamation mark из Kopirin. Роялти-фри вектор #7972483 на Fotolia.ru"/>
          <p:cNvPicPr/>
          <p:nvPr/>
        </p:nvPicPr>
        <p:blipFill>
          <a:blip r:embed="rId7"/>
          <a:stretch/>
        </p:blipFill>
        <p:spPr>
          <a:xfrm>
            <a:off x="5738760" y="3786120"/>
            <a:ext cx="981000" cy="1395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Exclamation mark из Kopirin. Роялти-фри вектор #7972483 на Fotolia.ru"/>
          <p:cNvPicPr/>
          <p:nvPr/>
        </p:nvPicPr>
        <p:blipFill>
          <a:blip r:embed="rId8"/>
          <a:stretch/>
        </p:blipFill>
        <p:spPr>
          <a:xfrm>
            <a:off x="4024440" y="4857840"/>
            <a:ext cx="981000" cy="1395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Exclamation mark из Kopirin. Роялти-фри вектор #7972483 на Fotolia.ru"/>
          <p:cNvPicPr/>
          <p:nvPr/>
        </p:nvPicPr>
        <p:blipFill>
          <a:blip r:embed="rId9"/>
          <a:stretch/>
        </p:blipFill>
        <p:spPr>
          <a:xfrm>
            <a:off x="1738440" y="5286240"/>
            <a:ext cx="981000" cy="13957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8"/>
          <p:cNvSpPr/>
          <p:nvPr/>
        </p:nvSpPr>
        <p:spPr>
          <a:xfrm>
            <a:off x="6810480" y="417996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ЧЬ ДЕТЯМ И РОДИТЕЛЯМ УСЛЫШАТЬ ДРУГ ДРУ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САМОГО СЕБ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Т РАБОТА ПЕДАГОГА-ПСИХОЛ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0" descr="Зеленый лес - PowerPoint бесплатные Шабл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5" name="Picture 2" descr="C:\Users\Нина\Desktop\IMG_1898.JPG"/>
          <p:cNvPicPr/>
          <p:nvPr/>
        </p:nvPicPr>
        <p:blipFill>
          <a:blip r:embed="rId2"/>
          <a:stretch/>
        </p:blipFill>
        <p:spPr>
          <a:xfrm>
            <a:off x="666720" y="35719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Users\Нина\Desktop\IMG_1733.JPG"/>
          <p:cNvPicPr/>
          <p:nvPr/>
        </p:nvPicPr>
        <p:blipFill>
          <a:blip r:embed="rId3"/>
          <a:stretch/>
        </p:blipFill>
        <p:spPr>
          <a:xfrm>
            <a:off x="3809880" y="14288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:\Users\Нина\Desktop\IMG_1833.JPG"/>
          <p:cNvPicPr/>
          <p:nvPr/>
        </p:nvPicPr>
        <p:blipFill>
          <a:blip r:embed="rId4"/>
          <a:stretch/>
        </p:blipFill>
        <p:spPr>
          <a:xfrm>
            <a:off x="7881840" y="142920"/>
            <a:ext cx="3251160" cy="24382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6"/>
          <p:cNvSpPr/>
          <p:nvPr/>
        </p:nvSpPr>
        <p:spPr>
          <a:xfrm>
            <a:off x="6095880" y="454968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haroni"/>
              </a:rPr>
              <a:t>Психолог... что приходит на ум, когда мы слышим это слово? Какое-то ощущение тайны связано с этим словом. Как будто человек, носящий это звание, знает что-то такое, от чего мир вдруг станет лучше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" descr="темы детских презентаций - Коллекция рефератов по биологии, …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2"/>
          <a:stretch/>
        </p:blipFill>
        <p:spPr>
          <a:xfrm>
            <a:off x="2809800" y="1643040"/>
            <a:ext cx="2995560" cy="45036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6167520" y="3071880"/>
            <a:ext cx="5143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 удивитесь, но порою, дошколята сами могут нам преподать урок, самый главный урок нашей жизни - урок Доброты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" descr="темы детских презентаций - Коллекция рефератов по биологии, …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http://nsportal.ru/sites/default/files/2015/03/08/nina_30mai2009-5103.jpg"/>
          <p:cNvPicPr/>
          <p:nvPr/>
        </p:nvPicPr>
        <p:blipFill>
          <a:blip r:embed="rId2"/>
          <a:stretch/>
        </p:blipFill>
        <p:spPr>
          <a:xfrm>
            <a:off x="2595600" y="1571760"/>
            <a:ext cx="3224160" cy="4919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6167520" y="2714760"/>
            <a:ext cx="5218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огда, помогая взрослым понять своих детей, я прихожу к мысли, что порой легче подсказать ребенку как рассказать родителям о своих желаниях, чем подсказать взрослому, как он нужен своему ребен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темы детских презентаций - Коллекция рефератов по биологии, …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Users\Нина\Pictures\2015-03-10\IMG_1799.JPG"/>
          <p:cNvPicPr/>
          <p:nvPr/>
        </p:nvPicPr>
        <p:blipFill>
          <a:blip r:embed="rId2"/>
          <a:stretch/>
        </p:blipFill>
        <p:spPr>
          <a:xfrm>
            <a:off x="484200" y="714240"/>
            <a:ext cx="5619600" cy="5929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C:\Users\Нина\Pictures\2015-03-10\IMG_1802.JPG"/>
          <p:cNvPicPr/>
          <p:nvPr/>
        </p:nvPicPr>
        <p:blipFill>
          <a:blip r:embed="rId3"/>
          <a:stretch/>
        </p:blipFill>
        <p:spPr>
          <a:xfrm>
            <a:off x="6381720" y="714240"/>
            <a:ext cx="5500800" cy="592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0" descr="Зеленый лес - PowerPoint бесплатные Шабл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" descr="C:\Users\Нина\Desktop\DSCN0469.JPG"/>
          <p:cNvPicPr/>
          <p:nvPr/>
        </p:nvPicPr>
        <p:blipFill>
          <a:blip r:embed="rId2"/>
          <a:stretch/>
        </p:blipFill>
        <p:spPr>
          <a:xfrm>
            <a:off x="2809800" y="214200"/>
            <a:ext cx="8358120" cy="61437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8"/>
          <p:cNvSpPr/>
          <p:nvPr/>
        </p:nvSpPr>
        <p:spPr>
          <a:xfrm>
            <a:off x="7167600" y="714240"/>
            <a:ext cx="47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Мир ребенка хрупок и нестабилен и от непонимания он рассыпает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0" descr="Зеленый лес - PowerPoint бесплатные Шабл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Аудиокниги, аудиоспектакли Записи в рубрике Аудиокниги, аудиоспектакли Дневник galochkamp : LiveInternet - Российский Сервис Онл"/>
          <p:cNvPicPr/>
          <p:nvPr/>
        </p:nvPicPr>
        <p:blipFill>
          <a:blip r:embed="rId2"/>
          <a:stretch/>
        </p:blipFill>
        <p:spPr>
          <a:xfrm>
            <a:off x="2523960" y="798480"/>
            <a:ext cx="7429680" cy="570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5-03-19T06:33:43Z</dcterms:modified>
  <cp:revision>132</cp:revision>
  <dc:subject/>
  <dc:title>Социально-образовательный проект  «МЫ ВМЕСТЕ!»</dc:title>
</cp:coreProperties>
</file>