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233A-A6B4-495C-BE2E-03D13ECD8E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8079-9410-4D81-BC61-F7C2AEFD30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76E-3A23-4DBB-9664-82A3576E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4DE-760C-4CA8-A0A7-DC5AA9F0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C64-3947-4EF7-BA0F-79BDC42F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5D4-FB8C-4E5F-BC97-E94F0EDD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B77-C3CA-468E-B2D9-66056A02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7F6-DB5F-4399-B29D-5A76A639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724-F7A6-4CFA-96D9-6878EFD6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9A7-2825-4840-B1A6-BACCD308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22A-DEB7-4E36-B573-A89DCE22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B15A-961A-488E-A8AE-D088CADF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07D-AB8A-4C5C-804E-0117292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DFE-E546-4368-B586-7306873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FC5C-3317-43F6-9DC3-091568BCF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7"/>
          <p:cNvSpPr txBox="1"/>
          <p:nvPr/>
        </p:nvSpPr>
        <p:spPr>
          <a:xfrm>
            <a:off x="1908000" y="836640"/>
            <a:ext cx="6812280" cy="16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НИАЛЬНОСТЬ НА КОНЧИКАХ ПАЛЬЦЕВ</a:t>
            </a:r>
            <a:endParaRPr b="1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214720" y="2286000"/>
            <a:ext cx="6643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ТЕР –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6b9b8"/>
                </a:solidFill>
                <a:latin typeface="Times New Roman"/>
                <a:ea typeface="Times New Roman"/>
              </a:rPr>
              <a:t>воспитатель </a:t>
            </a:r>
            <a:r>
              <a:rPr b="1" i="1" lang="en-US" sz="2800" spc="-1" strike="noStrike">
                <a:solidFill>
                  <a:srgbClr val="e6b9b8"/>
                </a:solidFill>
                <a:latin typeface="Times New Roman"/>
                <a:ea typeface="Times New Roman"/>
              </a:rPr>
              <a:t>I</a:t>
            </a:r>
            <a:r>
              <a:rPr b="1" i="1" lang="ru-RU" sz="2800" spc="-1" strike="noStrike">
                <a:solidFill>
                  <a:srgbClr val="e6b9b8"/>
                </a:solidFill>
                <a:latin typeface="Times New Roman"/>
                <a:ea typeface="Times New Roman"/>
              </a:rPr>
              <a:t>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6b9b8"/>
                </a:solidFill>
                <a:latin typeface="Times New Roman"/>
                <a:ea typeface="Times New Roman"/>
              </a:rPr>
              <a:t>ПАВ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6b9b8"/>
                </a:solidFill>
                <a:latin typeface="Times New Roman"/>
                <a:ea typeface="Times New Roman"/>
              </a:rPr>
              <a:t>ОЛЬГА ВЕНИАМИ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6b9b8"/>
                </a:solidFill>
                <a:latin typeface="Times New Roman"/>
                <a:ea typeface="Times New Roman"/>
              </a:rPr>
              <a:t>МБДОУ Панаевский детский сад общеразвивающего вида «Красная шапочка</a:t>
            </a:r>
            <a:r>
              <a:rPr b="1" i="1" lang="ru-RU" sz="2400" spc="-1" strike="noStrike">
                <a:solidFill>
                  <a:srgbClr val="fcfad2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395280" y="126828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286000" y="276372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7170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лекс "Пальчиковые игры 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475920"/>
            <a:ext cx="89679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buClr>
                <a:srgbClr val="b7de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"/>
          <p:cNvPicPr/>
          <p:nvPr/>
        </p:nvPicPr>
        <p:blipFill>
          <a:blip r:embed="rId2"/>
          <a:srcRect l="36614" t="5906" r="0" b="27951"/>
          <a:stretch/>
        </p:blipFill>
        <p:spPr>
          <a:xfrm>
            <a:off x="5435640" y="3429000"/>
            <a:ext cx="3125880" cy="244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55" name="Рисунок 8" descr=""/>
          <p:cNvPicPr/>
          <p:nvPr/>
        </p:nvPicPr>
        <p:blipFill>
          <a:blip r:embed="rId3"/>
          <a:srcRect l="21651" t="15349" r="28741" b="25853"/>
          <a:stretch/>
        </p:blipFill>
        <p:spPr>
          <a:xfrm>
            <a:off x="1692360" y="1434960"/>
            <a:ext cx="2894040" cy="25704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395280" y="126828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2286000" y="276372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1920" y="3573000"/>
            <a:ext cx="6840720" cy="31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лекс " Использование элементов изодеятельности, конструирования в развитии мелкой моторики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1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139920" cy="2355840"/>
          </a:xfrm>
          <a:prstGeom prst="rect">
            <a:avLst/>
          </a:prstGeom>
          <a:ln w="38160">
            <a:solidFill>
              <a:srgbClr val="93cddd"/>
            </a:solidFill>
            <a:miter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tretch/>
        </p:blipFill>
        <p:spPr>
          <a:xfrm>
            <a:off x="1258920" y="833400"/>
            <a:ext cx="3075120" cy="2305080"/>
          </a:xfrm>
          <a:prstGeom prst="rect">
            <a:avLst/>
          </a:prstGeom>
          <a:ln w="38160">
            <a:solidFill>
              <a:srgbClr val="93c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395280" y="126828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2286000" y="276372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170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лекс "Развитие графической моторики»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1" descr=""/>
          <p:cNvPicPr/>
          <p:nvPr/>
        </p:nvPicPr>
        <p:blipFill>
          <a:blip r:embed="rId2"/>
          <a:stretch/>
        </p:blipFill>
        <p:spPr>
          <a:xfrm>
            <a:off x="4998960" y="1736640"/>
            <a:ext cx="3175200" cy="2475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"/>
          <p:cNvPicPr/>
          <p:nvPr/>
        </p:nvPicPr>
        <p:blipFill>
          <a:blip r:embed="rId3"/>
          <a:stretch/>
        </p:blipFill>
        <p:spPr>
          <a:xfrm>
            <a:off x="3054240" y="4145040"/>
            <a:ext cx="32544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5-03-19T17:58:53Z</dcterms:modified>
  <cp:revision>50</cp:revision>
  <dc:subject/>
  <dc:title>Слайд 1</dc:title>
</cp:coreProperties>
</file>