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25F-995E-43CE-A997-FC3C10DC4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4//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18F-33B9-4EA4-BCF8-E46F0A3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80E-68E0-4629-A2E6-5F820EF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F7545-2C7C-4C7C-B7EB-3D5143E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D8FB7-F836-4B9C-AE93-29FFB1A7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7B6ED-2EB4-44EF-B2BE-9663763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9225C-A568-4148-B45F-5A535A2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0E229-8471-4014-B5EE-5C8F697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126AB-78C7-460C-91FA-F4F1D10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4DF7-5E47-4AB5-A1C6-95CD8274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29AF0-A1FA-4415-A017-ADB172A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B5D50-4107-4C38-BBBC-BD71D74B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87C39-B19D-46ED-B454-92FE7A4D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189-8C86-4779-ADAB-97CE270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6A80-B456-432E-B77D-7471B06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D8C24-17EB-41BA-B1B2-F9BCA15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DA088-5606-4A61-8679-C37E709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30955-2A8D-4304-8861-38D01C11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48B8-A289-4752-8142-F406B9E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2D08B-98C2-4215-9710-13398B4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7081C-AEF6-4589-8279-50ADC2C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F783-DA23-4B38-A45C-95C234B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870F8-A166-4284-8CF3-2DC686B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CCCD-A6CA-47CD-B22D-2F1B1F62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EDC-CEA3-4E93-97A3-FC9DC744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258F3-4525-4C27-9C6E-8013ECC2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19FDF-AF32-42A5-8943-7DE28BC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659BA-17C8-4AB3-AE3D-B58F75F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7544-F3CC-4399-A86C-F5514FB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66AE-DC98-4404-9107-0BD24F4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320D6-4BB6-457F-9434-B6DDC39E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ED94-38D9-402D-8612-F3A482D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0BAD7-A1E3-4251-B5CB-F7C9630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CAA47-2A4A-427E-A086-0785E2E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C8E9-27C2-44FA-8AD4-E6CF34D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3D3-2751-4EF6-A0B6-08AB3594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F29D7-9BA6-4C90-A760-4E00132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74F47-B4C7-48AC-AFF6-C9627D5B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0FAA0-E978-4240-9D54-7DA1917C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41202-1C0E-4A5A-967F-0D2EB5F0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355B4-0F7D-4BE9-B413-9DBBE35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DA8F3-46B0-4453-843A-BA9213F8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18FA9-782B-446E-A678-E5BAC44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72D77-BFDE-4F01-8ADB-2C63C46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2A06-0F90-4EDC-8039-FD14A840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61381-EA70-4A5A-99BB-30E4724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E8F-D5F2-452F-AFE7-17A36CF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408E1-3624-46AE-8065-796034B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2856B-A20A-41B6-B41B-B2F7BE0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97D37-1DBE-45B3-901C-987BF05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A41B7-D178-4ECC-BFCB-8430C16F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3850C-9943-4A47-AF19-E4F0A2BE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30178-F8E3-4876-9A75-57990C05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1A41F-B4E8-4D44-BE8B-F545FEC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9ECB2-3BDD-435C-8993-0E2347A5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2898A-EE05-4E6E-BD99-6EE6A0C5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18967-D05C-4BF3-8E70-F9E0D23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512-E8F1-4EF5-9E78-1B85CDA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91DC9-5852-4678-97B6-FCF6E4A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52C12-8A8F-4CDE-AA88-E0C6621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4BF11-DC79-4FD9-8818-E77B0D5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185BD-D774-4540-AEDA-C9AA6FE7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47780-C52D-4F91-BD5A-897199F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1160B-1C12-4581-B32E-9C99DC89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6D190-7575-4EC2-817F-5FAD5F0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CBA3-3632-4875-9A83-021AC13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CD3-31EB-495A-89AE-5F9E34C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2D6-D72A-4535-B876-FE83277F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DBC-D9E7-4083-9BB9-5331D07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D82-9DDD-4F33-913A-5DA06B3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8B9E-B61C-4E18-871E-7BDF9C3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0F4-52E8-404A-A037-14BB11B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F31D-5B93-4FFD-AC69-B1634E45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AFDF-0356-4831-A5CF-9C5B0B0F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4AB5-15BB-4397-814B-15AE04AE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5AEE-9165-488B-AE01-E8C5F17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4C6C-4446-43D4-91F3-268B135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F179-889C-4A16-ACE7-8A18713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F719-AB70-4236-AF2E-36DB6EF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5217-D0F9-4D44-9BE3-D3185EF5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85A-7840-4377-9884-0D60760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FC6C-BF19-4882-A93B-8CFB095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8518-A781-4C28-B97A-C25A8F77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CE68-8FD6-4621-B158-D76D22C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5148-5B27-4E71-8598-F9B9992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4589-FB15-46EC-A50B-F2FDBA84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8486-C8E0-4A6F-83AA-36FD0F17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36AD-2B93-4AB2-B584-14685366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C98C-A3A7-4ACE-AF19-6E66D1F5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5424-D7D6-43E7-95B2-722F99E8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5D55-9F94-43D4-95E3-A6D0A052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83E-B485-4EDB-8088-8981F3F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DB31-B5B0-47C3-B2B6-F26AAB51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AF2AB-6A90-46BB-AE00-A900AC5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7C22-6FA9-447E-B0E7-9581780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729A-662E-4AB1-8C3F-C40F724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E0D2-EB29-4509-BFD7-BFCF69D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5C2D-DBC9-4F39-9B32-DA94F9C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6147-45EF-4026-9471-BF48253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3E05-E9A6-4C66-97ED-2E2E6ED8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24A6-2A1C-4B37-BF18-D09523AF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6686-13A6-4D17-A105-5185253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386-4E5A-48F7-B7C9-80CE731C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7256-857B-4D7A-824B-EDF50A0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65A6-C0E7-4070-90E4-7C2F484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2A8E-3B16-422B-89FD-3340E96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84316-8A6E-4FAC-A31B-AD23C2EE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811A-8B01-4497-996F-D0785D00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2C7E5-092C-432E-A41E-AC740EA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F137-66AC-4303-8AB2-CE66E6C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F201-66F5-4981-BA3B-AF36B8E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B035-3DEB-40EB-AF89-8276E1A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64FE-3F64-49B6-A5C5-7C9AE889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11E-C557-465C-B52C-2289795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5D26F-0DF7-47F9-A888-52B69A36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CA5E-08CB-48B8-81E4-FBA1229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2212C-4160-44AC-A066-765C531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74927-A96C-46B9-BBB7-FC4D3CA6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1D2D2-2681-4C34-BC99-6B129DD3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42D22-C0C9-4E9D-979A-2FE2C90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8EEC-BAD8-4EB0-9961-91746FE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B1E3-16BE-48DC-8376-962CE63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6822-BFE5-4BDD-A1D9-86F3443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93BA-E86D-4876-9C55-EAF9DAA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2C4-271C-403C-8E2F-813ED84E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E9A0-EDF1-4BED-9814-6F0F4F3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AA64-8B1F-496D-BC09-6F221CD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00A6-14B5-4C5C-8FF4-A0F910DC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008E-6474-4A2A-B4D8-77F5A659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048E-66CE-4C7E-ABD0-0DBC1DF0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1DB4-92B1-43C2-9AD3-280DE51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0315-D629-4DDC-A00C-9E60F5B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BFB1-28CE-4BEA-B9A9-58D0ED8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5B475-9402-4F2B-9F65-5633030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F0FD-95CE-4662-A6DC-451CDCC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438-31E4-4ADB-BBD7-866D435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9F2A-8EA6-463D-B000-EF1E0E7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5A14-5A8B-43A2-921B-9AFF2C1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77F9-8172-4DEC-A41F-CC8C2B9D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E87D-8BFC-435A-9BB9-F4DB8FA9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6C519-DBE2-488A-B1A7-0AB4A9E3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CB9F2-3F96-41A4-8E7E-807AA1A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50CB5-EA72-41BE-BDE8-8B4AFE6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1E339-8372-4F63-A563-5DB142C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8039B-7B77-4BAB-B92C-C447277F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4DEC0-5048-4593-9A99-FD8E3B00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182-EA9F-444E-AAC3-5B3D9AE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835B-1951-4ADF-81D2-AB893D7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0060F-1086-49ED-8363-34F3112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889B-CE4D-4D84-B0D1-DCD28FB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ECC24-E440-4BA0-8C29-FC88CEF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D94F-CE51-43CC-916C-C6264EBA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2D67-E40C-4FEA-9699-D0C5939F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F630-202A-44B8-9F38-668E5BF5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5F3C8-BA15-44E9-854D-F7C571CC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8E422-ED05-456C-AE97-BB2B89B2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DFB8E-3D33-4D0D-9992-A9FC1A9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A94-729D-466F-AB6C-A5691FC93D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6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D45-AACA-44CB-9E9A-C8DBF9414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3443-DB02-411F-ABEB-4E6E826951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2962-0FFC-45B4-9D66-82DF1E6235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10A1-308E-4D09-AA90-A93A355486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5EC-9823-40C8-9298-B380F24B9C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4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F61F-1CF8-4406-AF9D-6B031A7F1A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9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770C-C65D-4B25-9D8A-33444F270A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BEB-AD7F-4E05-93EF-ED2037D6E0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B99-03FB-4DA9-8786-6DD2B07496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4A3-E173-4FCE-8AE4-FA5BFFE960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7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8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9311-360B-44D1-AE6B-96CA2CD4BF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0ED0-567B-4C6C-8DEE-DFD787CC5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Arial Black"/>
              </a:rPr>
              <a:t>МОУ «Гимназия №29»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 </a:t>
            </a: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2f1311"/>
                </a:solidFill>
                <a:latin typeface="Georgia"/>
              </a:rPr>
              <a:t>учитель</a:t>
            </a: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Georgia"/>
              </a:rPr>
              <a:t>                  музы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419280" y="3428640"/>
            <a:ext cx="41050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 Black"/>
              </a:rPr>
              <a:t>Чарина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 Black"/>
              </a:rPr>
              <a:t>Ольга    Владимировн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3433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Этапы творческ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451240" y="2371680"/>
            <a:ext cx="4240080" cy="3672000"/>
            <a:chOff x="2451240" y="2371680"/>
            <a:chExt cx="4240080" cy="3672000"/>
          </a:xfrm>
        </p:grpSpPr>
        <p:sp>
          <p:nvSpPr>
            <p:cNvPr id="811" name="_s86033"/>
            <p:cNvSpPr/>
            <p:nvPr/>
          </p:nvSpPr>
          <p:spPr>
            <a:xfrm flipV="1">
              <a:off x="3863880" y="23716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ff3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познани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_s86034"/>
            <p:cNvSpPr/>
            <p:nvPr/>
          </p:nvSpPr>
          <p:spPr>
            <a:xfrm flipV="1">
              <a:off x="3157560" y="35956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сотворчеств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_s86035"/>
            <p:cNvSpPr/>
            <p:nvPr/>
          </p:nvSpPr>
          <p:spPr>
            <a:xfrm flipV="1">
              <a:off x="2451240" y="4819680"/>
              <a:ext cx="4240080" cy="1224000"/>
            </a:xfrm>
            <a:custGeom>
              <a:avLst/>
              <a:gdLst>
                <a:gd name="textAreaLeft" fmla="*/ 735840 w 4240080"/>
                <a:gd name="textAreaRight" fmla="*/ 3504240 w 4240080"/>
                <a:gd name="textAreaTop" fmla="*/ 212400 h 1224000"/>
                <a:gd name="textAreaBottom" fmla="*/ 1011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творчеств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812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eorgia"/>
              </a:rPr>
              <a:t>Художественно – творческое  по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826920" y="2396880"/>
            <a:ext cx="6496200" cy="2829240"/>
            <a:chOff x="826920" y="2396880"/>
            <a:chExt cx="6496200" cy="2829240"/>
          </a:xfrm>
        </p:grpSpPr>
        <p:sp>
          <p:nvSpPr>
            <p:cNvPr id="816" name="_s45078"/>
            <p:cNvSpPr/>
            <p:nvPr/>
          </p:nvSpPr>
          <p:spPr>
            <a:xfrm>
              <a:off x="826920" y="2396880"/>
              <a:ext cx="3024360" cy="2829240"/>
            </a:xfrm>
            <a:prstGeom prst="donut">
              <a:avLst>
                <a:gd name="adj" fmla="val 16666"/>
              </a:avLst>
            </a:prstGeom>
            <a:solidFill>
              <a:srgbClr val="360fc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_s45079"/>
            <p:cNvSpPr/>
            <p:nvPr/>
          </p:nvSpPr>
          <p:spPr>
            <a:xfrm>
              <a:off x="5352840" y="4291920"/>
              <a:ext cx="636840" cy="5083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66"/>
                  </a:solidFill>
                  <a:latin typeface="Arial"/>
                </a:rPr>
                <a:t>развит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_s45076"/>
            <p:cNvSpPr/>
            <p:nvPr/>
          </p:nvSpPr>
          <p:spPr>
            <a:xfrm>
              <a:off x="1258920" y="2810880"/>
              <a:ext cx="2160360" cy="2001240"/>
            </a:xfrm>
            <a:prstGeom prst="donut">
              <a:avLst>
                <a:gd name="adj" fmla="val 25000"/>
              </a:avLst>
            </a:prstGeom>
            <a:solidFill>
              <a:srgbClr val="f2f80a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_s45077"/>
            <p:cNvSpPr/>
            <p:nvPr/>
          </p:nvSpPr>
          <p:spPr>
            <a:xfrm>
              <a:off x="5379840" y="3423960"/>
              <a:ext cx="636840" cy="5083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66"/>
                  </a:solidFill>
                  <a:latin typeface="Arial"/>
                </a:rPr>
                <a:t>творчеств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_s45074"/>
            <p:cNvSpPr/>
            <p:nvPr/>
          </p:nvSpPr>
          <p:spPr>
            <a:xfrm>
              <a:off x="1763640" y="3293280"/>
              <a:ext cx="1152360" cy="1036080"/>
            </a:xfrm>
            <a:prstGeom prst="ellipse">
              <a:avLst/>
            </a:prstGeom>
            <a:solidFill>
              <a:srgbClr val="fb3b1b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_s45075"/>
            <p:cNvSpPr/>
            <p:nvPr/>
          </p:nvSpPr>
          <p:spPr>
            <a:xfrm>
              <a:off x="5306760" y="2537280"/>
              <a:ext cx="2016360" cy="5518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66"/>
                  </a:solidFill>
                  <a:latin typeface="Arial"/>
                </a:rPr>
                <a:t>искусств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твор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50920" y="1268280"/>
            <a:ext cx="8602560" cy="5373360"/>
            <a:chOff x="250920" y="1268280"/>
            <a:chExt cx="8602560" cy="5373360"/>
          </a:xfrm>
        </p:grpSpPr>
        <p:cxnSp>
          <p:nvCxnSpPr>
            <p:cNvPr id="824" name="_s94233"/>
            <p:cNvCxnSpPr>
              <a:endCxn id="825" idx="3"/>
            </p:cNvCxnSpPr>
            <p:nvPr/>
          </p:nvCxnSpPr>
          <p:spPr>
            <a:xfrm flipV="1" rot="16200000">
              <a:off x="6485760" y="3026160"/>
              <a:ext cx="3172320" cy="37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6" name="_s94232"/>
            <p:cNvCxnSpPr/>
            <p:nvPr/>
          </p:nvCxnSpPr>
          <p:spPr>
            <a:xfrm flipH="1" flipV="1" rot="5400000">
              <a:off x="2775600" y="1261080"/>
              <a:ext cx="1082160" cy="2536200"/>
            </a:xfrm>
            <a:prstGeom prst="bentConnector3">
              <a:avLst>
                <a:gd name="adj1" fmla="val 372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5" name="_s94227"/>
            <p:cNvSpPr/>
            <p:nvPr/>
          </p:nvSpPr>
          <p:spPr>
            <a:xfrm>
              <a:off x="1618560" y="1268280"/>
              <a:ext cx="6265440" cy="7192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творческие установ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_s94229"/>
            <p:cNvSpPr/>
            <p:nvPr/>
          </p:nvSpPr>
          <p:spPr>
            <a:xfrm>
              <a:off x="250920" y="2276640"/>
              <a:ext cx="5943960" cy="201528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ознание целостност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емы в многообраз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е художественны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ешени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_s94230"/>
            <p:cNvSpPr/>
            <p:nvPr/>
          </p:nvSpPr>
          <p:spPr>
            <a:xfrm>
              <a:off x="3203280" y="4581000"/>
              <a:ext cx="5650200" cy="20606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заимосвязь межд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художественным образ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 средствами е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оплощ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4572000" y="83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Качество знан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1413000"/>
          <a:ext cx="8675640" cy="49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86756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"/>
          <p:cNvSpPr/>
          <p:nvPr/>
        </p:nvSpPr>
        <p:spPr>
          <a:xfrm>
            <a:off x="900000" y="4797360"/>
            <a:ext cx="172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5кл          6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2007 -   2008 2008 - 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564000" y="4797360"/>
            <a:ext cx="172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6кл       7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2007 – 2008 2008 -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84720" y="479736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7кл      8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2007 – 2008 2008 -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узыка. Музыкально-эстетическое воспитание. Программы обще-    образовательных учреждений.МОРФ,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2.    Бартин А. «Воспитание в утробе матери, или рассказ об упущенных возможностях».СПб, МНПО «Жизнь»,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3.   Кряшева Н.Л. «Развитие эмоционального мира детей». Ярославль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4.    Фриман Дж. «Как развить талант ребенка от рождения». М.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5.    Шумакова Н.Е. «Возраст вопросов». М.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6.    Лук А.Н. «Учить мыслить творчески». М.,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7.       Заика Е.В. «Комплекс игр для развития воображения». //Вопросы психологии, 1992, №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8.    Спутник учителя музыки. М., «Просвещение»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9.    Лук А.Н. Психология творчества. – М.: Просвещение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Якобсон П.М. Психология художественного творчества. – М.:          Знание, 197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11.  Мелик-Пашаев А.А. Педагогика искусства и творческие          способности. – М.: Знание, 1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12.  Левин В.А. Воспитание творчества. – Томск: Пеленг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качество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- 2008           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класс           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258920" y="155736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258920" y="5229360"/>
            <a:ext cx="583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68360" y="5229360"/>
            <a:ext cx="79056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763640" y="2060640"/>
            <a:ext cx="2232000" cy="31464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99640" y="357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899640" y="1844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95640" y="1916280"/>
            <a:ext cx="2305080" cy="32907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каче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539640" y="5013360"/>
            <a:ext cx="71928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042920" y="3500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971640" y="1916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1258920" y="141264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258920" y="50133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- 2008            2008-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класс                 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35280" y="2637000"/>
            <a:ext cx="2303280" cy="23763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140360" y="2565360"/>
            <a:ext cx="2303280" cy="24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   год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– 2008         2008 – 2009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класс                 8 кла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каче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39640" y="5013360"/>
            <a:ext cx="71928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971640" y="3284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971640" y="1916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258920" y="141264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258920" y="50133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835280" y="2349360"/>
            <a:ext cx="2303280" cy="2664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140360" y="2421000"/>
            <a:ext cx="2303280" cy="25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Цель работы учителя музыки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4358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Формирование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художественной культуры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школьников  в различных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видах творческого познания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действительности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 Законы Вселенной –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              законы музыки»</a:t>
            </a:r>
            <a:br>
              <a:rPr sz="48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аркетто Падуански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3516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«Без музы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и одно уче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может считаться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вершенны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. Кода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Синтез искусств на уроках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ъект изучени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ебно – воспитательный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мет изучени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лияние эстетического воспитания на формировани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ипотеза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иды искусства влияют на всестороннее, эстет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дагогическая проблема</a:t>
            </a: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Синтез искусст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511280" y="2530440"/>
            <a:ext cx="6118200" cy="3258720"/>
            <a:chOff x="1511280" y="2530440"/>
            <a:chExt cx="6118200" cy="3258720"/>
          </a:xfrm>
        </p:grpSpPr>
        <p:sp>
          <p:nvSpPr>
            <p:cNvPr id="762" name="_s7174"/>
            <p:cNvSpPr/>
            <p:nvPr/>
          </p:nvSpPr>
          <p:spPr>
            <a:xfrm>
              <a:off x="3743280" y="3108240"/>
              <a:ext cx="1654200" cy="1653840"/>
            </a:xfrm>
            <a:prstGeom prst="ellipse">
              <a:avLst/>
            </a:prstGeom>
            <a:solidFill>
              <a:srgbClr val="cc0066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_s7175"/>
            <p:cNvSpPr/>
            <p:nvPr/>
          </p:nvSpPr>
          <p:spPr>
            <a:xfrm>
              <a:off x="3743280" y="2530440"/>
              <a:ext cx="16542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_s7176"/>
            <p:cNvSpPr/>
            <p:nvPr/>
          </p:nvSpPr>
          <p:spPr>
            <a:xfrm>
              <a:off x="4287600" y="4052880"/>
              <a:ext cx="1654200" cy="165384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468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_s7177"/>
            <p:cNvSpPr/>
            <p:nvPr/>
          </p:nvSpPr>
          <p:spPr>
            <a:xfrm>
              <a:off x="5975280" y="5375160"/>
              <a:ext cx="16542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ЗОБРАЗИТЕЛЬНОЕ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ИСКУС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_s7178"/>
            <p:cNvSpPr/>
            <p:nvPr/>
          </p:nvSpPr>
          <p:spPr>
            <a:xfrm>
              <a:off x="3198600" y="4052880"/>
              <a:ext cx="1654200" cy="1653840"/>
            </a:xfrm>
            <a:prstGeom prst="ellipse">
              <a:avLst/>
            </a:prstGeom>
            <a:solidFill>
              <a:srgbClr val="003300">
                <a:alpha val="50000"/>
              </a:srgbClr>
            </a:solidFill>
            <a:ln w="46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_s7179"/>
            <p:cNvSpPr/>
            <p:nvPr/>
          </p:nvSpPr>
          <p:spPr>
            <a:xfrm>
              <a:off x="1511280" y="5376600"/>
              <a:ext cx="1654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ucida Console"/>
              </a:rPr>
              <a:t>Урок музы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-4680" y="1557360"/>
            <a:ext cx="9148320" cy="5111640"/>
            <a:chOff x="-4680" y="1557360"/>
            <a:chExt cx="9148320" cy="5111640"/>
          </a:xfrm>
        </p:grpSpPr>
        <p:cxnSp>
          <p:nvCxnSpPr>
            <p:cNvPr id="770" name="_s60428"/>
            <p:cNvCxnSpPr>
              <a:stCxn id="771" idx="0"/>
              <a:endCxn id="772" idx="2"/>
            </p:cNvCxnSpPr>
            <p:nvPr/>
          </p:nvCxnSpPr>
          <p:spPr>
            <a:xfrm flipV="1" rot="16200000">
              <a:off x="5947200" y="1332000"/>
              <a:ext cx="361080" cy="311184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3" name="_s60427"/>
            <p:cNvCxnSpPr>
              <a:stCxn id="774" idx="0"/>
              <a:endCxn id="772" idx="2"/>
            </p:cNvCxnSpPr>
            <p:nvPr/>
          </p:nvCxnSpPr>
          <p:spPr>
            <a:xfrm flipV="1">
              <a:off x="4572000" y="2707560"/>
              <a:ext cx="1800" cy="187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5" name="_s60426"/>
            <p:cNvCxnSpPr>
              <a:stCxn id="776" idx="0"/>
              <a:endCxn id="772" idx="2"/>
            </p:cNvCxnSpPr>
            <p:nvPr/>
          </p:nvCxnSpPr>
          <p:spPr>
            <a:xfrm flipH="1" flipV="1" rot="5400000">
              <a:off x="2833200" y="1329480"/>
              <a:ext cx="361080" cy="31176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2" name="_s60422"/>
            <p:cNvSpPr/>
            <p:nvPr/>
          </p:nvSpPr>
          <p:spPr>
            <a:xfrm>
              <a:off x="3924000" y="1557360"/>
              <a:ext cx="1295280" cy="11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Medium"/>
                </a:rPr>
                <a:t>ЦЕЛ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_s60423"/>
            <p:cNvSpPr/>
            <p:nvPr/>
          </p:nvSpPr>
          <p:spPr>
            <a:xfrm>
              <a:off x="-4680" y="3069000"/>
              <a:ext cx="2918880" cy="2160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творческ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тенциал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_s60424"/>
            <p:cNvSpPr/>
            <p:nvPr/>
          </p:nvSpPr>
          <p:spPr>
            <a:xfrm>
              <a:off x="2915640" y="4581000"/>
              <a:ext cx="3312000" cy="208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реобразующ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и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музы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_s60425"/>
            <p:cNvSpPr/>
            <p:nvPr/>
          </p:nvSpPr>
          <p:spPr>
            <a:xfrm>
              <a:off x="6223320" y="3069000"/>
              <a:ext cx="2920320" cy="20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инте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51640" y="261000"/>
            <a:ext cx="8561880" cy="5970960"/>
            <a:chOff x="251640" y="261000"/>
            <a:chExt cx="8561880" cy="5970960"/>
          </a:xfrm>
        </p:grpSpPr>
        <p:sp>
          <p:nvSpPr>
            <p:cNvPr id="779" name="_s65554"/>
            <p:cNvSpPr/>
            <p:nvPr/>
          </p:nvSpPr>
          <p:spPr>
            <a:xfrm flipH="1" flipV="1">
              <a:off x="2392920" y="2882880"/>
              <a:ext cx="1094040" cy="25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_s65553"/>
            <p:cNvSpPr/>
            <p:nvPr/>
          </p:nvSpPr>
          <p:spPr>
            <a:xfrm>
              <a:off x="251640" y="1773720"/>
              <a:ext cx="2733840" cy="16462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зидательна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_s65552"/>
            <p:cNvSpPr/>
            <p:nvPr/>
          </p:nvSpPr>
          <p:spPr>
            <a:xfrm flipH="1">
              <a:off x="3228480" y="4057920"/>
              <a:ext cx="67248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_s65551"/>
            <p:cNvSpPr/>
            <p:nvPr/>
          </p:nvSpPr>
          <p:spPr>
            <a:xfrm>
              <a:off x="1113840" y="4580640"/>
              <a:ext cx="2575800" cy="165132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пособ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общ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_s65548"/>
            <p:cNvSpPr/>
            <p:nvPr/>
          </p:nvSpPr>
          <p:spPr>
            <a:xfrm>
              <a:off x="5241960" y="4057920"/>
              <a:ext cx="676440" cy="67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_s65547"/>
            <p:cNvSpPr/>
            <p:nvPr/>
          </p:nvSpPr>
          <p:spPr>
            <a:xfrm>
              <a:off x="5447520" y="4573440"/>
              <a:ext cx="2652120" cy="165132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сприят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_s65546"/>
            <p:cNvSpPr/>
            <p:nvPr/>
          </p:nvSpPr>
          <p:spPr>
            <a:xfrm flipV="1">
              <a:off x="5655600" y="2880000"/>
              <a:ext cx="1090800" cy="25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_s65545"/>
            <p:cNvSpPr/>
            <p:nvPr/>
          </p:nvSpPr>
          <p:spPr>
            <a:xfrm>
              <a:off x="6157440" y="1773720"/>
              <a:ext cx="2656080" cy="164412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разног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ышл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_s65544"/>
            <p:cNvSpPr/>
            <p:nvPr/>
          </p:nvSpPr>
          <p:spPr>
            <a:xfrm flipV="1">
              <a:off x="4571640" y="1739520"/>
              <a:ext cx="0" cy="82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_s65543"/>
            <p:cNvSpPr/>
            <p:nvPr/>
          </p:nvSpPr>
          <p:spPr>
            <a:xfrm>
              <a:off x="3060000" y="261000"/>
              <a:ext cx="2952360" cy="16588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Эстетическо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пережив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_s65542"/>
            <p:cNvSpPr/>
            <p:nvPr/>
          </p:nvSpPr>
          <p:spPr>
            <a:xfrm>
              <a:off x="3275280" y="2564280"/>
              <a:ext cx="2643120" cy="1658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Console"/>
              </a:rPr>
              <a:t>синтез искус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50920" y="981000"/>
            <a:ext cx="8569440" cy="5616720"/>
            <a:chOff x="250920" y="981000"/>
            <a:chExt cx="8569440" cy="5616720"/>
          </a:xfrm>
        </p:grpSpPr>
        <p:sp>
          <p:nvSpPr>
            <p:cNvPr id="792" name="_s111649"/>
            <p:cNvSpPr/>
            <p:nvPr/>
          </p:nvSpPr>
          <p:spPr>
            <a:xfrm flipH="1" flipV="1">
              <a:off x="1835280" y="2636640"/>
              <a:ext cx="209376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_s111648"/>
            <p:cNvSpPr/>
            <p:nvPr/>
          </p:nvSpPr>
          <p:spPr>
            <a:xfrm>
              <a:off x="6732720" y="5013360"/>
              <a:ext cx="2087640" cy="1009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раз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_s111647"/>
            <p:cNvSpPr/>
            <p:nvPr/>
          </p:nvSpPr>
          <p:spPr>
            <a:xfrm flipH="1">
              <a:off x="1763640" y="4156200"/>
              <a:ext cx="2130120" cy="85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_s111646"/>
            <p:cNvSpPr/>
            <p:nvPr/>
          </p:nvSpPr>
          <p:spPr>
            <a:xfrm>
              <a:off x="3132360" y="5373720"/>
              <a:ext cx="2700360" cy="1224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извед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_s111645"/>
            <p:cNvSpPr/>
            <p:nvPr/>
          </p:nvSpPr>
          <p:spPr>
            <a:xfrm>
              <a:off x="4356360" y="4221000"/>
              <a:ext cx="144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_s111644"/>
            <p:cNvSpPr/>
            <p:nvPr/>
          </p:nvSpPr>
          <p:spPr>
            <a:xfrm>
              <a:off x="250920" y="5013360"/>
              <a:ext cx="2303640" cy="1009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раматур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_s111640"/>
            <p:cNvSpPr/>
            <p:nvPr/>
          </p:nvSpPr>
          <p:spPr>
            <a:xfrm>
              <a:off x="4788000" y="4221000"/>
              <a:ext cx="237636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_s111639"/>
            <p:cNvSpPr/>
            <p:nvPr/>
          </p:nvSpPr>
          <p:spPr>
            <a:xfrm>
              <a:off x="468360" y="1844640"/>
              <a:ext cx="1511280" cy="1009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т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_s111638"/>
            <p:cNvSpPr/>
            <p:nvPr/>
          </p:nvSpPr>
          <p:spPr>
            <a:xfrm flipV="1">
              <a:off x="4788000" y="2491920"/>
              <a:ext cx="2232000" cy="11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_s111637"/>
            <p:cNvSpPr/>
            <p:nvPr/>
          </p:nvSpPr>
          <p:spPr>
            <a:xfrm>
              <a:off x="6804000" y="1773360"/>
              <a:ext cx="1584360" cy="1009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жан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_s111636"/>
            <p:cNvSpPr/>
            <p:nvPr/>
          </p:nvSpPr>
          <p:spPr>
            <a:xfrm flipV="1">
              <a:off x="4356360" y="2276280"/>
              <a:ext cx="144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_s111635"/>
            <p:cNvSpPr/>
            <p:nvPr/>
          </p:nvSpPr>
          <p:spPr>
            <a:xfrm>
              <a:off x="2556000" y="981000"/>
              <a:ext cx="3456000" cy="1295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рази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_s111634"/>
            <p:cNvSpPr/>
            <p:nvPr/>
          </p:nvSpPr>
          <p:spPr>
            <a:xfrm>
              <a:off x="2916360" y="3141720"/>
              <a:ext cx="2951280" cy="1181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живопи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тез искусств в Росси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ИИ экспериментальной эстетики «Прометей»(г.Каза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ат Галеев, Казань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Harmonia V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 стиле Сальвадора Дали)»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198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ат Галеев, Казан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«Лягушачья симфония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19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952720" cy="23619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3024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24:35Z</dcterms:created>
  <dc:creator>User</dc:creator>
  <dc:description/>
  <dc:language>en-US</dc:language>
  <cp:lastModifiedBy>саша</cp:lastModifiedBy>
  <dcterms:modified xsi:type="dcterms:W3CDTF">2009-04-05T12:01:35Z</dcterms:modified>
  <cp:revision>45</cp:revision>
  <dc:subject/>
  <dc:title>МОУ «Гимназия №29» учитель музыки</dc:title>
</cp:coreProperties>
</file>