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4FD-F1DE-4A59-8BC9-C392191A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FB2-AAE8-4525-A5E6-7476E3F6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E5E-87F3-4B0E-9900-68586900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8C8-2789-4B74-8E70-0DEB9085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F082-9B86-4271-9FAE-D0F5FB58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BA24-51A0-49E6-B4A3-EE8626F3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D000-2C31-49D7-835A-56B1BB6B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ACCF-C39E-4E59-83A0-835FE377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D515-0878-4EDE-A45E-48DE324D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D95C-76D4-47FE-BCC9-031A70BC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B600-F7A9-48F5-86C3-AF80D37E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B03-4A69-4654-9C8A-65655E6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2E6D-7781-4F4B-A9CB-0A52F90F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46AB-5F85-4B57-AF7B-1E5203DB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2795-EB15-47B9-AF06-805B37BC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BAC7-9E82-4D98-8161-CE5FC985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15AB-CE96-4598-8D7F-4C4106F7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66F-0F3F-409C-914C-8D79228B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EAF-8955-480F-80D4-D0369730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5DF-5FFE-41CE-939B-59E25611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F96-D36B-4481-BAED-50AC92E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5FD-1452-4F1E-BDCD-4840FF1E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C4E-4E88-4212-8862-290240D7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37B-E1F5-49BA-B2A2-681516B4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F09A-2BC3-4A49-A821-F89A889EF88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404B-4D42-4199-A23C-E60B9B52F846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3" descr="091351af80f2cbd5254237b67c110c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3" descr="091351af80f2cbd5254237b67c110c6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3"/>
          <p:cNvSpPr/>
          <p:nvPr/>
        </p:nvSpPr>
        <p:spPr>
          <a:xfrm>
            <a:off x="380880" y="457200"/>
            <a:ext cx="5334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Итог урока: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- Что нового узнали на уроке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- Что вам понравилось на уроке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-Как сражались русские солдаты, защищая Родину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4"/>
          <p:cNvSpPr/>
          <p:nvPr/>
        </p:nvSpPr>
        <p:spPr>
          <a:xfrm>
            <a:off x="694800" y="1219320"/>
            <a:ext cx="5216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ловарная работ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</a:t>
            </a:r>
            <a:r>
              <a:rPr b="0" lang="ru-RU" sz="4400" spc="-1" strike="noStrike">
                <a:solidFill>
                  <a:srgbClr val="66c046"/>
                </a:solidFill>
                <a:latin typeface="Arial Black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йна-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046"/>
                </a:solidFill>
                <a:latin typeface="Arial Black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г</a:t>
            </a:r>
            <a:r>
              <a:rPr b="0" lang="ru-RU" sz="4400" spc="-1" strike="noStrike">
                <a:solidFill>
                  <a:srgbClr val="66c046"/>
                </a:solidFill>
                <a:latin typeface="Arial Black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ь-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тр</a:t>
            </a:r>
            <a:r>
              <a:rPr b="0" lang="ru-RU" sz="4400" spc="-1" strike="noStrike">
                <a:solidFill>
                  <a:srgbClr val="66c046"/>
                </a:solidFill>
                <a:latin typeface="Arial Black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а-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К</a:t>
            </a:r>
            <a:r>
              <a:rPr b="0" lang="ru-RU" sz="4400" spc="-1" strike="noStrike">
                <a:solidFill>
                  <a:srgbClr val="66c046"/>
                </a:solidFill>
                <a:latin typeface="Arial Black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</a:t>
            </a:r>
            <a:r>
              <a:rPr b="0" lang="ru-RU" sz="4400" spc="-1" strike="noStrike">
                <a:solidFill>
                  <a:srgbClr val="66c046"/>
                </a:solidFill>
                <a:latin typeface="Arial Black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дир-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фр</a:t>
            </a:r>
            <a:r>
              <a:rPr b="0" lang="ru-RU" sz="4400" spc="-1" strike="noStrike">
                <a:solidFill>
                  <a:srgbClr val="66c046"/>
                </a:solidFill>
                <a:latin typeface="Arial Black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т</a:t>
            </a:r>
            <a:r>
              <a:rPr b="0" lang="ru-RU" sz="4400" spc="-1" strike="noStrike">
                <a:solidFill>
                  <a:srgbClr val="66c046"/>
                </a:solidFill>
                <a:latin typeface="Arial Black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ик-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2514600" y="1905120"/>
            <a:ext cx="4419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о</a:t>
            </a:r>
            <a:r>
              <a:rPr b="0" lang="ru-RU" sz="4400" spc="-1" strike="noStrike">
                <a:solidFill>
                  <a:srgbClr val="66c046"/>
                </a:solidFill>
                <a:latin typeface="Arial Black"/>
              </a:rPr>
              <a:t>и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ы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огн</a:t>
            </a:r>
            <a:r>
              <a:rPr b="0" lang="ru-RU" sz="4400" spc="-1" strike="noStrike">
                <a:solidFill>
                  <a:srgbClr val="66c046"/>
                </a:solidFill>
                <a:latin typeface="Arial Black"/>
              </a:rPr>
              <a:t>енн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ый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траны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</a:t>
            </a:r>
            <a:r>
              <a:rPr b="0" lang="ru-RU" sz="4400" spc="-1" strike="noStrike">
                <a:solidFill>
                  <a:srgbClr val="66c046"/>
                </a:solidFill>
                <a:latin typeface="Arial Black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анда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фронт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Picture 13" descr="091351af80f2cbd5254237b67c110c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228600" y="1600200"/>
          <a:ext cx="6477120" cy="4089240"/>
        </p:xfrm>
        <a:graphic>
          <a:graphicData uri="http://schemas.openxmlformats.org/drawingml/2006/table">
            <a:tbl>
              <a:tblPr/>
              <a:tblGrid>
                <a:gridCol w="3014640"/>
                <a:gridCol w="3462480"/>
              </a:tblGrid>
              <a:tr h="11084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Не силой борются, 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а товарища выручай.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91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Сам пропадай, 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там победа.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Где смелость,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но не сходи.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84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С родной земли-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умри,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а умением.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150840" y="1596960"/>
          <a:ext cx="5977080" cy="4257720"/>
        </p:xfrm>
        <a:graphic>
          <a:graphicData uri="http://schemas.openxmlformats.org/drawingml/2006/table">
            <a:tbl>
              <a:tblPr/>
              <a:tblGrid>
                <a:gridCol w="3049560"/>
                <a:gridCol w="292752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533520" y="1066680"/>
          <a:ext cx="5333760" cy="4923000"/>
        </p:xfrm>
        <a:graphic>
          <a:graphicData uri="http://schemas.openxmlformats.org/drawingml/2006/table">
            <a:tbl>
              <a:tblPr/>
              <a:tblGrid>
                <a:gridCol w="5333760"/>
              </a:tblGrid>
              <a:tr h="1230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. Не силой борются, а умением.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0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. Сам пропадай, а товарища выручай.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0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3. Где смелость, там победа.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0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4. С родной земли- умри, но не сходи.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Box 2"/>
          <p:cNvSpPr/>
          <p:nvPr/>
        </p:nvSpPr>
        <p:spPr>
          <a:xfrm>
            <a:off x="5486400" y="457200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Молодцы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5+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304920" y="228600"/>
            <a:ext cx="5790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а рассвете 22 июня 1941 года фашистская Германия вероломно напала на Советский Союз. Вражеская авиация нанесла массированные удары по аэродромам, железнодорожным узлам, военно-морским базам, воинским частям и многим городам нашей стран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3427560" y="2819520"/>
            <a:ext cx="5411520" cy="3657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29718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1"/>
          <p:cNvSpPr/>
          <p:nvPr/>
        </p:nvSpPr>
        <p:spPr>
          <a:xfrm>
            <a:off x="228600" y="228600"/>
            <a:ext cx="6019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Фашисты решили уничтожить наше государство, захватить земли и богатства СССР, истребить как можно больше советских людей, а выживших – обратить в рабов. Вступив на советскую землю, гитлеровцы совершали чудовищные зверства, проводили массовые расстрелы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Четыре долгих года шла война, которая закончилась для русского народа победо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4235400" cy="3090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C:\Documents and Settings\Admin\Рабочий стол\1197836752.jpg"/>
          <p:cNvPicPr/>
          <p:nvPr/>
        </p:nvPicPr>
        <p:blipFill>
          <a:blip r:embed="rId2"/>
          <a:stretch/>
        </p:blipFill>
        <p:spPr>
          <a:xfrm>
            <a:off x="304920" y="375300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6019560" cy="49068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3"/>
          <p:cNvSpPr/>
          <p:nvPr/>
        </p:nvSpPr>
        <p:spPr>
          <a:xfrm>
            <a:off x="228600" y="3049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оя семья в период Великой Отечественной Войн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"/>
          <p:cNvSpPr/>
          <p:nvPr/>
        </p:nvSpPr>
        <p:spPr>
          <a:xfrm>
            <a:off x="228600" y="228600"/>
            <a:ext cx="62485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Прочитайте слова. Спишите их и выделите корень. Подчеркните слова с ударным гласным звуком в корн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Лётчик, лётный, летать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Танк, танковый, танкист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ана, раненый, ранение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25T17:57:4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