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8.gif" ContentType="image/gif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CF3-E263-4FA8-826E-99027B2F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246-F26A-4372-A407-4B48211B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0A300-D83F-4C61-8133-C56C5B47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1A4F0-3CC4-4498-9E3D-EFAB7334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74A6A-D2F7-4CA5-9499-51D5ECDB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85AE8-2C9C-4A9E-B2CB-BF20DB9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BBCA5-4307-43D0-81A6-C329F8C8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02BCF-95FB-4F20-8D55-BF775C6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CCE66-85CB-4DD9-A25D-31E0A3E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56FAF-B8A1-4861-B545-A5C9C20C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0EE30-B38F-4F4B-97CC-5FA58017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89C-2C2F-4064-B43A-9B25A279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9B2-6139-4AC6-9C13-E0A424BA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E371-7643-437D-9356-8D2F8DE6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E815-201F-4ED7-82AE-382B621E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1A19-09EE-4DD7-B9E3-F9DFBB78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5280-D439-44C7-A41F-863C1DA3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5F06-DD46-46F2-A28C-531DD28C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2E2E-7F73-4E26-94B1-B3605EAC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CEDC-3F7F-4995-981E-C1F2C3B4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DA9-F2BB-453E-9AD0-EDB8F8DC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6116-1971-4FE0-B6EA-7D8309DA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55DB-4548-4A45-BD3D-7E52018B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3296-CC41-4B73-8581-DBE39DDC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3B85-A27E-4150-BE96-09B314E6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C460-A16C-4A91-B3AE-23C6DB1E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4EFD-4413-475D-B70C-FFCD0D6B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26EC-6C1B-4F0F-BB9A-438AAE93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364D-C190-4D7E-AB6E-55ACD9EF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482D-B8A8-4645-8FA4-86E4D0FF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0F7A-BD24-49C4-B387-EBE0F6D3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C75-3DA4-4761-93F6-F69EEBF7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4D5E-88FF-44E3-A463-446CD663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E2C9-513C-4A1E-9446-2CE29DF7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2017-0078-49F0-9DAA-A2EE751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03D3-D150-4229-913A-CD56AFB9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8995-E66A-4D1D-ADE1-D71E2B4F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790F-C7E0-4370-808B-7EFA7C9C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1BA1-5E25-4833-95D6-41EA4F3D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4E0B-D1FB-4FE3-9DDA-F0A1089F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67B0-5810-473C-8005-B86AA75D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4457-47E9-470A-BFD8-2EC1BC16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63A-5AD6-4F4E-9949-18BD2FB8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0AB9-5E7F-4BB4-AD6D-EE59C1AD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9F11-5173-4221-ADB2-AC6E6F6A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83412-310E-43DB-A3ED-6B27D54A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CDCB-F52D-46C1-ABD0-0BD6B500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E723-5502-4C34-A279-20A0EB11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1C208-9934-4324-9952-E67E3FD9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32E7-CFA8-4191-8888-654E69C0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5E0C-DD23-4B4A-9559-9E76F343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5C772-761E-4EA7-A313-C49A7F5C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0A3D6-32FC-4ED7-A674-2E4874C2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E52-2972-4313-878C-9CCD84F5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6FCCC-7FE8-4710-87A3-9D448D7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30697-4AF2-465E-A39C-8E2CA76A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A444F-C0B8-480F-92D0-CE3E1DD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6919D-3CA7-4799-BB3E-57C43DA6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3B57-F8B9-406E-87EF-0835B03E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AF20-0A54-429C-B6F4-05F244F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D789-FA1A-4E44-A664-82D990C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DB6C7-D606-4BCD-8DD2-7F91872D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6A87-7D42-4546-8E64-EC720F44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AF930-6DCF-48BE-9688-B27681EE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2F1-265D-40C0-AA2A-891386F6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C829D-96AA-412B-B656-BDA7C730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EA459-254A-4C1C-B1AE-685B51A8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BD517-3BF5-4BCF-8914-AC261969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8AA2-5F24-457E-BA3C-97AB4083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FC448-824B-4E3A-B292-44644184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96EA9-7BC8-4D5C-8B47-572A48E0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E68C-9A97-40AB-851D-0548E152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86EF-0049-4381-8004-12E7A1E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6272A-A921-4788-90A6-81FC4BF6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1361-D69E-4960-AA11-C9BDB6A7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3F6-615E-40F8-BC39-87FAAE1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FB28B-2292-4B53-A41E-B763E7A8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AEB14-0322-4B83-8CB7-92E4403E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1FD2-5836-41F8-8632-29560E74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1D9AE-CA32-4B5B-83A4-057C7AC6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23F11-8F9D-4D9E-AB80-8E74EA47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E9A48-8467-478E-A308-C3C422E3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83F42-7B51-439F-B1FE-1C9FE09D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1AC34-B6AF-484D-8546-6F45423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64EA-39D9-4A90-A31C-ED05655F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1CFAA-9F36-4A2F-BE16-2F412D47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056-946E-4734-9CB1-4A0B856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5EB75-BDBB-4C59-B1C8-D1BC751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FA294-AE9A-44B3-B0E2-0A4AEE70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EC8FD-6A4E-4661-8BB0-242B4199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CE644-A2A0-43C8-B71B-4C6AC5BC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F481-01DF-45CA-BF02-75B429E1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71BE-817C-41C9-9D70-FA48CA06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D8C58-EEB5-465A-8B20-55425EF0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4B85E-1648-4594-80B0-A1D01CB6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D1F6E-EA9E-4F93-9563-1129A5CF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60AA0-5B97-4420-845C-6392BBAE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FB6-0300-472A-B5FA-7CCA16C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1A9CC-65A7-48DC-BFC2-FAC10E7C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CAB2-4841-4716-B754-B04536D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A4EF4-9A10-43ED-8577-D152764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BD434-5E0A-4E59-AFB1-769B23A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B7973-F500-421D-99F7-0594F8C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F594-087E-4759-82A0-CF5DEE18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8F0EE-3DB0-4A96-A288-40D4CE5D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95126-A391-4FCC-9E9E-18FA8E60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5F6FE-7633-49AB-99CD-8F6CDD60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6D9F5-8F3A-451C-8BEF-CE266E8C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A524-4824-4F41-838D-5867694C6C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DFE6-F1A1-4D81-A71E-0469873305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2574-4E3B-4F83-9EEC-E6F85BFC3C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0BF1-DD7A-4F3E-8757-9E1949FB3B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E1D7-CACE-4643-8203-8CC2579E16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E884-B7B9-4CDE-B251-1A00C8ACEA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56B8-C8F0-4D42-8204-58207AFFD4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A7E7-A4EA-4829-B0EA-E804FC824D0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47BA-D44B-462E-A8CA-24448758EB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6480" y="311040"/>
            <a:ext cx="9156960" cy="2054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447720" y="6357600"/>
            <a:ext cx="5715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2143080" y="2214720"/>
            <a:ext cx="505800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87d0e"/>
                </a:solidFill>
                <a:latin typeface="Monotype Corsiva"/>
              </a:rPr>
              <a:t>ДОПОЛНИТЕЛЬНОЕ ОБРАЗОВАН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6" name="Picture 7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2584440" cy="2047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2584440" cy="2047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"/>
          <p:cNvPicPr/>
          <p:nvPr/>
        </p:nvPicPr>
        <p:blipFill>
          <a:blip r:embed="rId3"/>
          <a:stretch/>
        </p:blipFill>
        <p:spPr>
          <a:xfrm>
            <a:off x="1214280" y="3929040"/>
            <a:ext cx="2578320" cy="2048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0" descr=""/>
          <p:cNvPicPr/>
          <p:nvPr/>
        </p:nvPicPr>
        <p:blipFill>
          <a:blip r:embed="rId4"/>
          <a:stretch/>
        </p:blipFill>
        <p:spPr>
          <a:xfrm>
            <a:off x="5572080" y="3929040"/>
            <a:ext cx="259092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87d0e"/>
                </a:solidFill>
                <a:latin typeface="Monotype Corsiva"/>
              </a:rPr>
              <a:t>ОЗДОРОВИТЕЛЬНАЯ РАБОТА 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571920" y="3785760"/>
            <a:ext cx="23572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87d0e"/>
                </a:solidFill>
                <a:latin typeface="Franklin Gothic Medium"/>
              </a:rPr>
              <a:t>Здесь мы будем умываться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270000" indent="-2700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87d0e"/>
                </a:solidFill>
                <a:latin typeface="Franklin Gothic Medium"/>
              </a:rPr>
              <a:t>Руки мыть перед едой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270000" indent="-2700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87d0e"/>
                </a:solidFill>
                <a:latin typeface="Franklin Gothic Medium"/>
              </a:rPr>
              <a:t>Мы не будем баловатьс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270000" indent="-2700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87d0e"/>
                </a:solidFill>
                <a:latin typeface="Franklin Gothic Medium"/>
              </a:rPr>
              <a:t>Краном, мылом и водой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2382840" cy="204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9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2730600" cy="149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"/>
          <p:cNvPicPr/>
          <p:nvPr/>
        </p:nvPicPr>
        <p:blipFill>
          <a:blip r:embed="rId3"/>
          <a:stretch/>
        </p:blipFill>
        <p:spPr>
          <a:xfrm>
            <a:off x="642960" y="4214880"/>
            <a:ext cx="2730600" cy="1957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1" descr=""/>
          <p:cNvPicPr/>
          <p:nvPr/>
        </p:nvPicPr>
        <p:blipFill>
          <a:blip r:embed="rId4"/>
          <a:stretch/>
        </p:blipFill>
        <p:spPr>
          <a:xfrm>
            <a:off x="6143760" y="4143240"/>
            <a:ext cx="227952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87d0e"/>
                </a:solidFill>
                <a:latin typeface="Monotype Corsiva"/>
              </a:rPr>
              <a:t>НАШИ ПРАЗДНИКИ И РАЗВЛЕЧЕНИЯ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3039840" cy="52959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"/>
          <p:cNvPicPr/>
          <p:nvPr/>
        </p:nvPicPr>
        <p:blipFill>
          <a:blip r:embed="rId2"/>
          <a:stretch/>
        </p:blipFill>
        <p:spPr>
          <a:xfrm>
            <a:off x="3286080" y="2643120"/>
            <a:ext cx="2048040" cy="2273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0" descr=""/>
          <p:cNvPicPr/>
          <p:nvPr/>
        </p:nvPicPr>
        <p:blipFill>
          <a:blip r:embed="rId3"/>
          <a:stretch/>
        </p:blipFill>
        <p:spPr>
          <a:xfrm>
            <a:off x="5514840" y="1357200"/>
            <a:ext cx="3629160" cy="398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87d0e"/>
                </a:solidFill>
                <a:latin typeface="Monotype Corsiva"/>
              </a:rPr>
              <a:t>ПРЕДМЕТНО-РАЗВИВАЮЩАЯ СРЕДА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151160" y="1341000"/>
            <a:ext cx="46180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87d0e"/>
                </a:solidFill>
                <a:latin typeface="Franklin Gothic Book"/>
              </a:rPr>
              <a:t>Свежий воздух малышам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87d0e"/>
                </a:solidFill>
                <a:latin typeface="Franklin Gothic Book"/>
              </a:rPr>
              <a:t>Нужен и полезен!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87d0e"/>
                </a:solidFill>
                <a:latin typeface="Franklin Gothic Book"/>
              </a:rPr>
              <a:t>Очень весело гулять  нам!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87d0e"/>
                </a:solidFill>
                <a:latin typeface="Franklin Gothic Book"/>
              </a:rPr>
              <a:t>И никаких болезней!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Picture 7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2730600" cy="1835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2730600" cy="20239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"/>
          <p:cNvPicPr/>
          <p:nvPr/>
        </p:nvPicPr>
        <p:blipFill>
          <a:blip r:embed="rId3"/>
          <a:stretch/>
        </p:blipFill>
        <p:spPr>
          <a:xfrm>
            <a:off x="5000760" y="4000680"/>
            <a:ext cx="2730240" cy="164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87d0e"/>
                </a:solidFill>
                <a:latin typeface="Monotype Corsiva"/>
              </a:rPr>
              <a:t>ВОТ КАК МЫ ИГРАЕМ!!!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6" name="Picture 8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2730600" cy="1494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"/>
          <p:cNvPicPr/>
          <p:nvPr/>
        </p:nvPicPr>
        <p:blipFill>
          <a:blip r:embed="rId2"/>
          <a:stretch/>
        </p:blipFill>
        <p:spPr>
          <a:xfrm>
            <a:off x="5286240" y="1214280"/>
            <a:ext cx="2730600" cy="19148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0" descr=""/>
          <p:cNvPicPr/>
          <p:nvPr/>
        </p:nvPicPr>
        <p:blipFill>
          <a:blip r:embed="rId3"/>
          <a:stretch/>
        </p:blipFill>
        <p:spPr>
          <a:xfrm>
            <a:off x="5643720" y="4143240"/>
            <a:ext cx="2431800" cy="2048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1" descr=""/>
          <p:cNvPicPr/>
          <p:nvPr/>
        </p:nvPicPr>
        <p:blipFill>
          <a:blip r:embed="rId4"/>
          <a:stretch/>
        </p:blipFill>
        <p:spPr>
          <a:xfrm>
            <a:off x="1285920" y="4143240"/>
            <a:ext cx="273060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8400" y="-21420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87d0e"/>
                </a:solidFill>
                <a:latin typeface="Monotype Corsiva"/>
              </a:rPr>
              <a:t>РАБОТА С РОДИТЕЛЯМИ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1" name="Picture 7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2676240" cy="2048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"/>
          <p:cNvPicPr/>
          <p:nvPr/>
        </p:nvPicPr>
        <p:blipFill>
          <a:blip r:embed="rId2"/>
          <a:stretch/>
        </p:blipFill>
        <p:spPr>
          <a:xfrm>
            <a:off x="5286240" y="1143000"/>
            <a:ext cx="2683080" cy="2048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9" descr=""/>
          <p:cNvPicPr/>
          <p:nvPr/>
        </p:nvPicPr>
        <p:blipFill>
          <a:blip r:embed="rId3"/>
          <a:stretch/>
        </p:blipFill>
        <p:spPr>
          <a:xfrm>
            <a:off x="1071720" y="3929040"/>
            <a:ext cx="2687400" cy="2048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0" descr=""/>
          <p:cNvPicPr/>
          <p:nvPr/>
        </p:nvPicPr>
        <p:blipFill>
          <a:blip r:embed="rId4"/>
          <a:stretch/>
        </p:blipFill>
        <p:spPr>
          <a:xfrm>
            <a:off x="5286240" y="3929040"/>
            <a:ext cx="268776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2928960" y="2357280"/>
            <a:ext cx="267660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C:\Users\IT-Center-1\Desktop\a.jpe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87d0e"/>
                </a:solidFill>
                <a:latin typeface="Monotype Corsiva"/>
              </a:rPr>
              <a:t>ГРУППА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50004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НАШ ДЕВИЗ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7d0e"/>
                </a:solidFill>
                <a:latin typeface="Franklin Gothic Book"/>
              </a:rPr>
              <a:t>«Звеним, звеним мы целый день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7d0e"/>
                </a:solidFill>
                <a:latin typeface="Franklin Gothic Book"/>
              </a:rPr>
              <a:t>И нам звонить совсем не лень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C:\Users\IT-Center-1\Desktop\Эп2.gif"/>
          <p:cNvPicPr/>
          <p:nvPr/>
        </p:nvPicPr>
        <p:blipFill>
          <a:blip r:embed="rId1"/>
          <a:stretch/>
        </p:blipFill>
        <p:spPr>
          <a:xfrm>
            <a:off x="6572160" y="0"/>
            <a:ext cx="2571840" cy="19321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Users\IT-Center-1\Desktop\Эп2.gif"/>
          <p:cNvPicPr/>
          <p:nvPr/>
        </p:nvPicPr>
        <p:blipFill>
          <a:blip r:embed="rId2"/>
          <a:stretch/>
        </p:blipFill>
        <p:spPr>
          <a:xfrm>
            <a:off x="0" y="0"/>
            <a:ext cx="2571840" cy="1932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3"/>
          <a:stretch/>
        </p:blipFill>
        <p:spPr>
          <a:xfrm>
            <a:off x="3214800" y="1857240"/>
            <a:ext cx="2047680" cy="212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87d0e"/>
                </a:solidFill>
                <a:latin typeface="Monotype Corsiva"/>
              </a:rPr>
              <a:t>«ВОТ КАКИЕ МЫ»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3282840" y="2894040"/>
            <a:ext cx="2730600" cy="1846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215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87d0e"/>
                </a:solidFill>
                <a:latin typeface="Monotype Corsiva"/>
              </a:rPr>
              <a:t>НАША ГРУППА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47720" cy="20480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2730600" cy="1474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"/>
          <p:cNvPicPr/>
          <p:nvPr/>
        </p:nvPicPr>
        <p:blipFill>
          <a:blip r:embed="rId3"/>
          <a:stretch/>
        </p:blipFill>
        <p:spPr>
          <a:xfrm>
            <a:off x="714240" y="4357800"/>
            <a:ext cx="2730600" cy="1755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"/>
          <p:cNvPicPr/>
          <p:nvPr/>
        </p:nvPicPr>
        <p:blipFill>
          <a:blip r:embed="rId4"/>
          <a:stretch/>
        </p:blipFill>
        <p:spPr>
          <a:xfrm>
            <a:off x="5286240" y="4071960"/>
            <a:ext cx="2730600" cy="199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87d0e"/>
                </a:solidFill>
                <a:latin typeface="Monotype Corsiva"/>
              </a:rPr>
              <a:t>РЕЖИМНЫЕ МОМЕНТЫ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285880" y="2357280"/>
            <a:ext cx="3357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Каждый день рано утром встаю,</a:t>
            </a:r>
            <a:br>
              <a:rPr sz="2400"/>
            </a:b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И иду в свой родной детский сад.</a:t>
            </a:r>
            <a:br>
              <a:rPr sz="2400"/>
            </a:b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Утро дарит мне нежность свою,</a:t>
            </a:r>
            <a:br>
              <a:rPr sz="2400"/>
            </a:b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Я с улыбкой встречаю ребят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tretch/>
        </p:blipFill>
        <p:spPr>
          <a:xfrm>
            <a:off x="1357200" y="2714760"/>
            <a:ext cx="2286000" cy="204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5776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МЫ ЗА СТОЛИКОМ СИДИМ,</a:t>
            </a:r>
            <a:br>
              <a:rPr sz="2400"/>
            </a:b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ВКУСНЫЙ ЗАВТРАК МЫ ЕДИМ.</a:t>
            </a:r>
            <a:br>
              <a:rPr sz="2400"/>
            </a:b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ПОСТАРАЛИСЬ ПОВАРА,</a:t>
            </a:r>
            <a:br>
              <a:rPr sz="2400"/>
            </a:b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ПРИГОТОВИЛИ С УТРА!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Прямоугольник 6"/>
          <p:cNvSpPr/>
          <p:nvPr/>
        </p:nvSpPr>
        <p:spPr>
          <a:xfrm>
            <a:off x="5000760" y="4000680"/>
            <a:ext cx="414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Собрались мы пообедать,</a:t>
            </a:r>
            <a:br>
              <a:rPr sz="2400"/>
            </a:b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Угощение отве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На обед нам дали щи,</a:t>
            </a:r>
            <a:br>
              <a:rPr sz="2400"/>
            </a:b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Чай и запек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Ой как вкусно пахнет щам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7d0e"/>
                </a:solidFill>
                <a:latin typeface="Franklin Gothic Medium"/>
              </a:rPr>
              <a:t>Кто обедать будет с н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1"/>
          <a:stretch/>
        </p:blipFill>
        <p:spPr>
          <a:xfrm>
            <a:off x="5429160" y="714240"/>
            <a:ext cx="2730600" cy="1731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2"/>
          <a:stretch/>
        </p:blipFill>
        <p:spPr>
          <a:xfrm>
            <a:off x="1214280" y="4071960"/>
            <a:ext cx="273060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Users\IT-Center-1\Desktop\1310454321_prevyu-dezhurim.jpg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1928880" y="1856880"/>
            <a:ext cx="1928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640720" y="62784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Picture 8" descr=""/>
          <p:cNvPicPr/>
          <p:nvPr/>
        </p:nvPicPr>
        <p:blipFill>
          <a:blip r:embed="rId2"/>
          <a:stretch/>
        </p:blipFill>
        <p:spPr>
          <a:xfrm>
            <a:off x="1214280" y="2000160"/>
            <a:ext cx="2048040" cy="2097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"/>
          <p:cNvPicPr/>
          <p:nvPr/>
        </p:nvPicPr>
        <p:blipFill>
          <a:blip r:embed="rId3"/>
          <a:stretch/>
        </p:blipFill>
        <p:spPr>
          <a:xfrm>
            <a:off x="5072040" y="392904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"/>
          <p:cNvPicPr/>
          <p:nvPr/>
        </p:nvPicPr>
        <p:blipFill>
          <a:blip r:embed="rId4"/>
          <a:stretch/>
        </p:blipFill>
        <p:spPr>
          <a:xfrm>
            <a:off x="1928880" y="4429080"/>
            <a:ext cx="204768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29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87d0e"/>
                </a:solidFill>
                <a:latin typeface="Monotype Corsiva"/>
              </a:rPr>
              <a:t>ОБРАЗОВАТЕЛЬНАЯ ДЕЯТЕЛЬНОСТЬ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1" name="Picture 8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2730240" cy="1444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"/>
          <p:cNvPicPr/>
          <p:nvPr/>
        </p:nvPicPr>
        <p:blipFill>
          <a:blip r:embed="rId2"/>
          <a:stretch/>
        </p:blipFill>
        <p:spPr>
          <a:xfrm>
            <a:off x="5286240" y="1357200"/>
            <a:ext cx="2730600" cy="1609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"/>
          <p:cNvPicPr/>
          <p:nvPr/>
        </p:nvPicPr>
        <p:blipFill>
          <a:blip r:embed="rId3"/>
          <a:stretch/>
        </p:blipFill>
        <p:spPr>
          <a:xfrm>
            <a:off x="1000080" y="3786120"/>
            <a:ext cx="2730600" cy="1925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"/>
          <p:cNvPicPr/>
          <p:nvPr/>
        </p:nvPicPr>
        <p:blipFill>
          <a:blip r:embed="rId4"/>
          <a:stretch/>
        </p:blipFill>
        <p:spPr>
          <a:xfrm>
            <a:off x="5429160" y="3786120"/>
            <a:ext cx="265752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0:01:05Z</dcterms:created>
  <dc:creator>IT-Center-1</dc:creator>
  <dc:description/>
  <dc:language>en-US</dc:language>
  <cp:lastModifiedBy>Комп</cp:lastModifiedBy>
  <dcterms:modified xsi:type="dcterms:W3CDTF">2015-03-19T18:30:47Z</dcterms:modified>
  <cp:revision>68</cp:revision>
  <dc:subject/>
  <dc:title>Проектная деятельность</dc:title>
</cp:coreProperties>
</file>