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757-EB88-4E35-8CFA-1F83624B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958-46A7-4FCD-8180-F1041A21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0B4-24D4-4DE6-95BC-D71EF707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577-F3D6-4ED1-A445-DB16869D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9EF-AA6C-420E-9260-1C54BD9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8F4-9ED3-4F3E-99E2-8832A7D6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885-B8EE-47BF-A522-854C76D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72A-91C2-4837-9E82-454DDDC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4BA-D16D-4316-9C13-9BEF3C6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B99-C86E-46DD-BAE2-9C8AA85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EA7-35D8-4608-9CA7-49B2137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13-DE54-40FE-B73D-C310494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9589-4A98-49F5-8A23-834C1A358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85800" y="60948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9694"/>
                </a:solidFill>
                <a:latin typeface="Georgia"/>
              </a:rPr>
              <a:t>Многоликий </a:t>
            </a:r>
            <a:r>
              <a:rPr b="1" lang="ru-RU" sz="6600" spc="-1" strike="noStrike">
                <a:solidFill>
                  <a:srgbClr val="d99694"/>
                </a:solidFill>
                <a:latin typeface="Georgia"/>
              </a:rPr>
              <a:t>архитектурный</a:t>
            </a:r>
            <a:r>
              <a:rPr b="1" lang="ru-RU" sz="7200" spc="-1" strike="noStrike">
                <a:solidFill>
                  <a:srgbClr val="d99694"/>
                </a:solidFill>
                <a:latin typeface="Georgia"/>
              </a:rPr>
              <a:t> образ Петербурга. </a:t>
            </a:r>
            <a:r>
              <a:rPr b="1" lang="ru-RU" sz="7200" spc="-1" strike="noStrike">
                <a:solidFill>
                  <a:srgbClr val="953735"/>
                </a:solidFill>
                <a:latin typeface="Georgia"/>
              </a:rPr>
              <a:t>Барокко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762120" y="1600200"/>
            <a:ext cx="350496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Трез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Швертфе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Маттарнови, Гер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51814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А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Кунстка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Б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 Здание Двенадцати  колле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В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Летн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Г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Меньшиковск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Д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Петровские 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066680" y="129528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Петровское барокко господствовало при </a:t>
            </a: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Екатерине Вели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етре Пер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Елизавете Петров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авле Петрови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066680" y="1600200"/>
            <a:ext cx="769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Петровское барокко господствовало в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41-1761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30-1740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03-1730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066680" y="1295280"/>
            <a:ext cx="784872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Барокко эт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одражание ант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Вычурный, причу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Строгий, строй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Жемчужина неправильной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600200" y="4698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eorgia"/>
                <a:ea typeface="Calibri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Georgia"/>
                <a:ea typeface="Calibri"/>
              </a:rPr>
              <a:t>Заполнить таблицу «Характеристика эпохи барокко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95280" y="609480"/>
            <a:ext cx="723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Презентация выполнена учителем ГБОУ школа № 217 Красносель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Санкт –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имени Н.А. Алексеева Приймен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Еленой Валерь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Использованы материалы : </a:t>
            </a:r>
            <a:r>
              <a:rPr b="1" lang="en-US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yandex.ru</a:t>
            </a: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  архив фотограф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990720" y="76212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9694"/>
                </a:solidFill>
                <a:latin typeface="Georgia"/>
              </a:rPr>
              <a:t>Барокко- </a:t>
            </a:r>
            <a:r>
              <a:rPr b="1" lang="ru-RU" sz="4400" spc="-1" strike="noStrike">
                <a:solidFill>
                  <a:srgbClr val="d99694"/>
                </a:solidFill>
                <a:latin typeface="Georgia"/>
              </a:rPr>
              <a:t>причудливый, вычурный, жемчужина неправильной формы. В Петербурге стиль барокко видоизменился, получив своеобразное развитие на русской поч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66680" y="304920"/>
            <a:ext cx="7696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Барокко, перенесенный в Петербург, приобрел своеобразные черты: простоту, сдержанность, функциональность и стал называться 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953735"/>
                </a:solidFill>
                <a:latin typeface="Georgia"/>
              </a:rPr>
              <a:t>петровским барокко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. Петровское барокко </a:t>
            </a: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господствовало в Петербурге в 1703- 173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годы.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914400" y="30492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Georgia"/>
              </a:rPr>
              <a:t>Черты петровского барок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Простота объ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Четырёхскатные кр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Окна с мелкой расстеклов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44360" y="-1119240"/>
            <a:ext cx="353376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сммм\Desktop\567.jpg"/>
          <p:cNvPicPr/>
          <p:nvPr/>
        </p:nvPicPr>
        <p:blipFill>
          <a:blip r:embed="rId1"/>
          <a:stretch/>
        </p:blipFill>
        <p:spPr>
          <a:xfrm>
            <a:off x="4876920" y="30481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сммм\Desktop\0_7d82d_57a9a4f5_XL.jpg"/>
          <p:cNvPicPr/>
          <p:nvPr/>
        </p:nvPicPr>
        <p:blipFill>
          <a:blip r:embed="rId2"/>
          <a:stretch/>
        </p:blipFill>
        <p:spPr>
          <a:xfrm>
            <a:off x="1523880" y="28954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38080" y="388620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4. Двухцветная окраска фаса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5. Использование скромных декоративных элементов( пилястр, волют- завитков, рустованных выступ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6. Симметричность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сммм\Desktop\petrovskoe_barokko.jpg"/>
          <p:cNvPicPr/>
          <p:nvPr/>
        </p:nvPicPr>
        <p:blipFill>
          <a:blip r:embed="rId1"/>
          <a:stretch/>
        </p:blipFill>
        <p:spPr>
          <a:xfrm>
            <a:off x="1219320" y="457200"/>
            <a:ext cx="7191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-53352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                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Петровские ворота Петропавлов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крепости, архитектор Д. Тре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сммм\Desktop\17-barocco.jpg"/>
          <p:cNvPicPr/>
          <p:nvPr/>
        </p:nvPicPr>
        <p:blipFill>
          <a:blip r:embed="rId1"/>
          <a:stretch/>
        </p:blipFill>
        <p:spPr>
          <a:xfrm>
            <a:off x="1676520" y="1600200"/>
            <a:ext cx="617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371600" y="5638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Летний дворец Петра </a:t>
            </a:r>
            <a:r>
              <a:rPr b="1" i="1" lang="en-US" sz="2400" spc="-1" strike="noStrike">
                <a:solidFill>
                  <a:srgbClr val="953735"/>
                </a:solidFill>
                <a:latin typeface="Georgia"/>
              </a:rPr>
              <a:t>I </a:t>
            </a: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архитектор Д. Тре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сммм\Desktop\71054.jpg"/>
          <p:cNvPicPr/>
          <p:nvPr/>
        </p:nvPicPr>
        <p:blipFill>
          <a:blip r:embed="rId1"/>
          <a:stretch/>
        </p:blipFill>
        <p:spPr>
          <a:xfrm>
            <a:off x="2209680" y="1600200"/>
            <a:ext cx="54864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838080" y="5486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Здание Двенадцати коллегий архитекторы Д. Трези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Т. Швертфег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сммм\Desktop\photo_1-2034.jpg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371600" y="5638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Кунсткамера архит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Г. Маттарнови,  Н. Гер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сммм\Desktop\Kunstkamera-v-Sankt-Peterburg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6768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21:21:46Z</dcterms:created>
  <dc:creator>Катя</dc:creator>
  <dc:description/>
  <dc:language>en-US</dc:language>
  <cp:lastModifiedBy>сммм</cp:lastModifiedBy>
  <dcterms:modified xsi:type="dcterms:W3CDTF">2013-09-20T19:51:44Z</dcterms:modified>
  <cp:revision>14</cp:revision>
  <dc:subject/>
  <dc:title>Слайд 1</dc:title>
</cp:coreProperties>
</file>