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DFB-DEC5-4BB9-8779-298883B6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523-F48C-4A2F-B0ED-ACF60DC5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A6B-0971-4625-8609-C6BAB9AB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8A1-FC99-4FB5-BBF1-38F2DDBE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DF0-7375-46A5-A59E-4679FFCC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FFE-B4EB-4DF8-84F9-B7010EB0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EFE-AA5C-49CB-B82E-E6F86F8B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E79-886A-4E9E-B96D-936DA36A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A3F-1374-43CC-8D45-2D71A0E9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B9A-3111-4625-B22F-AB7BC8B2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DE4-7C49-436E-BE2B-642E4BD6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3CF-E72B-40B7-B574-7C6C82FB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F2D1-B7E0-471F-96FD-8ABE21024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685800" y="60948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99694"/>
                </a:solidFill>
                <a:latin typeface="Georgia"/>
              </a:rPr>
              <a:t>Многоликий </a:t>
            </a:r>
            <a:r>
              <a:rPr b="1" lang="ru-RU" sz="6600" spc="-1" strike="noStrike">
                <a:solidFill>
                  <a:srgbClr val="d99694"/>
                </a:solidFill>
                <a:latin typeface="Georgia"/>
              </a:rPr>
              <a:t>архитектурный</a:t>
            </a:r>
            <a:r>
              <a:rPr b="1" lang="ru-RU" sz="7200" spc="-1" strike="noStrike">
                <a:solidFill>
                  <a:srgbClr val="d99694"/>
                </a:solidFill>
                <a:latin typeface="Georgia"/>
              </a:rPr>
              <a:t> образ Петербурга. </a:t>
            </a:r>
            <a:r>
              <a:rPr b="1" lang="ru-RU" sz="7200" spc="-1" strike="noStrike">
                <a:solidFill>
                  <a:srgbClr val="953735"/>
                </a:solidFill>
                <a:latin typeface="Georgia"/>
              </a:rPr>
              <a:t>Барокко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762120" y="1600200"/>
            <a:ext cx="3504960" cy="37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Трез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Швертфег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Маттарнови, Герб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5181480" y="1600200"/>
            <a:ext cx="396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А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. Кунстка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Б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.  Здание Двенадцати  колле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В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. Летний дв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Г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. Меньшиковский дв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Д</a:t>
            </a:r>
            <a:r>
              <a:rPr b="1" lang="ru-RU" sz="2800" spc="-1" strike="noStrike">
                <a:solidFill>
                  <a:srgbClr val="953735"/>
                </a:solidFill>
                <a:latin typeface="Georgia"/>
              </a:rPr>
              <a:t>. Петровские во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762120" y="1600200"/>
            <a:ext cx="3504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5181480" y="160020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1066680" y="1295280"/>
            <a:ext cx="78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Петровское барокко господствовало при </a:t>
            </a:r>
            <a:r>
              <a:rPr b="1" lang="ru-RU" sz="4000" spc="-1" strike="noStrike">
                <a:solidFill>
                  <a:srgbClr val="d99694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Екатерине Вели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Петре Пер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Елизавете Петров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Павле Петрович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762120" y="1600200"/>
            <a:ext cx="3504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95373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5181480" y="160020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066680" y="1600200"/>
            <a:ext cx="7696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Петровское барокко господствовало в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1741-1761 год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1730-1740 год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1703-1730 год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762120" y="1600200"/>
            <a:ext cx="3504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181480" y="1600200"/>
            <a:ext cx="396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066680" y="1295280"/>
            <a:ext cx="784872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Барокко эт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Подражание ант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Вычурный, причудл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Строгий, строй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Georgia"/>
              </a:rPr>
              <a:t>Жемчужина неправильной 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95373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2286000" y="269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1600200" y="4698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eorgia"/>
                <a:ea typeface="Calibri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Georgia"/>
                <a:ea typeface="Calibri"/>
              </a:rPr>
              <a:t>Заполнить таблицу «Характеристика эпохи барокко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295280" y="609480"/>
            <a:ext cx="7239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Презентация выполнена учителем ГБОУ школа № 217 Красносель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Санкт – 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имени Н.А. Алексеева Приймен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Еленой Валерь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Использованы материалы : </a:t>
            </a:r>
            <a:r>
              <a:rPr b="1" lang="en-US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yandex.ru</a:t>
            </a:r>
            <a:r>
              <a:rPr b="1" lang="ru-RU" sz="2000" spc="-1" strike="noStrike">
                <a:solidFill>
                  <a:srgbClr val="953735"/>
                </a:solidFill>
                <a:latin typeface="Georgia"/>
                <a:ea typeface="Times New Roman"/>
              </a:rPr>
              <a:t>  архив фотограф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990720" y="76212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99694"/>
                </a:solidFill>
                <a:latin typeface="Georgia"/>
              </a:rPr>
              <a:t>Барокко- </a:t>
            </a:r>
            <a:r>
              <a:rPr b="1" lang="ru-RU" sz="4400" spc="-1" strike="noStrike">
                <a:solidFill>
                  <a:srgbClr val="d99694"/>
                </a:solidFill>
                <a:latin typeface="Georgia"/>
              </a:rPr>
              <a:t>причудливый, вычурный, жемчужина неправильной формы. В Петербурге стиль барокко видоизменился, получив своеобразное развитие на русской почв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066680" y="304920"/>
            <a:ext cx="7696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9694"/>
                </a:solidFill>
                <a:latin typeface="Georgia"/>
              </a:rPr>
              <a:t>Барокко, перенесенный в Петербург, приобрел своеобразные черты: простоту, сдержанность, функциональность и стал называться </a:t>
            </a: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953735"/>
                </a:solidFill>
                <a:latin typeface="Georgia"/>
              </a:rPr>
              <a:t>петровским барокко</a:t>
            </a: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. Петровское барокко </a:t>
            </a:r>
            <a:r>
              <a:rPr b="1" lang="ru-RU" sz="4000" spc="-1" strike="noStrike">
                <a:solidFill>
                  <a:srgbClr val="d99694"/>
                </a:solidFill>
                <a:latin typeface="Georgia"/>
              </a:rPr>
              <a:t>господствовало в Петербурге в 1703- 173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99694"/>
                </a:solidFill>
                <a:latin typeface="Georgia"/>
              </a:rPr>
              <a:t>годы.</a:t>
            </a:r>
            <a:r>
              <a:rPr b="1" i="1" lang="ru-RU" sz="4000" spc="-1" strike="noStrike">
                <a:solidFill>
                  <a:srgbClr val="d99694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914400" y="304920"/>
            <a:ext cx="8001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Georgia"/>
              </a:rPr>
              <a:t>Черты петровского барок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99694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Простота объё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99694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Четырёхскатные кр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99694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Окна с мелкой расстеклов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144360" y="-1119240"/>
            <a:ext cx="353376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Users\сммм\Desktop\567.jpg"/>
          <p:cNvPicPr/>
          <p:nvPr/>
        </p:nvPicPr>
        <p:blipFill>
          <a:blip r:embed="rId1"/>
          <a:stretch/>
        </p:blipFill>
        <p:spPr>
          <a:xfrm>
            <a:off x="4876920" y="3048120"/>
            <a:ext cx="373356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сммм\Desktop\0_7d82d_57a9a4f5_XL.jpg"/>
          <p:cNvPicPr/>
          <p:nvPr/>
        </p:nvPicPr>
        <p:blipFill>
          <a:blip r:embed="rId2"/>
          <a:stretch/>
        </p:blipFill>
        <p:spPr>
          <a:xfrm>
            <a:off x="1523880" y="2895480"/>
            <a:ext cx="2743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838080" y="388620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4. Двухцветная окраска фаса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5. Использование скромных декоративных элементов( пилястр, волют- завитков, рустованных выступ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9694"/>
                </a:solidFill>
                <a:latin typeface="Georgia"/>
              </a:rPr>
              <a:t>6. Симметричность з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сммм\Desktop\petrovskoe_barokko.jpg"/>
          <p:cNvPicPr/>
          <p:nvPr/>
        </p:nvPicPr>
        <p:blipFill>
          <a:blip r:embed="rId1"/>
          <a:stretch/>
        </p:blipFill>
        <p:spPr>
          <a:xfrm>
            <a:off x="1219320" y="457200"/>
            <a:ext cx="7191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етровское барокко </a:t>
            </a:r>
            <a:br>
              <a:rPr sz="4400"/>
            </a:b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1703 – 1730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-533520" y="5486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                  </a:t>
            </a: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Петровские ворота Петропавлов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крепости, архитектор Д. Трез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сммм\Desktop\17-barocco.jpg"/>
          <p:cNvPicPr/>
          <p:nvPr/>
        </p:nvPicPr>
        <p:blipFill>
          <a:blip r:embed="rId1"/>
          <a:stretch/>
        </p:blipFill>
        <p:spPr>
          <a:xfrm>
            <a:off x="1676520" y="1600200"/>
            <a:ext cx="6172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етровское барокко </a:t>
            </a:r>
            <a:br>
              <a:rPr sz="4400"/>
            </a:b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1703 – 1730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371600" y="56386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Georgia"/>
              </a:rPr>
              <a:t>Летний дворец Петра </a:t>
            </a:r>
            <a:r>
              <a:rPr b="1" i="1" lang="en-US" sz="2400" spc="-1" strike="noStrike">
                <a:solidFill>
                  <a:srgbClr val="953735"/>
                </a:solidFill>
                <a:latin typeface="Georgia"/>
              </a:rPr>
              <a:t>I </a:t>
            </a:r>
            <a:r>
              <a:rPr b="1" i="1" lang="ru-RU" sz="2400" spc="-1" strike="noStrike">
                <a:solidFill>
                  <a:srgbClr val="953735"/>
                </a:solidFill>
                <a:latin typeface="Georgia"/>
              </a:rPr>
              <a:t>архитектор Д. Трез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сммм\Desktop\71054.jpg"/>
          <p:cNvPicPr/>
          <p:nvPr/>
        </p:nvPicPr>
        <p:blipFill>
          <a:blip r:embed="rId1"/>
          <a:stretch/>
        </p:blipFill>
        <p:spPr>
          <a:xfrm>
            <a:off x="2209680" y="1600200"/>
            <a:ext cx="54864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етровское барокко </a:t>
            </a:r>
            <a:br>
              <a:rPr sz="4400"/>
            </a:b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1703 – 1730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838080" y="5486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Georgia"/>
              </a:rPr>
              <a:t>Здание Двенадцати коллегий архитекторы Д. Трези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953735"/>
                </a:solidFill>
                <a:latin typeface="Georgia"/>
              </a:rPr>
              <a:t>Т. Швертфег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сммм\Desktop\photo_1-2034.jpg"/>
          <p:cNvPicPr/>
          <p:nvPr/>
        </p:nvPicPr>
        <p:blipFill>
          <a:blip r:embed="rId1"/>
          <a:stretch/>
        </p:blipFill>
        <p:spPr>
          <a:xfrm>
            <a:off x="1676520" y="1523880"/>
            <a:ext cx="6019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Петровское барокко </a:t>
            </a:r>
            <a:br>
              <a:rPr sz="4400"/>
            </a:br>
            <a:r>
              <a:rPr b="1" i="1" lang="ru-RU" sz="4400" spc="-1" strike="noStrike">
                <a:solidFill>
                  <a:srgbClr val="953735"/>
                </a:solidFill>
                <a:latin typeface="Georgia"/>
              </a:rPr>
              <a:t>1703 – 1730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371600" y="56386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Кунсткамера архит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953735"/>
                </a:solidFill>
                <a:latin typeface="Georgia"/>
              </a:rPr>
              <a:t>Г. Маттарнови,  Н. Гер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сммм\Desktop\Kunstkamera-v-Sankt-Peterburg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6768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21:21:46Z</dcterms:created>
  <dc:creator>Катя</dc:creator>
  <dc:description/>
  <dc:language>en-US</dc:language>
  <cp:lastModifiedBy>сммм</cp:lastModifiedBy>
  <dcterms:modified xsi:type="dcterms:W3CDTF">2013-09-20T19:51:44Z</dcterms:modified>
  <cp:revision>14</cp:revision>
  <dc:subject/>
  <dc:title>Слайд 1</dc:title>
</cp:coreProperties>
</file>