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030-FB13-4695-B2B5-7DFA38D6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C25-98B7-4C5F-AFEF-E7C575EE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E05-B9BA-48C3-9220-AA055E4E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72B-A064-4D71-AA63-797761C1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0AAC-4CFB-4F99-A542-6816E0C8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F496-075B-4E40-BA8C-39831B8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830C-EE21-4756-B8A4-0360F2D9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474-D33C-4078-B737-58042DEF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C695-E5DD-47F7-8867-197E0D48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F229-C660-4ED1-A667-E88EF85C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29FC-CF48-450A-868C-F4E39563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5E2-7C3A-46A1-A5E9-90796DC9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D52F-2FF2-4F9C-845E-305C3730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6B82-9A4C-4339-9D68-CE2B8BDD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3CE8-92E5-4B9C-B1B7-EBDA18C2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461-99C1-4B56-884F-E25A05F4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80D9-65A2-4574-95A0-2FD4E00B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742-31F8-4E84-9F41-F3351068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D13-1ECD-4452-A6F4-4F167016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78D-B747-421F-9736-E70165A3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C58-ED99-4BD6-B7DB-43FE0A77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8E0-7FF3-4C2D-8514-84D874A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020-EA5C-42E4-BB03-2FFA7AD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ABB-1A34-4899-BA25-A262D962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E4F3-9F7B-465E-BB14-C4CE9C24F2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E0C4-673E-4BDC-B64C-11863A3FCB6D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9e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         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«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роектный   метод </a:t>
            </a:r>
            <a:br>
              <a:rPr sz="36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как  способ  реализации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бразовательных программ в ДОУ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Консультация для воспита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6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Функциональные обязанности руководителя проектной групп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ыбор проблемной образовательной области, постановка задач, формулировка концептуальной идеи и темы проект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Составление обоснования создаваемого проекта, определение конечного результата, его позитивности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Детализация содержания, структуризация материала проект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Определение его объема, исследовательской роли участников проект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Координация деятельности участников проект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Обеспечение постоянного контроля за ходом и сроками этапов проект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Проведение консультаций с членами проектной группы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Оказание помощи педагогам в подготовке документациик защите проект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ыявление недоработок, определение путей устранения недостатков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Персональная ответственность за грамотное изложение содержания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ариативность алгоритма проек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50920" y="1268280"/>
          <a:ext cx="8642160" cy="542952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236600"/>
                <a:gridCol w="1231920"/>
                <a:gridCol w="1236600"/>
                <a:gridCol w="1233720"/>
                <a:gridCol w="12348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Алгоритм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-й шаг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-й шаг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-й шаг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4-й шаг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-й шаг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6-й шаг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ервый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ригующее начало, отве-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чающее пот-ребностям детей. Обозначение взрослым проблемы.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пределение взрослыми цели проекта, его мотивации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ивлечение детей к пла-нированию деятельностии реалтиза-ция намечен-ного плана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е движение взрослых и детей к результату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ый анализ выполнения проекта. Переживание результата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торой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е выделение проблемы, отвечающей потребностям обеих сторон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е определение цели проекта, предстоящей деятельности. Прогнозирование результата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анирова-ние деятель-ности детьми при незначи-тельной помо-щи взрослых. Определение средств и спо-собов реали-зации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ыполнение детьми проекта.Диффиренцированная помощь взрослых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суждение результатов и хода работы, действий каж-дого. Выясне-ние причин успеха и неудач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 с детьми опре-деление пер-спектив про-ектирования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етий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е выделение проблемы, отвечающей потребностям обеих сторон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амостоятельное определе-ние детьми цели проекта, предстоящей деятельности. Прогнозирование результата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анирова-ние детьми деятельности, определение средств реа-лизации про-екта при учас-тии взрослого как партнера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ыполнение детьми про-екта, творчес-кие споры, договоренности, взаимоо-бучение, по-мощь детей друг другу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суждение результатов и хода работы, действий каж-дого. Выясне-ние причин успеха и неудач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пределение перспектив развитии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оектной деятельности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4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СПАСИБО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ЗА  ВНИМАНИЕ !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лесообразность использования        проектной деятельности в ДОУ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Является одним из методов развивающего обучения и самообразования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пособствует выработке исследовательских умений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пособствует развитию креативности и логического мышления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бъединяет знания, полученные в ходе методических мероприятий в ДОУ и профессиональных сообществ, курсах повышения квалификации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Является одной из форм организации воспитательно-образовательной работы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вышает компетентность педагога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вышает качество образовательного процесса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едполагает стимулирование работы членов проектной группы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Типология проектов в ДОУ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24000" y="1773360"/>
            <a:ext cx="3311280" cy="1439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доминирующей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(Исследовательские,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нформационные, творческие,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гровые, приключенческие,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актико-ориентированные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324000" y="3357720"/>
            <a:ext cx="3311280" cy="1439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характеру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держан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(Ребенок и семья, ребенок и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рода, ребенок и рукотворный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мир, ребенок и общество и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его культурные ценности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24000" y="5013360"/>
            <a:ext cx="3311280" cy="1511280"/>
          </a:xfrm>
          <a:prstGeom prst="rect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характеру участия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ебенка в проект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(Заказчик, эксперт, исполнитель,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участник от зарождения до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олучения результатов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364000" y="1773360"/>
            <a:ext cx="3384720" cy="1368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характеру контакт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(Внутри одной возрастной группы,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 контакте с другой возрастной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группой, внутри ДОУ, в контакте с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емьей,  учреждениями культуры,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общественными организациями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364000" y="3357720"/>
            <a:ext cx="3384720" cy="1439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количеств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(Индивидуальный, парный,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групповой, фронтальный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5364000" y="5013360"/>
            <a:ext cx="3384720" cy="1440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продолжительност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(Краткосрочный, средней продолжи-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тельности, долгосрочный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4284720" y="3213000"/>
            <a:ext cx="42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Line 12"/>
          <p:cNvSpPr/>
          <p:nvPr/>
        </p:nvSpPr>
        <p:spPr>
          <a:xfrm flipH="1" flipV="1">
            <a:off x="3708000" y="2637000"/>
            <a:ext cx="576360" cy="12967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Line 13"/>
          <p:cNvSpPr/>
          <p:nvPr/>
        </p:nvSpPr>
        <p:spPr>
          <a:xfrm flipH="1">
            <a:off x="3708000" y="4149720"/>
            <a:ext cx="576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Line 14"/>
          <p:cNvSpPr/>
          <p:nvPr/>
        </p:nvSpPr>
        <p:spPr>
          <a:xfrm flipH="1">
            <a:off x="3708000" y="4365720"/>
            <a:ext cx="576360" cy="1439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Line 15"/>
          <p:cNvSpPr/>
          <p:nvPr/>
        </p:nvSpPr>
        <p:spPr>
          <a:xfrm flipV="1">
            <a:off x="4572000" y="2708280"/>
            <a:ext cx="720720" cy="12254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Line 16"/>
          <p:cNvSpPr/>
          <p:nvPr/>
        </p:nvSpPr>
        <p:spPr>
          <a:xfrm>
            <a:off x="4572000" y="4149720"/>
            <a:ext cx="72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Line 18"/>
          <p:cNvSpPr/>
          <p:nvPr/>
        </p:nvSpPr>
        <p:spPr>
          <a:xfrm>
            <a:off x="4572000" y="4437000"/>
            <a:ext cx="720720" cy="1368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новные требован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к использованию метода проектов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468360" y="1844640"/>
            <a:ext cx="3166920" cy="1368360"/>
          </a:xfrm>
          <a:prstGeom prst="rect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Наличие значимой в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исследовательском и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творческом плане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роблемы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900000" y="3573360"/>
            <a:ext cx="3022560" cy="1368360"/>
          </a:xfrm>
          <a:prstGeom prst="rect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Самостоятельная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деятельность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едагогов под руководством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едагога, координирующего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роект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203640" y="5084640"/>
            <a:ext cx="2808360" cy="1368720"/>
          </a:xfrm>
          <a:prstGeom prst="rect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Использование исследова-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тельских методов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редусматривающих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определенную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оследовательность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действий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219640" y="3573360"/>
            <a:ext cx="3240000" cy="1368360"/>
          </a:xfrm>
          <a:prstGeom prst="rect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5508720" y="1844640"/>
            <a:ext cx="3240000" cy="1368360"/>
          </a:xfrm>
          <a:prstGeom prst="rect">
            <a:avLst/>
          </a:prstGeom>
          <a:solidFill>
            <a:srgbClr val="fe1f0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рактическая, теоретическая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сихолого-педагогическая,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значимость предполагаемых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результатов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6640560" y="3960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5364000" y="3745080"/>
            <a:ext cx="160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5364000" y="3789360"/>
            <a:ext cx="29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Структурирование содержательной части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роекта с указанием поэтапных результатов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Line 22"/>
          <p:cNvSpPr/>
          <p:nvPr/>
        </p:nvSpPr>
        <p:spPr>
          <a:xfrm>
            <a:off x="4572000" y="1557360"/>
            <a:ext cx="0" cy="3527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3924360" y="4292640"/>
            <a:ext cx="1295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Line 24"/>
          <p:cNvSpPr/>
          <p:nvPr/>
        </p:nvSpPr>
        <p:spPr>
          <a:xfrm>
            <a:off x="3635280" y="2565360"/>
            <a:ext cx="18734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25"/>
          <p:cNvSpPr/>
          <p:nvPr/>
        </p:nvSpPr>
        <p:spPr>
          <a:xfrm>
            <a:off x="684360" y="260280"/>
            <a:ext cx="0" cy="1152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26"/>
          <p:cNvSpPr/>
          <p:nvPr/>
        </p:nvSpPr>
        <p:spPr>
          <a:xfrm>
            <a:off x="684360" y="1413000"/>
            <a:ext cx="770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Line 27"/>
          <p:cNvSpPr/>
          <p:nvPr/>
        </p:nvSpPr>
        <p:spPr>
          <a:xfrm flipV="1">
            <a:off x="8388360" y="260280"/>
            <a:ext cx="0" cy="1152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Line 28"/>
          <p:cNvSpPr/>
          <p:nvPr/>
        </p:nvSpPr>
        <p:spPr>
          <a:xfrm flipH="1">
            <a:off x="684360" y="260280"/>
            <a:ext cx="770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Line 29"/>
          <p:cNvSpPr/>
          <p:nvPr/>
        </p:nvSpPr>
        <p:spPr>
          <a:xfrm flipV="1">
            <a:off x="4572000" y="1412640"/>
            <a:ext cx="0" cy="1443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следовательность действий          при создании проект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пределение актуальности проблемы и вытекающих из нее задач проектной деятельност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движение проектной гипотез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иск проектных методов исследования (мониторинговые процедуры, экспериментальные наблюдения, статистические методы)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бсуждение способов оформления конечных результато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бор, систематизация и анализ полученных данных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дведение итоговых, материальных результатов и их презентация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Формулирование выводов и выдвижение новых проблем для исследования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спространение педагогического опыт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Сравнительная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           характеристика  проектов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50920" y="1268280"/>
          <a:ext cx="8569080" cy="5437440"/>
        </p:xfrm>
        <a:graphic>
          <a:graphicData uri="http://schemas.openxmlformats.org/drawingml/2006/table">
            <a:tbl>
              <a:tblPr/>
              <a:tblGrid>
                <a:gridCol w="1657080"/>
                <a:gridCol w="2303640"/>
                <a:gridCol w="2305080"/>
                <a:gridCol w="230328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роект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цель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труктура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формационны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зучение объекта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Анализ и обобщение фактов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лучение и обра-ботка информации по установленной методике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Доклад, альбом, презентация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ворчес-ки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копление творческого опыта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азвитие фантазии и воображения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Детально не прора-батывается, только намечается. Подчи-нена конечному результату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льм или концерт с четко продуман-ной структурой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грово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копление игрового опыт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Детально не прора-батывается, только намечается. Подчи-нена конечному результату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жидаемый, четко обозначенный, ориентированный на социальные интересы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актико-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риенти-рованный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огащение соци-ально-практичес-кого опыт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труктура проду-мана. Четкая орга-низация работы на каждом этапе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жидаемый, четко обозначенный, ориентированный на социальные интересы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держа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   проектной  деятельност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зработка педагогом проектов и мини-проекто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Четкое формулирование проекта: целей, средств, программы действи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ценка проекта по критериям в соответствии с требованиями комплексной системы аттестации (экспертиза образовательного проекта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несение руководителем ДОУ изменений и дополнений в образовательный проект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ведение презентации и защиты проект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формление педагогом-руководителем визитной карточки проекта и папк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Консультации педагогов руководителями ДОУ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4156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2411280" y="2637000"/>
            <a:ext cx="3888000" cy="180000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916360" y="2781360"/>
            <a:ext cx="33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ли презентаци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Oval 7"/>
          <p:cNvSpPr/>
          <p:nvPr/>
        </p:nvSpPr>
        <p:spPr>
          <a:xfrm>
            <a:off x="5219640" y="4724280"/>
            <a:ext cx="3672000" cy="1729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Обучение педагогов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роектной деятельност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324000" y="4797360"/>
            <a:ext cx="3600360" cy="165600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Обучение педагогов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умению презентовать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себя и свою работу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Oval 11"/>
          <p:cNvSpPr/>
          <p:nvPr/>
        </p:nvSpPr>
        <p:spPr>
          <a:xfrm>
            <a:off x="5076720" y="765000"/>
            <a:ext cx="3851280" cy="158436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овышение мотивации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интереса к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рофессиональной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деятельност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250920" y="620640"/>
            <a:ext cx="3816360" cy="17272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Предоставление педагогам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возможности для самовыражения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и публичного выступлени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Line 15"/>
          <p:cNvSpPr/>
          <p:nvPr/>
        </p:nvSpPr>
        <p:spPr>
          <a:xfrm flipV="1">
            <a:off x="5364000" y="220464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Line 16"/>
          <p:cNvSpPr/>
          <p:nvPr/>
        </p:nvSpPr>
        <p:spPr>
          <a:xfrm flipH="1" flipV="1">
            <a:off x="3276720" y="2205000"/>
            <a:ext cx="28728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Line 18"/>
          <p:cNvSpPr/>
          <p:nvPr/>
        </p:nvSpPr>
        <p:spPr>
          <a:xfrm flipH="1">
            <a:off x="2987640" y="4365720"/>
            <a:ext cx="432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580000" y="4221000"/>
            <a:ext cx="50472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Функциональные обязанност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руководителя проектной деятельности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оставление календарно-тематического плана занятий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аботка блока совместной деятельности педагога и детей, самостоятельной деятельности, форм оценки результатов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ониторинг качества обученности дошкольников по теме проект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еобходимое программно-методическое, материально-техническое  и дидактическое обеспечение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Формирование проектной группы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зработка сценария проект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4:26:21Z</dcterms:created>
  <dc:creator>Геннадий</dc:creator>
  <dc:description/>
  <dc:language>en-US</dc:language>
  <cp:lastModifiedBy>SeRG</cp:lastModifiedBy>
  <dcterms:modified xsi:type="dcterms:W3CDTF">2015-03-19T16:02:22Z</dcterms:modified>
  <cp:revision>7</cp:revision>
  <dc:subject/>
  <dc:title>           Проектный   метод        как  способ  реализации        образовательных программ в ДОУ</dc:title>
</cp:coreProperties>
</file>