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Городские птиц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орон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1240" y="2692440"/>
            <a:ext cx="4200480" cy="357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а-всеядная птица: поедает жуков, гусениц, бабочек, моллюсков, дождевых червей, а также грызунов, ящериц, лягушек, рыб, птенцов и даже нападает на взросл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пернаты птицы хорошо освоили «профессию» мусорщиков, стали завсегдатаями свалок и помоек. Так что для города ворона — хороший санитар, ибо подбирает все, что только можно съ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иниц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68480" y="2101680"/>
            <a:ext cx="1746360" cy="4762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птицы прилетают ближе к людям: трудно, голодно в лесу в это время. В городе прожить морозной зимой проще: синицы поедают крошки и крупу, кусочки мяса и с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Грач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1240" y="3289320"/>
            <a:ext cx="4200480" cy="2389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ч - «вестник весны». Эти птицы первыми прилетают к нам весной. Их прилет начинается в конце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оробей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1240" y="2765520"/>
            <a:ext cx="4200480" cy="3435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 в представлении не нуждаются. Всем знакомы эти бойкие трашки, обитатели наших город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Ласточ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4280" y="2101680"/>
            <a:ext cx="2173320" cy="4762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точка-это перелетная птица: ее прилет возвещает наступление «настоящей» теплой весны, а дом, где она поселилась, считают счастли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Голубь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1240" y="3009960"/>
            <a:ext cx="4200480" cy="2948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и встречаются практически всюду: мы часто слышим их голоса в скверах и парках. Характерное воркование голубей известно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этих пернатых ежедневно совершать дальние перелеты и безошибочно возвращаться назад, их высокая скорость и неутомимость, уже давно по достоинству оценена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оро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1240" y="3632040"/>
            <a:ext cx="4200480" cy="1700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ока —  зоркая и внимательная птица. Она первой замечает приближение крупного хищника или человека и объявляет об этом на весь лес громким стрекот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негирь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27280" y="2101680"/>
            <a:ext cx="2228760" cy="4762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«снегирь» дано этой птице не зря. Это один из самых ранних зимних гостей, прилетающих к нам с севера вместе с первым снегом и замороз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7:59:12Z</dcterms:created>
  <dc:creator/>
  <dc:description/>
  <dc:language>en-US</dc:language>
  <cp:lastModifiedBy/>
  <cp:revision>1</cp:revision>
  <dc:subject/>
  <dc:title/>
</cp:coreProperties>
</file>