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4C8-7138-4052-BBDF-FD3C42F4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72B-509F-4D09-8AFD-1A72A630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3376-6032-4844-8B23-B3B69D6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00D3C-6A96-46A4-A4EB-239BFB72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7FB10-92A7-4C6A-8D7C-BA2A840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7797C-6848-47DC-B417-4A918A3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D984-9C64-49B0-914E-045544A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6C57-BC09-4BCB-B332-3B2BD25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E94F-942C-4859-B320-3D2D860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6BD2-2136-43D2-A524-12D57E6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7D24-770A-4D81-B0D5-7FECDC1C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94A-7476-47CF-8607-A367DC6B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82E-76BF-49D0-8117-45D24128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BB1C-DA02-4FD8-91A9-9BA40902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5CE5-30C5-44D2-AAA8-7C4BA1C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B89F-A556-412C-9040-018F0906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64F-D761-4385-AE16-C5384483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A68-3700-48C4-85CE-E6E78EB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4ED-BE0C-443E-B6C4-35D5A520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DC93-39C0-474D-894A-92C728F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5E7-5189-4504-BA52-45A2BB9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D2A-77FC-41E9-A3F6-E5CF361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4CEE-40FA-4C6E-8039-CCD8ACF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4D9B-AFE8-4FE6-B2C9-F1D48D7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2CB3-1F25-436A-AD5B-06E3812A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9A3E-A4F1-4CCF-8A28-FCD81483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63FC-1B9E-40D6-AB17-A223B9BC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DE1F-1D45-4311-A8A3-9CD9ACE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151C-8766-4AC2-AB57-E9C8AB50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3EF8-A7C5-494E-8126-81456BD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F79D-ADD5-416A-8E54-922B128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348-7631-4DFA-841E-FA743690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2AD2-0E65-4050-93F3-28A29FE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1B20-DA27-41BB-8A1F-313CC5F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AF72-5F27-4162-815D-5E910EE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19F9-5FEF-4384-A524-FCA1E49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8CEA-649B-4A0D-9F9D-61E0842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D542-1507-4415-9DEF-C0FD2896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9476-8AC7-4B98-98C1-B320AF48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D333-509D-4039-BA31-1E45B9AC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A2B1-A1DC-4349-9325-6E7143D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18D9-0331-4CF7-AD67-75D9F15D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BF9-4177-424B-951E-A17083DC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1D14B-9F6E-425F-8F50-62592EF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F9F1-FFF7-4674-B000-4F422CA3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5D86-8F90-402F-867F-2BD0AE16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954E-A204-4D98-BC26-327F8E40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566D-F235-43D2-A814-8EE34BA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563D-8648-42F9-B014-3FC5DC3B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050C-4395-4A8B-B47B-EA8928F2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A595-4E39-469E-B645-F27F128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300D-37D0-4E95-9DE5-8D3F870E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709D9-A990-4BFE-B669-6B0CF2E2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6B4-4151-4457-A757-E88B456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CD05A-C142-4ABC-88DA-DC1E151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3E71-B6AE-4651-B10C-530F991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5638-DD36-4BAF-9BF7-FA4B5597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12E6-73F3-4E27-BFEA-79B2F49A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0662-A8C8-465D-9BAD-A821E9C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218C-21F8-4F44-A2E2-0B4A56B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3F52-28EA-4891-88CD-0AABCF0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4D53-C98C-4701-BB9E-2D79B25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67F77-021D-4134-8D4F-44DDB10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5364-4C7A-4854-A731-7089FECF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83E-CCFE-42CC-BE75-BD8CF698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1D18-691B-4D18-A8CA-AE510AD6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8CE3-FA92-44B4-8EF8-AD673F1E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8C2B0-08F4-4726-ABE7-49AA6550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7868-ED6A-451B-864F-591054C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A43FF-E40D-4DBC-89C6-C5F702A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664B-9DF6-40A6-9944-F8E04A63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5799E-E4DE-402D-B97D-DEF84B22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0F55-06FC-4543-8954-1B03C65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9ED7-2561-4960-9BC7-B805417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1B25C-33EC-459D-A337-DDF5593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EB0-7BB2-40A5-AD6D-B960732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A49D-F5C8-40E1-BB9F-7AECB431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BF0DB-AA3F-45BB-B2BB-EB905C56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E7CC-3B55-4AC2-B5E1-2591178B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B8EAC-53D3-4FE7-97E1-F9312363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EBFD-AD25-4407-99E6-10BB520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D1C2-2C27-43DC-A800-CC5FAF1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37A4-B2F2-4222-A4FF-90115545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07272-C394-4ED0-8718-C53F33A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AE9D-BF14-4198-B573-5A92BD7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BE6E-30F7-4F9F-8F3D-354F2C9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FED-71AA-403C-9910-797B8E1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E58A-5E71-4DFF-902D-010CF2B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3D1C-DFA8-40CC-82A4-22874E1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9115-D464-4B46-A87A-1F308AE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61BA-2523-4B2F-8C11-7ADD5943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FEF6-3D3B-41C4-9992-79BCFB28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8B60-FEC2-4D97-AA9D-3D766C56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D949-F5E0-42B9-AD2C-C2F9D092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0732-92A6-4438-949C-CFF704E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D69D-5586-4CF7-B01E-11F26436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E808B-648B-4914-90F3-14886C0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661-C253-4217-80BC-966BD26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D7D6-7EC6-46A2-8959-21D842B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13E2-8B16-4B62-985B-6DE836F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C348A-6668-456A-A2FB-E590559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A923-30FD-4A6F-B3DC-6F653BBC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E47B-6C21-4367-ACA7-8531105D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2E20-4405-4222-876A-BB72AB7A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B6FAC-46C0-4336-AB06-0A399A6B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6CDC3-F5AB-43E0-9010-AC1CC038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0AE11-7CA4-4AAB-904C-4178606F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2AF11-319B-4CB2-BE2F-EFFE907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4F39-50A2-4DD0-B1E2-04CF175B52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6CD-0110-46CF-9503-BDB808AEF1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360B-A7B7-44AC-AD02-5505CABA16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DD3-0463-4850-B1D3-A71ADDA6B2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B9F-2D18-493D-8D40-F157385DC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6C4-8D25-41E0-9604-743A3F803C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05E-8646-4838-8E90-D2EC8CE545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5A71-D6E8-479D-B943-8EC72575BA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B1DD-4DD7-4111-BD02-B594DC321D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8.jpeg"/><Relationship Id="rId30" Type="http://schemas.openxmlformats.org/officeDocument/2006/relationships/image" Target="../media/image8.jpe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1.png"/><Relationship Id="rId42" Type="http://schemas.openxmlformats.org/officeDocument/2006/relationships/image" Target="../media/image12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3.png"/><Relationship Id="rId46" Type="http://schemas.openxmlformats.org/officeDocument/2006/relationships/image" Target="../media/image14.png"/><Relationship Id="rId47" Type="http://schemas.openxmlformats.org/officeDocument/2006/relationships/image" Target="../media/image11.png"/><Relationship Id="rId48" Type="http://schemas.openxmlformats.org/officeDocument/2006/relationships/image" Target="../media/image12.png"/><Relationship Id="rId49" Type="http://schemas.openxmlformats.org/officeDocument/2006/relationships/image" Target="../media/image13.png"/><Relationship Id="rId50" Type="http://schemas.openxmlformats.org/officeDocument/2006/relationships/image" Target="../media/image14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1.png"/><Relationship Id="rId56" Type="http://schemas.openxmlformats.org/officeDocument/2006/relationships/image" Target="../media/image12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11.png"/><Relationship Id="rId62" Type="http://schemas.openxmlformats.org/officeDocument/2006/relationships/image" Target="../media/image12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image" Target="../media/image11.png"/><Relationship Id="rId66" Type="http://schemas.openxmlformats.org/officeDocument/2006/relationships/image" Target="../media/image12.png"/><Relationship Id="rId67" Type="http://schemas.openxmlformats.org/officeDocument/2006/relationships/image" Target="../media/image13.png"/><Relationship Id="rId68" Type="http://schemas.openxmlformats.org/officeDocument/2006/relationships/image" Target="../media/image14.png"/><Relationship Id="rId69" Type="http://schemas.openxmlformats.org/officeDocument/2006/relationships/image" Target="../media/image11.png"/><Relationship Id="rId70" Type="http://schemas.openxmlformats.org/officeDocument/2006/relationships/image" Target="../media/image12.png"/><Relationship Id="rId71" Type="http://schemas.openxmlformats.org/officeDocument/2006/relationships/image" Target="../media/image13.png"/><Relationship Id="rId72" Type="http://schemas.openxmlformats.org/officeDocument/2006/relationships/image" Target="../media/image14.png"/><Relationship Id="rId73" Type="http://schemas.openxmlformats.org/officeDocument/2006/relationships/image" Target="../media/image11.png"/><Relationship Id="rId74" Type="http://schemas.openxmlformats.org/officeDocument/2006/relationships/image" Target="../media/image12.png"/><Relationship Id="rId75" Type="http://schemas.openxmlformats.org/officeDocument/2006/relationships/image" Target="../media/image14.png"/><Relationship Id="rId76" Type="http://schemas.openxmlformats.org/officeDocument/2006/relationships/image" Target="../media/image14.png"/><Relationship Id="rId77" Type="http://schemas.openxmlformats.org/officeDocument/2006/relationships/image" Target="../media/image11.png"/><Relationship Id="rId78" Type="http://schemas.openxmlformats.org/officeDocument/2006/relationships/image" Target="../media/image12.png"/><Relationship Id="rId79" Type="http://schemas.openxmlformats.org/officeDocument/2006/relationships/image" Target="../media/image15.png"/><Relationship Id="rId8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531440" y="380880"/>
            <a:ext cx="609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ешение зада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два дей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124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"/>
          <p:cNvGrpSpPr/>
          <p:nvPr/>
        </p:nvGrpSpPr>
        <p:grpSpPr>
          <a:xfrm>
            <a:off x="194040" y="1647720"/>
            <a:ext cx="1834920" cy="1397160"/>
            <a:chOff x="194040" y="1647720"/>
            <a:chExt cx="1834920" cy="1397160"/>
          </a:xfrm>
        </p:grpSpPr>
        <p:grpSp>
          <p:nvGrpSpPr>
            <p:cNvPr id="431" name="Group 5"/>
            <p:cNvGrpSpPr/>
            <p:nvPr/>
          </p:nvGrpSpPr>
          <p:grpSpPr>
            <a:xfrm>
              <a:off x="194040" y="1647720"/>
              <a:ext cx="1834920" cy="1397160"/>
              <a:chOff x="194040" y="1647720"/>
              <a:chExt cx="1834920" cy="1397160"/>
            </a:xfrm>
          </p:grpSpPr>
          <p:grpSp>
            <p:nvGrpSpPr>
              <p:cNvPr id="432" name="Group 6"/>
              <p:cNvGrpSpPr/>
              <p:nvPr/>
            </p:nvGrpSpPr>
            <p:grpSpPr>
              <a:xfrm>
                <a:off x="228600" y="1941480"/>
                <a:ext cx="1800360" cy="1103400"/>
                <a:chOff x="228600" y="1941480"/>
                <a:chExt cx="1800360" cy="1103400"/>
              </a:xfrm>
            </p:grpSpPr>
            <p:sp>
              <p:nvSpPr>
                <p:cNvPr id="433" name="AutoShape 7"/>
                <p:cNvSpPr/>
                <p:nvPr/>
              </p:nvSpPr>
              <p:spPr>
                <a:xfrm>
                  <a:off x="228600" y="1941480"/>
                  <a:ext cx="1800360" cy="11034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8"/>
                <p:cNvSpPr/>
                <p:nvPr/>
              </p:nvSpPr>
              <p:spPr>
                <a:xfrm>
                  <a:off x="1202760" y="1952640"/>
                  <a:ext cx="826200" cy="1086120"/>
                </a:xfrm>
                <a:custGeom>
                  <a:avLst/>
                  <a:gdLst>
                    <a:gd name="textAreaLeft" fmla="*/ 0 w 826200"/>
                    <a:gd name="textAreaRight" fmla="*/ 826560 w 826200"/>
                    <a:gd name="textAreaTop" fmla="*/ 0 h 1086120"/>
                    <a:gd name="textAreaBottom" fmla="*/ 1086480 h 108612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9"/>
              <p:cNvGrpSpPr/>
              <p:nvPr/>
            </p:nvGrpSpPr>
            <p:grpSpPr>
              <a:xfrm>
                <a:off x="1524600" y="1716480"/>
                <a:ext cx="477360" cy="470880"/>
                <a:chOff x="1524600" y="1716480"/>
                <a:chExt cx="477360" cy="470880"/>
              </a:xfrm>
            </p:grpSpPr>
            <p:sp>
              <p:nvSpPr>
                <p:cNvPr id="436" name="Freeform 10"/>
                <p:cNvSpPr/>
                <p:nvPr/>
              </p:nvSpPr>
              <p:spPr>
                <a:xfrm flipH="1" rot="19110000">
                  <a:off x="1575720" y="180324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1"/>
                <p:cNvSpPr/>
                <p:nvPr/>
              </p:nvSpPr>
              <p:spPr>
                <a:xfrm flipH="1" rot="19110000">
                  <a:off x="1674000" y="181800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2"/>
                <p:cNvSpPr/>
                <p:nvPr/>
              </p:nvSpPr>
              <p:spPr>
                <a:xfrm flipH="1" rot="19110000">
                  <a:off x="1658880" y="176904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13"/>
                <p:cNvGrpSpPr/>
                <p:nvPr/>
              </p:nvGrpSpPr>
              <p:grpSpPr>
                <a:xfrm>
                  <a:off x="1611720" y="1744920"/>
                  <a:ext cx="146160" cy="134640"/>
                  <a:chOff x="1611720" y="1744920"/>
                  <a:chExt cx="146160" cy="134640"/>
                </a:xfrm>
              </p:grpSpPr>
              <p:sp>
                <p:nvSpPr>
                  <p:cNvPr id="440" name="Freeform 14"/>
                  <p:cNvSpPr/>
                  <p:nvPr/>
                </p:nvSpPr>
                <p:spPr>
                  <a:xfrm flipH="1" rot="19110000">
                    <a:off x="1669680" y="174240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1" name="Group 15"/>
                  <p:cNvGrpSpPr/>
                  <p:nvPr/>
                </p:nvGrpSpPr>
                <p:grpSpPr>
                  <a:xfrm>
                    <a:off x="1611720" y="1746360"/>
                    <a:ext cx="146160" cy="133200"/>
                    <a:chOff x="1611720" y="1746360"/>
                    <a:chExt cx="146160" cy="133200"/>
                  </a:xfrm>
                </p:grpSpPr>
                <p:sp>
                  <p:nvSpPr>
                    <p:cNvPr id="442" name="Freeform 16"/>
                    <p:cNvSpPr/>
                    <p:nvPr/>
                  </p:nvSpPr>
                  <p:spPr>
                    <a:xfrm flipH="1" rot="19110000">
                      <a:off x="1683360" y="175608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Freeform 17"/>
                    <p:cNvSpPr/>
                    <p:nvPr/>
                  </p:nvSpPr>
                  <p:spPr>
                    <a:xfrm flipH="1" rot="19110000">
                      <a:off x="1630800" y="178668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4" name="Freeform 18"/>
                <p:cNvSpPr/>
                <p:nvPr/>
              </p:nvSpPr>
              <p:spPr>
                <a:xfrm flipH="1" rot="19110000">
                  <a:off x="1806120" y="205164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19"/>
              <p:cNvGrpSpPr/>
              <p:nvPr/>
            </p:nvGrpSpPr>
            <p:grpSpPr>
              <a:xfrm>
                <a:off x="1383120" y="1899360"/>
                <a:ext cx="477360" cy="470880"/>
                <a:chOff x="1383120" y="1899360"/>
                <a:chExt cx="477360" cy="470880"/>
              </a:xfrm>
            </p:grpSpPr>
            <p:sp>
              <p:nvSpPr>
                <p:cNvPr id="446" name="Freeform 20"/>
                <p:cNvSpPr/>
                <p:nvPr/>
              </p:nvSpPr>
              <p:spPr>
                <a:xfrm flipH="1" rot="19110000">
                  <a:off x="1434240" y="198612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1"/>
                <p:cNvSpPr/>
                <p:nvPr/>
              </p:nvSpPr>
              <p:spPr>
                <a:xfrm flipH="1" rot="19110000">
                  <a:off x="1532520" y="200088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2"/>
                <p:cNvSpPr/>
                <p:nvPr/>
              </p:nvSpPr>
              <p:spPr>
                <a:xfrm flipH="1" rot="19110000">
                  <a:off x="1517400" y="195192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23"/>
                <p:cNvGrpSpPr/>
                <p:nvPr/>
              </p:nvGrpSpPr>
              <p:grpSpPr>
                <a:xfrm>
                  <a:off x="1470240" y="1927800"/>
                  <a:ext cx="146160" cy="134640"/>
                  <a:chOff x="1470240" y="1927800"/>
                  <a:chExt cx="146160" cy="134640"/>
                </a:xfrm>
              </p:grpSpPr>
              <p:sp>
                <p:nvSpPr>
                  <p:cNvPr id="450" name="Freeform 24"/>
                  <p:cNvSpPr/>
                  <p:nvPr/>
                </p:nvSpPr>
                <p:spPr>
                  <a:xfrm flipH="1" rot="19110000">
                    <a:off x="1528200" y="192528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1" name="Group 25"/>
                  <p:cNvGrpSpPr/>
                  <p:nvPr/>
                </p:nvGrpSpPr>
                <p:grpSpPr>
                  <a:xfrm>
                    <a:off x="1470240" y="1929240"/>
                    <a:ext cx="146160" cy="133200"/>
                    <a:chOff x="1470240" y="1929240"/>
                    <a:chExt cx="146160" cy="133200"/>
                  </a:xfrm>
                </p:grpSpPr>
                <p:sp>
                  <p:nvSpPr>
                    <p:cNvPr id="452" name="Freeform 26"/>
                    <p:cNvSpPr/>
                    <p:nvPr/>
                  </p:nvSpPr>
                  <p:spPr>
                    <a:xfrm flipH="1" rot="19110000">
                      <a:off x="1541880" y="193896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27"/>
                    <p:cNvSpPr/>
                    <p:nvPr/>
                  </p:nvSpPr>
                  <p:spPr>
                    <a:xfrm flipH="1" rot="19110000">
                      <a:off x="1489320" y="196956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4" name="Freeform 28"/>
                <p:cNvSpPr/>
                <p:nvPr/>
              </p:nvSpPr>
              <p:spPr>
                <a:xfrm flipH="1" rot="19110000">
                  <a:off x="1664640" y="223452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29"/>
              <p:cNvGrpSpPr/>
              <p:nvPr/>
            </p:nvGrpSpPr>
            <p:grpSpPr>
              <a:xfrm>
                <a:off x="1206000" y="2025360"/>
                <a:ext cx="477360" cy="470880"/>
                <a:chOff x="1206000" y="2025360"/>
                <a:chExt cx="477360" cy="470880"/>
              </a:xfrm>
            </p:grpSpPr>
            <p:sp>
              <p:nvSpPr>
                <p:cNvPr id="456" name="Freeform 30"/>
                <p:cNvSpPr/>
                <p:nvPr/>
              </p:nvSpPr>
              <p:spPr>
                <a:xfrm flipH="1" rot="19110000">
                  <a:off x="1257120" y="211212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1"/>
                <p:cNvSpPr/>
                <p:nvPr/>
              </p:nvSpPr>
              <p:spPr>
                <a:xfrm flipH="1" rot="19110000">
                  <a:off x="1355400" y="212688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2"/>
                <p:cNvSpPr/>
                <p:nvPr/>
              </p:nvSpPr>
              <p:spPr>
                <a:xfrm flipH="1" rot="19110000">
                  <a:off x="1340280" y="207792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Group 33"/>
                <p:cNvGrpSpPr/>
                <p:nvPr/>
              </p:nvGrpSpPr>
              <p:grpSpPr>
                <a:xfrm>
                  <a:off x="1293120" y="2053800"/>
                  <a:ext cx="146160" cy="134640"/>
                  <a:chOff x="1293120" y="2053800"/>
                  <a:chExt cx="146160" cy="134640"/>
                </a:xfrm>
              </p:grpSpPr>
              <p:sp>
                <p:nvSpPr>
                  <p:cNvPr id="460" name="Freeform 34"/>
                  <p:cNvSpPr/>
                  <p:nvPr/>
                </p:nvSpPr>
                <p:spPr>
                  <a:xfrm flipH="1" rot="19110000">
                    <a:off x="1351080" y="205128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1" name="Group 35"/>
                  <p:cNvGrpSpPr/>
                  <p:nvPr/>
                </p:nvGrpSpPr>
                <p:grpSpPr>
                  <a:xfrm>
                    <a:off x="1293120" y="2055240"/>
                    <a:ext cx="146160" cy="133200"/>
                    <a:chOff x="1293120" y="2055240"/>
                    <a:chExt cx="146160" cy="133200"/>
                  </a:xfrm>
                </p:grpSpPr>
                <p:sp>
                  <p:nvSpPr>
                    <p:cNvPr id="462" name="Freeform 36"/>
                    <p:cNvSpPr/>
                    <p:nvPr/>
                  </p:nvSpPr>
                  <p:spPr>
                    <a:xfrm flipH="1" rot="19110000">
                      <a:off x="1364760" y="206496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37"/>
                    <p:cNvSpPr/>
                    <p:nvPr/>
                  </p:nvSpPr>
                  <p:spPr>
                    <a:xfrm flipH="1" rot="19110000">
                      <a:off x="1312200" y="209556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64" name="Freeform 38"/>
                <p:cNvSpPr/>
                <p:nvPr/>
              </p:nvSpPr>
              <p:spPr>
                <a:xfrm flipH="1" rot="19110000">
                  <a:off x="1487520" y="236052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39"/>
              <p:cNvGrpSpPr/>
              <p:nvPr/>
            </p:nvGrpSpPr>
            <p:grpSpPr>
              <a:xfrm>
                <a:off x="1005480" y="2276640"/>
                <a:ext cx="477360" cy="470880"/>
                <a:chOff x="1005480" y="2276640"/>
                <a:chExt cx="477360" cy="470880"/>
              </a:xfrm>
            </p:grpSpPr>
            <p:sp>
              <p:nvSpPr>
                <p:cNvPr id="466" name="Freeform 40"/>
                <p:cNvSpPr/>
                <p:nvPr/>
              </p:nvSpPr>
              <p:spPr>
                <a:xfrm flipH="1" rot="19110000">
                  <a:off x="1056600" y="236340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1"/>
                <p:cNvSpPr/>
                <p:nvPr/>
              </p:nvSpPr>
              <p:spPr>
                <a:xfrm flipH="1" rot="19110000">
                  <a:off x="1154880" y="237816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2"/>
                <p:cNvSpPr/>
                <p:nvPr/>
              </p:nvSpPr>
              <p:spPr>
                <a:xfrm flipH="1" rot="19110000">
                  <a:off x="1139760" y="232920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Group 43"/>
                <p:cNvGrpSpPr/>
                <p:nvPr/>
              </p:nvGrpSpPr>
              <p:grpSpPr>
                <a:xfrm>
                  <a:off x="1092600" y="2305080"/>
                  <a:ext cx="146160" cy="134640"/>
                  <a:chOff x="1092600" y="2305080"/>
                  <a:chExt cx="146160" cy="134640"/>
                </a:xfrm>
              </p:grpSpPr>
              <p:sp>
                <p:nvSpPr>
                  <p:cNvPr id="470" name="Freeform 44"/>
                  <p:cNvSpPr/>
                  <p:nvPr/>
                </p:nvSpPr>
                <p:spPr>
                  <a:xfrm flipH="1" rot="19110000">
                    <a:off x="1150560" y="230256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Group 45"/>
                  <p:cNvGrpSpPr/>
                  <p:nvPr/>
                </p:nvGrpSpPr>
                <p:grpSpPr>
                  <a:xfrm>
                    <a:off x="1092600" y="2306520"/>
                    <a:ext cx="146160" cy="133200"/>
                    <a:chOff x="1092600" y="2306520"/>
                    <a:chExt cx="146160" cy="133200"/>
                  </a:xfrm>
                </p:grpSpPr>
                <p:sp>
                  <p:nvSpPr>
                    <p:cNvPr id="472" name="Freeform 46"/>
                    <p:cNvSpPr/>
                    <p:nvPr/>
                  </p:nvSpPr>
                  <p:spPr>
                    <a:xfrm flipH="1" rot="19110000">
                      <a:off x="1164240" y="231624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47"/>
                    <p:cNvSpPr/>
                    <p:nvPr/>
                  </p:nvSpPr>
                  <p:spPr>
                    <a:xfrm flipH="1" rot="19110000">
                      <a:off x="1111680" y="234684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74" name="Freeform 48"/>
                <p:cNvSpPr/>
                <p:nvPr/>
              </p:nvSpPr>
              <p:spPr>
                <a:xfrm flipH="1" rot="19110000">
                  <a:off x="1287000" y="261180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49"/>
              <p:cNvGrpSpPr/>
              <p:nvPr/>
            </p:nvGrpSpPr>
            <p:grpSpPr>
              <a:xfrm>
                <a:off x="996120" y="1784520"/>
                <a:ext cx="477720" cy="470880"/>
                <a:chOff x="996120" y="1784520"/>
                <a:chExt cx="477720" cy="470880"/>
              </a:xfrm>
            </p:grpSpPr>
            <p:sp>
              <p:nvSpPr>
                <p:cNvPr id="476" name="Freeform 50"/>
                <p:cNvSpPr/>
                <p:nvPr/>
              </p:nvSpPr>
              <p:spPr>
                <a:xfrm rot="2490000">
                  <a:off x="1047600" y="18712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1"/>
                <p:cNvSpPr/>
                <p:nvPr/>
              </p:nvSpPr>
              <p:spPr>
                <a:xfrm rot="2490000">
                  <a:off x="1092600" y="18734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2"/>
                <p:cNvSpPr/>
                <p:nvPr/>
              </p:nvSpPr>
              <p:spPr>
                <a:xfrm rot="2490000">
                  <a:off x="1254240" y="18226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3"/>
                <p:cNvSpPr/>
                <p:nvPr/>
              </p:nvSpPr>
              <p:spPr>
                <a:xfrm rot="2490000">
                  <a:off x="1290600" y="18093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4"/>
                <p:cNvSpPr/>
                <p:nvPr/>
              </p:nvSpPr>
              <p:spPr>
                <a:xfrm rot="2490000">
                  <a:off x="1306440" y="18363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5"/>
                <p:cNvSpPr/>
                <p:nvPr/>
              </p:nvSpPr>
              <p:spPr>
                <a:xfrm rot="2490000">
                  <a:off x="1301400" y="18547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6"/>
                <p:cNvSpPr/>
                <p:nvPr/>
              </p:nvSpPr>
              <p:spPr>
                <a:xfrm rot="2490000">
                  <a:off x="1167480" y="21204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57"/>
              <p:cNvGrpSpPr/>
              <p:nvPr/>
            </p:nvGrpSpPr>
            <p:grpSpPr>
              <a:xfrm>
                <a:off x="830880" y="1979280"/>
                <a:ext cx="477720" cy="470880"/>
                <a:chOff x="830880" y="1979280"/>
                <a:chExt cx="477720" cy="470880"/>
              </a:xfrm>
            </p:grpSpPr>
            <p:sp>
              <p:nvSpPr>
                <p:cNvPr id="484" name="Freeform 58"/>
                <p:cNvSpPr/>
                <p:nvPr/>
              </p:nvSpPr>
              <p:spPr>
                <a:xfrm rot="2490000">
                  <a:off x="882360" y="206604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59"/>
                <p:cNvSpPr/>
                <p:nvPr/>
              </p:nvSpPr>
              <p:spPr>
                <a:xfrm rot="2490000">
                  <a:off x="927360" y="20682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60"/>
                <p:cNvSpPr/>
                <p:nvPr/>
              </p:nvSpPr>
              <p:spPr>
                <a:xfrm rot="2490000">
                  <a:off x="1089000" y="20174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61"/>
                <p:cNvSpPr/>
                <p:nvPr/>
              </p:nvSpPr>
              <p:spPr>
                <a:xfrm rot="2490000">
                  <a:off x="1125360" y="200412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62"/>
                <p:cNvSpPr/>
                <p:nvPr/>
              </p:nvSpPr>
              <p:spPr>
                <a:xfrm rot="2490000">
                  <a:off x="1141200" y="203112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3"/>
                <p:cNvSpPr/>
                <p:nvPr/>
              </p:nvSpPr>
              <p:spPr>
                <a:xfrm rot="2490000">
                  <a:off x="1136160" y="204948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4"/>
                <p:cNvSpPr/>
                <p:nvPr/>
              </p:nvSpPr>
              <p:spPr>
                <a:xfrm rot="2490000">
                  <a:off x="1002240" y="231516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65"/>
              <p:cNvGrpSpPr/>
              <p:nvPr/>
            </p:nvGrpSpPr>
            <p:grpSpPr>
              <a:xfrm>
                <a:off x="559440" y="2070720"/>
                <a:ext cx="477720" cy="470880"/>
                <a:chOff x="559440" y="2070720"/>
                <a:chExt cx="477720" cy="470880"/>
              </a:xfrm>
            </p:grpSpPr>
            <p:sp>
              <p:nvSpPr>
                <p:cNvPr id="492" name="Freeform 66"/>
                <p:cNvSpPr/>
                <p:nvPr/>
              </p:nvSpPr>
              <p:spPr>
                <a:xfrm rot="2490000">
                  <a:off x="610920" y="21574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67"/>
                <p:cNvSpPr/>
                <p:nvPr/>
              </p:nvSpPr>
              <p:spPr>
                <a:xfrm rot="2490000">
                  <a:off x="655920" y="21596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68"/>
                <p:cNvSpPr/>
                <p:nvPr/>
              </p:nvSpPr>
              <p:spPr>
                <a:xfrm rot="2490000">
                  <a:off x="817560" y="21088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69"/>
                <p:cNvSpPr/>
                <p:nvPr/>
              </p:nvSpPr>
              <p:spPr>
                <a:xfrm rot="2490000">
                  <a:off x="853920" y="20955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70"/>
                <p:cNvSpPr/>
                <p:nvPr/>
              </p:nvSpPr>
              <p:spPr>
                <a:xfrm rot="2490000">
                  <a:off x="869760" y="21225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71"/>
                <p:cNvSpPr/>
                <p:nvPr/>
              </p:nvSpPr>
              <p:spPr>
                <a:xfrm rot="2490000">
                  <a:off x="864720" y="21409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72"/>
                <p:cNvSpPr/>
                <p:nvPr/>
              </p:nvSpPr>
              <p:spPr>
                <a:xfrm rot="2490000">
                  <a:off x="730800" y="24066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73"/>
              <p:cNvGrpSpPr/>
              <p:nvPr/>
            </p:nvGrpSpPr>
            <p:grpSpPr>
              <a:xfrm>
                <a:off x="984960" y="1933920"/>
                <a:ext cx="477720" cy="470880"/>
                <a:chOff x="984960" y="1933920"/>
                <a:chExt cx="477720" cy="470880"/>
              </a:xfrm>
            </p:grpSpPr>
            <p:sp>
              <p:nvSpPr>
                <p:cNvPr id="500" name="Freeform 74"/>
                <p:cNvSpPr/>
                <p:nvPr/>
              </p:nvSpPr>
              <p:spPr>
                <a:xfrm rot="2490000">
                  <a:off x="1036440" y="20206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75"/>
                <p:cNvSpPr/>
                <p:nvPr/>
              </p:nvSpPr>
              <p:spPr>
                <a:xfrm rot="2490000">
                  <a:off x="1081440" y="20228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76"/>
                <p:cNvSpPr/>
                <p:nvPr/>
              </p:nvSpPr>
              <p:spPr>
                <a:xfrm rot="2490000">
                  <a:off x="1243080" y="19720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77"/>
                <p:cNvSpPr/>
                <p:nvPr/>
              </p:nvSpPr>
              <p:spPr>
                <a:xfrm rot="2490000">
                  <a:off x="1279440" y="19587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78"/>
                <p:cNvSpPr/>
                <p:nvPr/>
              </p:nvSpPr>
              <p:spPr>
                <a:xfrm rot="2490000">
                  <a:off x="1295280" y="19857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79"/>
                <p:cNvSpPr/>
                <p:nvPr/>
              </p:nvSpPr>
              <p:spPr>
                <a:xfrm rot="2490000">
                  <a:off x="1290240" y="20041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0"/>
                <p:cNvSpPr/>
                <p:nvPr/>
              </p:nvSpPr>
              <p:spPr>
                <a:xfrm rot="2490000">
                  <a:off x="1156320" y="22698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81"/>
              <p:cNvGrpSpPr/>
              <p:nvPr/>
            </p:nvGrpSpPr>
            <p:grpSpPr>
              <a:xfrm>
                <a:off x="750960" y="2385360"/>
                <a:ext cx="374760" cy="363240"/>
                <a:chOff x="750960" y="2385360"/>
                <a:chExt cx="374760" cy="363240"/>
              </a:xfrm>
            </p:grpSpPr>
            <p:sp>
              <p:nvSpPr>
                <p:cNvPr id="508" name="Freeform 82"/>
                <p:cNvSpPr/>
                <p:nvPr/>
              </p:nvSpPr>
              <p:spPr>
                <a:xfrm>
                  <a:off x="750960" y="245160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83"/>
                <p:cNvSpPr/>
                <p:nvPr/>
              </p:nvSpPr>
              <p:spPr>
                <a:xfrm>
                  <a:off x="768600" y="24894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84"/>
                <p:cNvSpPr/>
                <p:nvPr/>
              </p:nvSpPr>
              <p:spPr>
                <a:xfrm>
                  <a:off x="838800" y="24116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5"/>
                <p:cNvSpPr/>
                <p:nvPr/>
              </p:nvSpPr>
              <p:spPr>
                <a:xfrm>
                  <a:off x="867240" y="23853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6"/>
                <p:cNvSpPr/>
                <p:nvPr/>
              </p:nvSpPr>
              <p:spPr>
                <a:xfrm>
                  <a:off x="896040" y="239508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87"/>
                <p:cNvSpPr/>
                <p:nvPr/>
              </p:nvSpPr>
              <p:spPr>
                <a:xfrm>
                  <a:off x="898200" y="240156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88"/>
                <p:cNvSpPr/>
                <p:nvPr/>
              </p:nvSpPr>
              <p:spPr>
                <a:xfrm>
                  <a:off x="955800" y="270972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89"/>
              <p:cNvGrpSpPr/>
              <p:nvPr/>
            </p:nvGrpSpPr>
            <p:grpSpPr>
              <a:xfrm>
                <a:off x="194040" y="2368440"/>
                <a:ext cx="477720" cy="470880"/>
                <a:chOff x="194040" y="2368440"/>
                <a:chExt cx="477720" cy="470880"/>
              </a:xfrm>
            </p:grpSpPr>
            <p:sp>
              <p:nvSpPr>
                <p:cNvPr id="516" name="Freeform 90"/>
                <p:cNvSpPr/>
                <p:nvPr/>
              </p:nvSpPr>
              <p:spPr>
                <a:xfrm rot="2490000">
                  <a:off x="245520" y="245520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91"/>
                <p:cNvSpPr/>
                <p:nvPr/>
              </p:nvSpPr>
              <p:spPr>
                <a:xfrm rot="2490000">
                  <a:off x="290520" y="245736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92"/>
                <p:cNvSpPr/>
                <p:nvPr/>
              </p:nvSpPr>
              <p:spPr>
                <a:xfrm rot="2490000">
                  <a:off x="452160" y="240660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93"/>
                <p:cNvSpPr/>
                <p:nvPr/>
              </p:nvSpPr>
              <p:spPr>
                <a:xfrm rot="2490000">
                  <a:off x="488520" y="239328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94"/>
                <p:cNvSpPr/>
                <p:nvPr/>
              </p:nvSpPr>
              <p:spPr>
                <a:xfrm rot="2490000">
                  <a:off x="504360" y="242028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95"/>
                <p:cNvSpPr/>
                <p:nvPr/>
              </p:nvSpPr>
              <p:spPr>
                <a:xfrm rot="2490000">
                  <a:off x="499320" y="243864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96"/>
                <p:cNvSpPr/>
                <p:nvPr/>
              </p:nvSpPr>
              <p:spPr>
                <a:xfrm rot="2490000">
                  <a:off x="365400" y="270432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97"/>
              <p:cNvGrpSpPr/>
              <p:nvPr/>
            </p:nvGrpSpPr>
            <p:grpSpPr>
              <a:xfrm>
                <a:off x="1244160" y="1647720"/>
                <a:ext cx="477720" cy="470880"/>
                <a:chOff x="1244160" y="1647720"/>
                <a:chExt cx="477720" cy="470880"/>
              </a:xfrm>
            </p:grpSpPr>
            <p:sp>
              <p:nvSpPr>
                <p:cNvPr id="524" name="Freeform 98"/>
                <p:cNvSpPr/>
                <p:nvPr/>
              </p:nvSpPr>
              <p:spPr>
                <a:xfrm rot="2490000">
                  <a:off x="1295640" y="17344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99"/>
                <p:cNvSpPr/>
                <p:nvPr/>
              </p:nvSpPr>
              <p:spPr>
                <a:xfrm rot="2490000">
                  <a:off x="1340640" y="17366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00"/>
                <p:cNvSpPr/>
                <p:nvPr/>
              </p:nvSpPr>
              <p:spPr>
                <a:xfrm rot="2490000">
                  <a:off x="1502280" y="16858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01"/>
                <p:cNvSpPr/>
                <p:nvPr/>
              </p:nvSpPr>
              <p:spPr>
                <a:xfrm rot="2490000">
                  <a:off x="1538640" y="16725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02"/>
                <p:cNvSpPr/>
                <p:nvPr/>
              </p:nvSpPr>
              <p:spPr>
                <a:xfrm rot="2490000">
                  <a:off x="1554480" y="16995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03"/>
                <p:cNvSpPr/>
                <p:nvPr/>
              </p:nvSpPr>
              <p:spPr>
                <a:xfrm rot="2490000">
                  <a:off x="1549440" y="17179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04"/>
                <p:cNvSpPr/>
                <p:nvPr/>
              </p:nvSpPr>
              <p:spPr>
                <a:xfrm rot="2490000">
                  <a:off x="1415520" y="19836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105"/>
              <p:cNvGrpSpPr/>
              <p:nvPr/>
            </p:nvGrpSpPr>
            <p:grpSpPr>
              <a:xfrm>
                <a:off x="465480" y="2323080"/>
                <a:ext cx="477720" cy="470880"/>
                <a:chOff x="465480" y="2323080"/>
                <a:chExt cx="477720" cy="470880"/>
              </a:xfrm>
            </p:grpSpPr>
            <p:sp>
              <p:nvSpPr>
                <p:cNvPr id="532" name="Freeform 106"/>
                <p:cNvSpPr/>
                <p:nvPr/>
              </p:nvSpPr>
              <p:spPr>
                <a:xfrm rot="2490000">
                  <a:off x="516960" y="240984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07"/>
                <p:cNvSpPr/>
                <p:nvPr/>
              </p:nvSpPr>
              <p:spPr>
                <a:xfrm rot="2490000">
                  <a:off x="561960" y="24120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08"/>
                <p:cNvSpPr/>
                <p:nvPr/>
              </p:nvSpPr>
              <p:spPr>
                <a:xfrm rot="2490000">
                  <a:off x="723600" y="23612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09"/>
                <p:cNvSpPr/>
                <p:nvPr/>
              </p:nvSpPr>
              <p:spPr>
                <a:xfrm rot="2490000">
                  <a:off x="759960" y="234792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10"/>
                <p:cNvSpPr/>
                <p:nvPr/>
              </p:nvSpPr>
              <p:spPr>
                <a:xfrm rot="2490000">
                  <a:off x="775800" y="237492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1"/>
                <p:cNvSpPr/>
                <p:nvPr/>
              </p:nvSpPr>
              <p:spPr>
                <a:xfrm rot="2490000">
                  <a:off x="770760" y="239328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2"/>
                <p:cNvSpPr/>
                <p:nvPr/>
              </p:nvSpPr>
              <p:spPr>
                <a:xfrm rot="2490000">
                  <a:off x="636840" y="265896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113"/>
              <p:cNvGrpSpPr/>
              <p:nvPr/>
            </p:nvGrpSpPr>
            <p:grpSpPr>
              <a:xfrm>
                <a:off x="807480" y="1784520"/>
                <a:ext cx="477720" cy="470880"/>
                <a:chOff x="807480" y="1784520"/>
                <a:chExt cx="477720" cy="470880"/>
              </a:xfrm>
            </p:grpSpPr>
            <p:sp>
              <p:nvSpPr>
                <p:cNvPr id="540" name="Freeform 114"/>
                <p:cNvSpPr/>
                <p:nvPr/>
              </p:nvSpPr>
              <p:spPr>
                <a:xfrm rot="2490000">
                  <a:off x="858960" y="18712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15"/>
                <p:cNvSpPr/>
                <p:nvPr/>
              </p:nvSpPr>
              <p:spPr>
                <a:xfrm rot="2490000">
                  <a:off x="903960" y="18734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6"/>
                <p:cNvSpPr/>
                <p:nvPr/>
              </p:nvSpPr>
              <p:spPr>
                <a:xfrm rot="2490000">
                  <a:off x="1065600" y="18226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17"/>
                <p:cNvSpPr/>
                <p:nvPr/>
              </p:nvSpPr>
              <p:spPr>
                <a:xfrm rot="2490000">
                  <a:off x="1101960" y="18093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8"/>
                <p:cNvSpPr/>
                <p:nvPr/>
              </p:nvSpPr>
              <p:spPr>
                <a:xfrm rot="2490000">
                  <a:off x="1117800" y="18363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9"/>
                <p:cNvSpPr/>
                <p:nvPr/>
              </p:nvSpPr>
              <p:spPr>
                <a:xfrm rot="2490000">
                  <a:off x="1112760" y="18547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20"/>
                <p:cNvSpPr/>
                <p:nvPr/>
              </p:nvSpPr>
              <p:spPr>
                <a:xfrm rot="2490000">
                  <a:off x="978840" y="21204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121"/>
              <p:cNvGrpSpPr/>
              <p:nvPr/>
            </p:nvGrpSpPr>
            <p:grpSpPr>
              <a:xfrm>
                <a:off x="807480" y="2162160"/>
                <a:ext cx="477720" cy="470880"/>
                <a:chOff x="807480" y="2162160"/>
                <a:chExt cx="477720" cy="470880"/>
              </a:xfrm>
            </p:grpSpPr>
            <p:sp>
              <p:nvSpPr>
                <p:cNvPr id="548" name="Freeform 122"/>
                <p:cNvSpPr/>
                <p:nvPr/>
              </p:nvSpPr>
              <p:spPr>
                <a:xfrm rot="2490000">
                  <a:off x="858960" y="224892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23"/>
                <p:cNvSpPr/>
                <p:nvPr/>
              </p:nvSpPr>
              <p:spPr>
                <a:xfrm rot="2490000">
                  <a:off x="903960" y="225108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24"/>
                <p:cNvSpPr/>
                <p:nvPr/>
              </p:nvSpPr>
              <p:spPr>
                <a:xfrm rot="2490000">
                  <a:off x="1065600" y="220032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25"/>
                <p:cNvSpPr/>
                <p:nvPr/>
              </p:nvSpPr>
              <p:spPr>
                <a:xfrm rot="2490000">
                  <a:off x="1101960" y="218700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26"/>
                <p:cNvSpPr/>
                <p:nvPr/>
              </p:nvSpPr>
              <p:spPr>
                <a:xfrm rot="2490000">
                  <a:off x="1117800" y="221400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27"/>
                <p:cNvSpPr/>
                <p:nvPr/>
              </p:nvSpPr>
              <p:spPr>
                <a:xfrm rot="2490000">
                  <a:off x="1112760" y="223236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28"/>
                <p:cNvSpPr/>
                <p:nvPr/>
              </p:nvSpPr>
              <p:spPr>
                <a:xfrm rot="2490000">
                  <a:off x="978840" y="249804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" name="Group 129"/>
            <p:cNvGrpSpPr/>
            <p:nvPr/>
          </p:nvGrpSpPr>
          <p:grpSpPr>
            <a:xfrm>
              <a:off x="235800" y="2003760"/>
              <a:ext cx="1793160" cy="1005120"/>
              <a:chOff x="235800" y="2003760"/>
              <a:chExt cx="1793160" cy="1005120"/>
            </a:xfrm>
          </p:grpSpPr>
          <p:sp>
            <p:nvSpPr>
              <p:cNvPr id="556" name="Freeform 130"/>
              <p:cNvSpPr/>
              <p:nvPr/>
            </p:nvSpPr>
            <p:spPr>
              <a:xfrm>
                <a:off x="235800" y="2926800"/>
                <a:ext cx="960480" cy="2988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1"/>
              <p:cNvSpPr/>
              <p:nvPr/>
            </p:nvSpPr>
            <p:spPr>
              <a:xfrm>
                <a:off x="235800" y="2832480"/>
                <a:ext cx="960480" cy="2124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2"/>
              <p:cNvSpPr/>
              <p:nvPr/>
            </p:nvSpPr>
            <p:spPr>
              <a:xfrm>
                <a:off x="1207440" y="2026440"/>
                <a:ext cx="821520" cy="827280"/>
              </a:xfrm>
              <a:custGeom>
                <a:avLst/>
                <a:gdLst>
                  <a:gd name="textAreaLeft" fmla="*/ 0 w 821520"/>
                  <a:gd name="textAreaRight" fmla="*/ 821880 w 821520"/>
                  <a:gd name="textAreaTop" fmla="*/ 0 h 827280"/>
                  <a:gd name="textAreaBottom" fmla="*/ 827640 h 82728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133"/>
              <p:cNvSpPr/>
              <p:nvPr/>
            </p:nvSpPr>
            <p:spPr>
              <a:xfrm>
                <a:off x="253440" y="279252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34"/>
              <p:cNvSpPr/>
              <p:nvPr/>
            </p:nvSpPr>
            <p:spPr>
              <a:xfrm>
                <a:off x="1152360" y="27795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35"/>
              <p:cNvSpPr/>
              <p:nvPr/>
            </p:nvSpPr>
            <p:spPr>
              <a:xfrm>
                <a:off x="1156680" y="28868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36"/>
              <p:cNvSpPr/>
              <p:nvPr/>
            </p:nvSpPr>
            <p:spPr>
              <a:xfrm>
                <a:off x="1156680" y="29811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137"/>
              <p:cNvSpPr/>
              <p:nvPr/>
            </p:nvSpPr>
            <p:spPr>
              <a:xfrm>
                <a:off x="252360" y="2877480"/>
                <a:ext cx="198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138"/>
              <p:cNvSpPr/>
              <p:nvPr/>
            </p:nvSpPr>
            <p:spPr>
              <a:xfrm>
                <a:off x="261360" y="2989080"/>
                <a:ext cx="198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139"/>
              <p:cNvSpPr/>
              <p:nvPr/>
            </p:nvSpPr>
            <p:spPr>
              <a:xfrm>
                <a:off x="1209960" y="27752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140"/>
              <p:cNvSpPr/>
              <p:nvPr/>
            </p:nvSpPr>
            <p:spPr>
              <a:xfrm>
                <a:off x="1209960" y="28911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141"/>
              <p:cNvSpPr/>
              <p:nvPr/>
            </p:nvSpPr>
            <p:spPr>
              <a:xfrm>
                <a:off x="1209960" y="296820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142"/>
              <p:cNvSpPr/>
              <p:nvPr/>
            </p:nvSpPr>
            <p:spPr>
              <a:xfrm>
                <a:off x="2002320" y="21920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143"/>
              <p:cNvSpPr/>
              <p:nvPr/>
            </p:nvSpPr>
            <p:spPr>
              <a:xfrm>
                <a:off x="2002320" y="21063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144"/>
              <p:cNvSpPr/>
              <p:nvPr/>
            </p:nvSpPr>
            <p:spPr>
              <a:xfrm>
                <a:off x="2002320" y="20037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45"/>
              <p:cNvSpPr/>
              <p:nvPr/>
            </p:nvSpPr>
            <p:spPr>
              <a:xfrm>
                <a:off x="1205280" y="2133360"/>
                <a:ext cx="823680" cy="822960"/>
              </a:xfrm>
              <a:custGeom>
                <a:avLst/>
                <a:gdLst>
                  <a:gd name="textAreaLeft" fmla="*/ 0 w 823680"/>
                  <a:gd name="textAreaRight" fmla="*/ 824040 w 823680"/>
                  <a:gd name="textAreaTop" fmla="*/ 0 h 822960"/>
                  <a:gd name="textAreaBottom" fmla="*/ 823320 h 82296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Group 146"/>
          <p:cNvGrpSpPr/>
          <p:nvPr/>
        </p:nvGrpSpPr>
        <p:grpSpPr>
          <a:xfrm>
            <a:off x="270360" y="3476520"/>
            <a:ext cx="1834560" cy="1397160"/>
            <a:chOff x="270360" y="3476520"/>
            <a:chExt cx="1834560" cy="1397160"/>
          </a:xfrm>
        </p:grpSpPr>
        <p:grpSp>
          <p:nvGrpSpPr>
            <p:cNvPr id="573" name="Group 147"/>
            <p:cNvGrpSpPr/>
            <p:nvPr/>
          </p:nvGrpSpPr>
          <p:grpSpPr>
            <a:xfrm>
              <a:off x="270360" y="3476520"/>
              <a:ext cx="1834560" cy="1397160"/>
              <a:chOff x="270360" y="3476520"/>
              <a:chExt cx="1834560" cy="1397160"/>
            </a:xfrm>
          </p:grpSpPr>
          <p:grpSp>
            <p:nvGrpSpPr>
              <p:cNvPr id="574" name="Group 148"/>
              <p:cNvGrpSpPr/>
              <p:nvPr/>
            </p:nvGrpSpPr>
            <p:grpSpPr>
              <a:xfrm>
                <a:off x="304920" y="3770280"/>
                <a:ext cx="1800000" cy="1103400"/>
                <a:chOff x="304920" y="3770280"/>
                <a:chExt cx="1800000" cy="1103400"/>
              </a:xfrm>
            </p:grpSpPr>
            <p:sp>
              <p:nvSpPr>
                <p:cNvPr id="575" name="AutoShape 149"/>
                <p:cNvSpPr/>
                <p:nvPr/>
              </p:nvSpPr>
              <p:spPr>
                <a:xfrm>
                  <a:off x="304920" y="3770280"/>
                  <a:ext cx="1800000" cy="11034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50"/>
                <p:cNvSpPr/>
                <p:nvPr/>
              </p:nvSpPr>
              <p:spPr>
                <a:xfrm>
                  <a:off x="1278720" y="3781440"/>
                  <a:ext cx="826200" cy="1086120"/>
                </a:xfrm>
                <a:custGeom>
                  <a:avLst/>
                  <a:gdLst>
                    <a:gd name="textAreaLeft" fmla="*/ 0 w 826200"/>
                    <a:gd name="textAreaRight" fmla="*/ 826560 w 826200"/>
                    <a:gd name="textAreaTop" fmla="*/ 0 h 1086120"/>
                    <a:gd name="textAreaBottom" fmla="*/ 1086480 h 108612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151"/>
              <p:cNvGrpSpPr/>
              <p:nvPr/>
            </p:nvGrpSpPr>
            <p:grpSpPr>
              <a:xfrm>
                <a:off x="1600920" y="3545280"/>
                <a:ext cx="477360" cy="470880"/>
                <a:chOff x="1600920" y="3545280"/>
                <a:chExt cx="477360" cy="470880"/>
              </a:xfrm>
            </p:grpSpPr>
            <p:sp>
              <p:nvSpPr>
                <p:cNvPr id="578" name="Freeform 152"/>
                <p:cNvSpPr/>
                <p:nvPr/>
              </p:nvSpPr>
              <p:spPr>
                <a:xfrm flipH="1" rot="19110000">
                  <a:off x="1652040" y="363204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153"/>
                <p:cNvSpPr/>
                <p:nvPr/>
              </p:nvSpPr>
              <p:spPr>
                <a:xfrm flipH="1" rot="19110000">
                  <a:off x="1750320" y="364680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54"/>
                <p:cNvSpPr/>
                <p:nvPr/>
              </p:nvSpPr>
              <p:spPr>
                <a:xfrm flipH="1" rot="19110000">
                  <a:off x="1735200" y="359784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1" name="Group 155"/>
                <p:cNvGrpSpPr/>
                <p:nvPr/>
              </p:nvGrpSpPr>
              <p:grpSpPr>
                <a:xfrm>
                  <a:off x="1688040" y="3573720"/>
                  <a:ext cx="146160" cy="134640"/>
                  <a:chOff x="1688040" y="3573720"/>
                  <a:chExt cx="146160" cy="134640"/>
                </a:xfrm>
              </p:grpSpPr>
              <p:sp>
                <p:nvSpPr>
                  <p:cNvPr id="582" name="Freeform 156"/>
                  <p:cNvSpPr/>
                  <p:nvPr/>
                </p:nvSpPr>
                <p:spPr>
                  <a:xfrm flipH="1" rot="19110000">
                    <a:off x="1746000" y="357120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3" name="Group 157"/>
                  <p:cNvGrpSpPr/>
                  <p:nvPr/>
                </p:nvGrpSpPr>
                <p:grpSpPr>
                  <a:xfrm>
                    <a:off x="1688040" y="3575160"/>
                    <a:ext cx="146160" cy="133200"/>
                    <a:chOff x="1688040" y="3575160"/>
                    <a:chExt cx="146160" cy="133200"/>
                  </a:xfrm>
                </p:grpSpPr>
                <p:sp>
                  <p:nvSpPr>
                    <p:cNvPr id="584" name="Freeform 158"/>
                    <p:cNvSpPr/>
                    <p:nvPr/>
                  </p:nvSpPr>
                  <p:spPr>
                    <a:xfrm flipH="1" rot="19110000">
                      <a:off x="1759680" y="358488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Freeform 159"/>
                    <p:cNvSpPr/>
                    <p:nvPr/>
                  </p:nvSpPr>
                  <p:spPr>
                    <a:xfrm flipH="1" rot="19110000">
                      <a:off x="1707120" y="361548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6" name="Freeform 160"/>
                <p:cNvSpPr/>
                <p:nvPr/>
              </p:nvSpPr>
              <p:spPr>
                <a:xfrm flipH="1" rot="19110000">
                  <a:off x="1882440" y="388044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161"/>
              <p:cNvGrpSpPr/>
              <p:nvPr/>
            </p:nvGrpSpPr>
            <p:grpSpPr>
              <a:xfrm>
                <a:off x="1459080" y="3728160"/>
                <a:ext cx="477360" cy="470880"/>
                <a:chOff x="1459080" y="3728160"/>
                <a:chExt cx="477360" cy="470880"/>
              </a:xfrm>
            </p:grpSpPr>
            <p:sp>
              <p:nvSpPr>
                <p:cNvPr id="588" name="Freeform 162"/>
                <p:cNvSpPr/>
                <p:nvPr/>
              </p:nvSpPr>
              <p:spPr>
                <a:xfrm flipH="1" rot="19110000">
                  <a:off x="1510200" y="381492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63"/>
                <p:cNvSpPr/>
                <p:nvPr/>
              </p:nvSpPr>
              <p:spPr>
                <a:xfrm flipH="1" rot="19110000">
                  <a:off x="1608480" y="382968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64"/>
                <p:cNvSpPr/>
                <p:nvPr/>
              </p:nvSpPr>
              <p:spPr>
                <a:xfrm flipH="1" rot="19110000">
                  <a:off x="1593360" y="378072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" name="Group 165"/>
                <p:cNvGrpSpPr/>
                <p:nvPr/>
              </p:nvGrpSpPr>
              <p:grpSpPr>
                <a:xfrm>
                  <a:off x="1546200" y="3756600"/>
                  <a:ext cx="146160" cy="134640"/>
                  <a:chOff x="1546200" y="3756600"/>
                  <a:chExt cx="146160" cy="134640"/>
                </a:xfrm>
              </p:grpSpPr>
              <p:sp>
                <p:nvSpPr>
                  <p:cNvPr id="592" name="Freeform 166"/>
                  <p:cNvSpPr/>
                  <p:nvPr/>
                </p:nvSpPr>
                <p:spPr>
                  <a:xfrm flipH="1" rot="19110000">
                    <a:off x="1604160" y="375408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3" name="Group 167"/>
                  <p:cNvGrpSpPr/>
                  <p:nvPr/>
                </p:nvGrpSpPr>
                <p:grpSpPr>
                  <a:xfrm>
                    <a:off x="1546200" y="3758040"/>
                    <a:ext cx="146160" cy="133200"/>
                    <a:chOff x="1546200" y="3758040"/>
                    <a:chExt cx="146160" cy="133200"/>
                  </a:xfrm>
                </p:grpSpPr>
                <p:sp>
                  <p:nvSpPr>
                    <p:cNvPr id="594" name="Freeform 168"/>
                    <p:cNvSpPr/>
                    <p:nvPr/>
                  </p:nvSpPr>
                  <p:spPr>
                    <a:xfrm flipH="1" rot="19110000">
                      <a:off x="1617840" y="376776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169"/>
                    <p:cNvSpPr/>
                    <p:nvPr/>
                  </p:nvSpPr>
                  <p:spPr>
                    <a:xfrm flipH="1" rot="19110000">
                      <a:off x="1565280" y="379836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6" name="Freeform 170"/>
                <p:cNvSpPr/>
                <p:nvPr/>
              </p:nvSpPr>
              <p:spPr>
                <a:xfrm flipH="1" rot="19110000">
                  <a:off x="1740600" y="406332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171"/>
              <p:cNvGrpSpPr/>
              <p:nvPr/>
            </p:nvGrpSpPr>
            <p:grpSpPr>
              <a:xfrm>
                <a:off x="1281960" y="3854160"/>
                <a:ext cx="477360" cy="470880"/>
                <a:chOff x="1281960" y="3854160"/>
                <a:chExt cx="477360" cy="470880"/>
              </a:xfrm>
            </p:grpSpPr>
            <p:sp>
              <p:nvSpPr>
                <p:cNvPr id="598" name="Freeform 172"/>
                <p:cNvSpPr/>
                <p:nvPr/>
              </p:nvSpPr>
              <p:spPr>
                <a:xfrm flipH="1" rot="19110000">
                  <a:off x="1333080" y="394092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73"/>
                <p:cNvSpPr/>
                <p:nvPr/>
              </p:nvSpPr>
              <p:spPr>
                <a:xfrm flipH="1" rot="19110000">
                  <a:off x="1431360" y="395568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3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74"/>
                <p:cNvSpPr/>
                <p:nvPr/>
              </p:nvSpPr>
              <p:spPr>
                <a:xfrm flipH="1" rot="19110000">
                  <a:off x="1416240" y="390672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1" name="Group 175"/>
                <p:cNvGrpSpPr/>
                <p:nvPr/>
              </p:nvGrpSpPr>
              <p:grpSpPr>
                <a:xfrm>
                  <a:off x="1369080" y="3882600"/>
                  <a:ext cx="146160" cy="134640"/>
                  <a:chOff x="1369080" y="3882600"/>
                  <a:chExt cx="146160" cy="134640"/>
                </a:xfrm>
              </p:grpSpPr>
              <p:sp>
                <p:nvSpPr>
                  <p:cNvPr id="602" name="Freeform 176"/>
                  <p:cNvSpPr/>
                  <p:nvPr/>
                </p:nvSpPr>
                <p:spPr>
                  <a:xfrm flipH="1" rot="19110000">
                    <a:off x="1427040" y="388008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3" name="Group 177"/>
                  <p:cNvGrpSpPr/>
                  <p:nvPr/>
                </p:nvGrpSpPr>
                <p:grpSpPr>
                  <a:xfrm>
                    <a:off x="1369080" y="3884040"/>
                    <a:ext cx="146160" cy="133200"/>
                    <a:chOff x="1369080" y="3884040"/>
                    <a:chExt cx="146160" cy="133200"/>
                  </a:xfrm>
                </p:grpSpPr>
                <p:sp>
                  <p:nvSpPr>
                    <p:cNvPr id="604" name="Freeform 178"/>
                    <p:cNvSpPr/>
                    <p:nvPr/>
                  </p:nvSpPr>
                  <p:spPr>
                    <a:xfrm flipH="1" rot="19110000">
                      <a:off x="1440720" y="389376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Freeform 179"/>
                    <p:cNvSpPr/>
                    <p:nvPr/>
                  </p:nvSpPr>
                  <p:spPr>
                    <a:xfrm flipH="1" rot="19110000">
                      <a:off x="1388160" y="392436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6" name="Freeform 180"/>
                <p:cNvSpPr/>
                <p:nvPr/>
              </p:nvSpPr>
              <p:spPr>
                <a:xfrm flipH="1" rot="19110000">
                  <a:off x="1563480" y="418932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181"/>
              <p:cNvGrpSpPr/>
              <p:nvPr/>
            </p:nvGrpSpPr>
            <p:grpSpPr>
              <a:xfrm>
                <a:off x="1081440" y="4105440"/>
                <a:ext cx="477360" cy="470880"/>
                <a:chOff x="1081440" y="4105440"/>
                <a:chExt cx="477360" cy="470880"/>
              </a:xfrm>
            </p:grpSpPr>
            <p:sp>
              <p:nvSpPr>
                <p:cNvPr id="608" name="Freeform 182"/>
                <p:cNvSpPr/>
                <p:nvPr/>
              </p:nvSpPr>
              <p:spPr>
                <a:xfrm flipH="1" rot="19110000">
                  <a:off x="1132560" y="4192200"/>
                  <a:ext cx="374760" cy="297000"/>
                </a:xfrm>
                <a:custGeom>
                  <a:avLst/>
                  <a:gdLst>
                    <a:gd name="textAreaLeft" fmla="*/ -360 w 374760"/>
                    <a:gd name="textAreaRight" fmla="*/ 37476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83"/>
                <p:cNvSpPr/>
                <p:nvPr/>
              </p:nvSpPr>
              <p:spPr>
                <a:xfrm flipH="1" rot="19110000">
                  <a:off x="1230840" y="4206960"/>
                  <a:ext cx="218160" cy="183960"/>
                </a:xfrm>
                <a:custGeom>
                  <a:avLst/>
                  <a:gdLst>
                    <a:gd name="textAreaLeft" fmla="*/ 360 w 218160"/>
                    <a:gd name="textAreaRight" fmla="*/ 218880 w 21816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3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84"/>
                <p:cNvSpPr/>
                <p:nvPr/>
              </p:nvSpPr>
              <p:spPr>
                <a:xfrm flipH="1" rot="19110000">
                  <a:off x="1215720" y="4158000"/>
                  <a:ext cx="28440" cy="87840"/>
                </a:xfrm>
                <a:custGeom>
                  <a:avLst/>
                  <a:gdLst>
                    <a:gd name="textAreaLeft" fmla="*/ -360 w 28440"/>
                    <a:gd name="textAreaRight" fmla="*/ 28440 w 28440"/>
                    <a:gd name="textAreaTop" fmla="*/ 0 h 87840"/>
                    <a:gd name="textAreaBottom" fmla="*/ 88200 h 8784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1" name="Group 185"/>
                <p:cNvGrpSpPr/>
                <p:nvPr/>
              </p:nvGrpSpPr>
              <p:grpSpPr>
                <a:xfrm>
                  <a:off x="1168560" y="4133880"/>
                  <a:ext cx="146160" cy="134640"/>
                  <a:chOff x="1168560" y="4133880"/>
                  <a:chExt cx="146160" cy="134640"/>
                </a:xfrm>
              </p:grpSpPr>
              <p:sp>
                <p:nvSpPr>
                  <p:cNvPr id="612" name="Freeform 186"/>
                  <p:cNvSpPr/>
                  <p:nvPr/>
                </p:nvSpPr>
                <p:spPr>
                  <a:xfrm flipH="1" rot="19110000">
                    <a:off x="1226520" y="4131360"/>
                    <a:ext cx="27360" cy="90720"/>
                  </a:xfrm>
                  <a:custGeom>
                    <a:avLst/>
                    <a:gdLst>
                      <a:gd name="textAreaLeft" fmla="*/ 360 w 27360"/>
                      <a:gd name="textAreaRight" fmla="*/ 28080 w 27360"/>
                      <a:gd name="textAreaTop" fmla="*/ 0 h 90720"/>
                      <a:gd name="textAreaBottom" fmla="*/ 91080 h 90720"/>
                    </a:gdLst>
                    <a:ahLst/>
                    <a:rect l="textAreaLeft" t="textAreaTop" r="textAreaRight" b="textAreaBottom"/>
                    <a:pathLst>
                      <a:path w="37" h="127">
                        <a:moveTo>
                          <a:pt x="37" y="127"/>
                        </a:moveTo>
                        <a:lnTo>
                          <a:pt x="0" y="46"/>
                        </a:lnTo>
                        <a:lnTo>
                          <a:pt x="16" y="0"/>
                        </a:lnTo>
                        <a:lnTo>
                          <a:pt x="19" y="32"/>
                        </a:lnTo>
                        <a:lnTo>
                          <a:pt x="37" y="1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3" name="Group 187"/>
                  <p:cNvGrpSpPr/>
                  <p:nvPr/>
                </p:nvGrpSpPr>
                <p:grpSpPr>
                  <a:xfrm>
                    <a:off x="1168560" y="4135320"/>
                    <a:ext cx="146160" cy="133200"/>
                    <a:chOff x="1168560" y="4135320"/>
                    <a:chExt cx="146160" cy="133200"/>
                  </a:xfrm>
                </p:grpSpPr>
                <p:sp>
                  <p:nvSpPr>
                    <p:cNvPr id="614" name="Freeform 188"/>
                    <p:cNvSpPr/>
                    <p:nvPr/>
                  </p:nvSpPr>
                  <p:spPr>
                    <a:xfrm flipH="1" rot="19110000">
                      <a:off x="1240200" y="4145040"/>
                      <a:ext cx="57240" cy="73080"/>
                    </a:xfrm>
                    <a:custGeom>
                      <a:avLst/>
                      <a:gdLst>
                        <a:gd name="textAreaLeft" fmla="*/ -360 w 57240"/>
                        <a:gd name="textAreaRight" fmla="*/ 57240 w 5724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78" h="102">
                          <a:moveTo>
                            <a:pt x="78" y="102"/>
                          </a:moveTo>
                          <a:lnTo>
                            <a:pt x="3" y="63"/>
                          </a:lnTo>
                          <a:lnTo>
                            <a:pt x="0" y="0"/>
                          </a:lnTo>
                          <a:lnTo>
                            <a:pt x="60" y="45"/>
                          </a:lnTo>
                          <a:lnTo>
                            <a:pt x="78" y="10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189"/>
                    <p:cNvSpPr/>
                    <p:nvPr/>
                  </p:nvSpPr>
                  <p:spPr>
                    <a:xfrm flipH="1" rot="19110000">
                      <a:off x="1187640" y="4175640"/>
                      <a:ext cx="61920" cy="82800"/>
                    </a:xfrm>
                    <a:custGeom>
                      <a:avLst/>
                      <a:gdLst>
                        <a:gd name="textAreaLeft" fmla="*/ 0 w 61920"/>
                        <a:gd name="textAreaRight" fmla="*/ 61920 w 6192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84" h="116">
                          <a:moveTo>
                            <a:pt x="0" y="116"/>
                          </a:moveTo>
                          <a:lnTo>
                            <a:pt x="40" y="27"/>
                          </a:lnTo>
                          <a:lnTo>
                            <a:pt x="78" y="0"/>
                          </a:lnTo>
                          <a:lnTo>
                            <a:pt x="84" y="49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6" name="Freeform 190"/>
                <p:cNvSpPr/>
                <p:nvPr/>
              </p:nvSpPr>
              <p:spPr>
                <a:xfrm flipH="1" rot="19110000">
                  <a:off x="1362960" y="4440600"/>
                  <a:ext cx="26280" cy="1296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191"/>
              <p:cNvGrpSpPr/>
              <p:nvPr/>
            </p:nvGrpSpPr>
            <p:grpSpPr>
              <a:xfrm>
                <a:off x="1072440" y="3613320"/>
                <a:ext cx="477720" cy="470880"/>
                <a:chOff x="1072440" y="3613320"/>
                <a:chExt cx="477720" cy="470880"/>
              </a:xfrm>
            </p:grpSpPr>
            <p:sp>
              <p:nvSpPr>
                <p:cNvPr id="618" name="Freeform 192"/>
                <p:cNvSpPr/>
                <p:nvPr/>
              </p:nvSpPr>
              <p:spPr>
                <a:xfrm rot="2490000">
                  <a:off x="1123920" y="37000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3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93"/>
                <p:cNvSpPr/>
                <p:nvPr/>
              </p:nvSpPr>
              <p:spPr>
                <a:xfrm rot="2490000">
                  <a:off x="1168920" y="37022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94"/>
                <p:cNvSpPr/>
                <p:nvPr/>
              </p:nvSpPr>
              <p:spPr>
                <a:xfrm rot="2490000">
                  <a:off x="1330560" y="36514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95"/>
                <p:cNvSpPr/>
                <p:nvPr/>
              </p:nvSpPr>
              <p:spPr>
                <a:xfrm rot="2490000">
                  <a:off x="1366920" y="36381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96"/>
                <p:cNvSpPr/>
                <p:nvPr/>
              </p:nvSpPr>
              <p:spPr>
                <a:xfrm rot="2490000">
                  <a:off x="1382760" y="36651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97"/>
                <p:cNvSpPr/>
                <p:nvPr/>
              </p:nvSpPr>
              <p:spPr>
                <a:xfrm rot="2490000">
                  <a:off x="1377720" y="36835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98"/>
                <p:cNvSpPr/>
                <p:nvPr/>
              </p:nvSpPr>
              <p:spPr>
                <a:xfrm rot="2490000">
                  <a:off x="1243800" y="39492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199"/>
              <p:cNvGrpSpPr/>
              <p:nvPr/>
            </p:nvGrpSpPr>
            <p:grpSpPr>
              <a:xfrm>
                <a:off x="907200" y="3808080"/>
                <a:ext cx="477720" cy="470880"/>
                <a:chOff x="907200" y="3808080"/>
                <a:chExt cx="477720" cy="470880"/>
              </a:xfrm>
            </p:grpSpPr>
            <p:sp>
              <p:nvSpPr>
                <p:cNvPr id="626" name="Freeform 200"/>
                <p:cNvSpPr/>
                <p:nvPr/>
              </p:nvSpPr>
              <p:spPr>
                <a:xfrm rot="2490000">
                  <a:off x="958680" y="389484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01"/>
                <p:cNvSpPr/>
                <p:nvPr/>
              </p:nvSpPr>
              <p:spPr>
                <a:xfrm rot="2490000">
                  <a:off x="1003680" y="38970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02"/>
                <p:cNvSpPr/>
                <p:nvPr/>
              </p:nvSpPr>
              <p:spPr>
                <a:xfrm rot="2490000">
                  <a:off x="1165320" y="38462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03"/>
                <p:cNvSpPr/>
                <p:nvPr/>
              </p:nvSpPr>
              <p:spPr>
                <a:xfrm rot="2490000">
                  <a:off x="1201680" y="383292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04"/>
                <p:cNvSpPr/>
                <p:nvPr/>
              </p:nvSpPr>
              <p:spPr>
                <a:xfrm rot="2490000">
                  <a:off x="1217520" y="385992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05"/>
                <p:cNvSpPr/>
                <p:nvPr/>
              </p:nvSpPr>
              <p:spPr>
                <a:xfrm rot="2490000">
                  <a:off x="1212480" y="387828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06"/>
                <p:cNvSpPr/>
                <p:nvPr/>
              </p:nvSpPr>
              <p:spPr>
                <a:xfrm rot="2490000">
                  <a:off x="1078560" y="414396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Group 207"/>
              <p:cNvGrpSpPr/>
              <p:nvPr/>
            </p:nvGrpSpPr>
            <p:grpSpPr>
              <a:xfrm>
                <a:off x="635400" y="3899520"/>
                <a:ext cx="477720" cy="470880"/>
                <a:chOff x="635400" y="3899520"/>
                <a:chExt cx="477720" cy="470880"/>
              </a:xfrm>
            </p:grpSpPr>
            <p:sp>
              <p:nvSpPr>
                <p:cNvPr id="634" name="Freeform 208"/>
                <p:cNvSpPr/>
                <p:nvPr/>
              </p:nvSpPr>
              <p:spPr>
                <a:xfrm rot="2490000">
                  <a:off x="686880" y="39862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09"/>
                <p:cNvSpPr/>
                <p:nvPr/>
              </p:nvSpPr>
              <p:spPr>
                <a:xfrm rot="2490000">
                  <a:off x="731880" y="39884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10"/>
                <p:cNvSpPr/>
                <p:nvPr/>
              </p:nvSpPr>
              <p:spPr>
                <a:xfrm rot="2490000">
                  <a:off x="893520" y="39376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11"/>
                <p:cNvSpPr/>
                <p:nvPr/>
              </p:nvSpPr>
              <p:spPr>
                <a:xfrm rot="2490000">
                  <a:off x="929880" y="39243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12"/>
                <p:cNvSpPr/>
                <p:nvPr/>
              </p:nvSpPr>
              <p:spPr>
                <a:xfrm rot="2490000">
                  <a:off x="945720" y="39513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13"/>
                <p:cNvSpPr/>
                <p:nvPr/>
              </p:nvSpPr>
              <p:spPr>
                <a:xfrm rot="2490000">
                  <a:off x="940680" y="39697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14"/>
                <p:cNvSpPr/>
                <p:nvPr/>
              </p:nvSpPr>
              <p:spPr>
                <a:xfrm rot="2490000">
                  <a:off x="806760" y="42354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15"/>
              <p:cNvGrpSpPr/>
              <p:nvPr/>
            </p:nvGrpSpPr>
            <p:grpSpPr>
              <a:xfrm>
                <a:off x="1061280" y="3762720"/>
                <a:ext cx="477720" cy="470880"/>
                <a:chOff x="1061280" y="3762720"/>
                <a:chExt cx="477720" cy="470880"/>
              </a:xfrm>
            </p:grpSpPr>
            <p:sp>
              <p:nvSpPr>
                <p:cNvPr id="642" name="Freeform 216"/>
                <p:cNvSpPr/>
                <p:nvPr/>
              </p:nvSpPr>
              <p:spPr>
                <a:xfrm rot="2490000">
                  <a:off x="1112760" y="38494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17"/>
                <p:cNvSpPr/>
                <p:nvPr/>
              </p:nvSpPr>
              <p:spPr>
                <a:xfrm rot="2490000">
                  <a:off x="1157760" y="38516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18"/>
                <p:cNvSpPr/>
                <p:nvPr/>
              </p:nvSpPr>
              <p:spPr>
                <a:xfrm rot="2490000">
                  <a:off x="1319400" y="38008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19"/>
                <p:cNvSpPr/>
                <p:nvPr/>
              </p:nvSpPr>
              <p:spPr>
                <a:xfrm rot="2490000">
                  <a:off x="1355760" y="37875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20"/>
                <p:cNvSpPr/>
                <p:nvPr/>
              </p:nvSpPr>
              <p:spPr>
                <a:xfrm rot="2490000">
                  <a:off x="1371600" y="38145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21"/>
                <p:cNvSpPr/>
                <p:nvPr/>
              </p:nvSpPr>
              <p:spPr>
                <a:xfrm rot="2490000">
                  <a:off x="1366560" y="38329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22"/>
                <p:cNvSpPr/>
                <p:nvPr/>
              </p:nvSpPr>
              <p:spPr>
                <a:xfrm rot="2490000">
                  <a:off x="1232640" y="40986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23"/>
              <p:cNvGrpSpPr/>
              <p:nvPr/>
            </p:nvGrpSpPr>
            <p:grpSpPr>
              <a:xfrm>
                <a:off x="827280" y="4214160"/>
                <a:ext cx="374760" cy="363240"/>
                <a:chOff x="827280" y="4214160"/>
                <a:chExt cx="374760" cy="363240"/>
              </a:xfrm>
            </p:grpSpPr>
            <p:sp>
              <p:nvSpPr>
                <p:cNvPr id="650" name="Freeform 224"/>
                <p:cNvSpPr/>
                <p:nvPr/>
              </p:nvSpPr>
              <p:spPr>
                <a:xfrm>
                  <a:off x="827280" y="428040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225"/>
                <p:cNvSpPr/>
                <p:nvPr/>
              </p:nvSpPr>
              <p:spPr>
                <a:xfrm>
                  <a:off x="844920" y="43182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4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226"/>
                <p:cNvSpPr/>
                <p:nvPr/>
              </p:nvSpPr>
              <p:spPr>
                <a:xfrm>
                  <a:off x="915120" y="42404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27"/>
                <p:cNvSpPr/>
                <p:nvPr/>
              </p:nvSpPr>
              <p:spPr>
                <a:xfrm>
                  <a:off x="943560" y="42141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228"/>
                <p:cNvSpPr/>
                <p:nvPr/>
              </p:nvSpPr>
              <p:spPr>
                <a:xfrm>
                  <a:off x="972360" y="422388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29"/>
                <p:cNvSpPr/>
                <p:nvPr/>
              </p:nvSpPr>
              <p:spPr>
                <a:xfrm>
                  <a:off x="974520" y="423036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30"/>
                <p:cNvSpPr/>
                <p:nvPr/>
              </p:nvSpPr>
              <p:spPr>
                <a:xfrm>
                  <a:off x="1032120" y="453852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231"/>
              <p:cNvGrpSpPr/>
              <p:nvPr/>
            </p:nvGrpSpPr>
            <p:grpSpPr>
              <a:xfrm>
                <a:off x="270360" y="4197240"/>
                <a:ext cx="477720" cy="470880"/>
                <a:chOff x="270360" y="4197240"/>
                <a:chExt cx="477720" cy="470880"/>
              </a:xfrm>
            </p:grpSpPr>
            <p:sp>
              <p:nvSpPr>
                <p:cNvPr id="658" name="Freeform 232"/>
                <p:cNvSpPr/>
                <p:nvPr/>
              </p:nvSpPr>
              <p:spPr>
                <a:xfrm rot="2490000">
                  <a:off x="321840" y="428400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33"/>
                <p:cNvSpPr/>
                <p:nvPr/>
              </p:nvSpPr>
              <p:spPr>
                <a:xfrm rot="2490000">
                  <a:off x="366840" y="428616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234"/>
                <p:cNvSpPr/>
                <p:nvPr/>
              </p:nvSpPr>
              <p:spPr>
                <a:xfrm rot="2490000">
                  <a:off x="528480" y="423540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235"/>
                <p:cNvSpPr/>
                <p:nvPr/>
              </p:nvSpPr>
              <p:spPr>
                <a:xfrm rot="2490000">
                  <a:off x="564840" y="422208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36"/>
                <p:cNvSpPr/>
                <p:nvPr/>
              </p:nvSpPr>
              <p:spPr>
                <a:xfrm rot="2490000">
                  <a:off x="580680" y="424908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37"/>
                <p:cNvSpPr/>
                <p:nvPr/>
              </p:nvSpPr>
              <p:spPr>
                <a:xfrm rot="2490000">
                  <a:off x="575640" y="426744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38"/>
                <p:cNvSpPr/>
                <p:nvPr/>
              </p:nvSpPr>
              <p:spPr>
                <a:xfrm rot="2490000">
                  <a:off x="441720" y="453312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239"/>
              <p:cNvGrpSpPr/>
              <p:nvPr/>
            </p:nvGrpSpPr>
            <p:grpSpPr>
              <a:xfrm>
                <a:off x="1320120" y="3476520"/>
                <a:ext cx="477720" cy="470880"/>
                <a:chOff x="1320120" y="3476520"/>
                <a:chExt cx="477720" cy="470880"/>
              </a:xfrm>
            </p:grpSpPr>
            <p:sp>
              <p:nvSpPr>
                <p:cNvPr id="666" name="Freeform 240"/>
                <p:cNvSpPr/>
                <p:nvPr/>
              </p:nvSpPr>
              <p:spPr>
                <a:xfrm rot="2490000">
                  <a:off x="1371600" y="35632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41"/>
                <p:cNvSpPr/>
                <p:nvPr/>
              </p:nvSpPr>
              <p:spPr>
                <a:xfrm rot="2490000">
                  <a:off x="1416600" y="35654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42"/>
                <p:cNvSpPr/>
                <p:nvPr/>
              </p:nvSpPr>
              <p:spPr>
                <a:xfrm rot="2490000">
                  <a:off x="1578240" y="35146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43"/>
                <p:cNvSpPr/>
                <p:nvPr/>
              </p:nvSpPr>
              <p:spPr>
                <a:xfrm rot="2490000">
                  <a:off x="1614600" y="35013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44"/>
                <p:cNvSpPr/>
                <p:nvPr/>
              </p:nvSpPr>
              <p:spPr>
                <a:xfrm rot="2490000">
                  <a:off x="1630440" y="35283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45"/>
                <p:cNvSpPr/>
                <p:nvPr/>
              </p:nvSpPr>
              <p:spPr>
                <a:xfrm rot="2490000">
                  <a:off x="1625400" y="35467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46"/>
                <p:cNvSpPr/>
                <p:nvPr/>
              </p:nvSpPr>
              <p:spPr>
                <a:xfrm rot="2490000">
                  <a:off x="1491480" y="38124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247"/>
              <p:cNvGrpSpPr/>
              <p:nvPr/>
            </p:nvGrpSpPr>
            <p:grpSpPr>
              <a:xfrm>
                <a:off x="541800" y="4151880"/>
                <a:ext cx="477720" cy="470880"/>
                <a:chOff x="541800" y="4151880"/>
                <a:chExt cx="477720" cy="470880"/>
              </a:xfrm>
            </p:grpSpPr>
            <p:sp>
              <p:nvSpPr>
                <p:cNvPr id="674" name="Freeform 248"/>
                <p:cNvSpPr/>
                <p:nvPr/>
              </p:nvSpPr>
              <p:spPr>
                <a:xfrm rot="2490000">
                  <a:off x="593280" y="423864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49"/>
                <p:cNvSpPr/>
                <p:nvPr/>
              </p:nvSpPr>
              <p:spPr>
                <a:xfrm rot="2490000">
                  <a:off x="638280" y="424080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5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250"/>
                <p:cNvSpPr/>
                <p:nvPr/>
              </p:nvSpPr>
              <p:spPr>
                <a:xfrm rot="2490000">
                  <a:off x="799920" y="419004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51"/>
                <p:cNvSpPr/>
                <p:nvPr/>
              </p:nvSpPr>
              <p:spPr>
                <a:xfrm rot="2490000">
                  <a:off x="836280" y="417672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52"/>
                <p:cNvSpPr/>
                <p:nvPr/>
              </p:nvSpPr>
              <p:spPr>
                <a:xfrm rot="2490000">
                  <a:off x="852120" y="420372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53"/>
                <p:cNvSpPr/>
                <p:nvPr/>
              </p:nvSpPr>
              <p:spPr>
                <a:xfrm rot="2490000">
                  <a:off x="847080" y="422208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54"/>
                <p:cNvSpPr/>
                <p:nvPr/>
              </p:nvSpPr>
              <p:spPr>
                <a:xfrm rot="2490000">
                  <a:off x="713160" y="448776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255"/>
              <p:cNvGrpSpPr/>
              <p:nvPr/>
            </p:nvGrpSpPr>
            <p:grpSpPr>
              <a:xfrm>
                <a:off x="883440" y="3613320"/>
                <a:ext cx="477720" cy="470880"/>
                <a:chOff x="883440" y="3613320"/>
                <a:chExt cx="477720" cy="470880"/>
              </a:xfrm>
            </p:grpSpPr>
            <p:sp>
              <p:nvSpPr>
                <p:cNvPr id="682" name="Freeform 256"/>
                <p:cNvSpPr/>
                <p:nvPr/>
              </p:nvSpPr>
              <p:spPr>
                <a:xfrm rot="2490000">
                  <a:off x="934920" y="370008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57"/>
                <p:cNvSpPr/>
                <p:nvPr/>
              </p:nvSpPr>
              <p:spPr>
                <a:xfrm rot="2490000">
                  <a:off x="979920" y="370224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5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58"/>
                <p:cNvSpPr/>
                <p:nvPr/>
              </p:nvSpPr>
              <p:spPr>
                <a:xfrm rot="2490000">
                  <a:off x="1141560" y="365148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259"/>
                <p:cNvSpPr/>
                <p:nvPr/>
              </p:nvSpPr>
              <p:spPr>
                <a:xfrm rot="2490000">
                  <a:off x="1177920" y="363816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260"/>
                <p:cNvSpPr/>
                <p:nvPr/>
              </p:nvSpPr>
              <p:spPr>
                <a:xfrm rot="2490000">
                  <a:off x="1193760" y="366516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61"/>
                <p:cNvSpPr/>
                <p:nvPr/>
              </p:nvSpPr>
              <p:spPr>
                <a:xfrm rot="2490000">
                  <a:off x="1188720" y="368352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62"/>
                <p:cNvSpPr/>
                <p:nvPr/>
              </p:nvSpPr>
              <p:spPr>
                <a:xfrm rot="2490000">
                  <a:off x="1054800" y="394920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263"/>
              <p:cNvGrpSpPr/>
              <p:nvPr/>
            </p:nvGrpSpPr>
            <p:grpSpPr>
              <a:xfrm>
                <a:off x="883440" y="3990960"/>
                <a:ext cx="477720" cy="470880"/>
                <a:chOff x="883440" y="3990960"/>
                <a:chExt cx="477720" cy="470880"/>
              </a:xfrm>
            </p:grpSpPr>
            <p:sp>
              <p:nvSpPr>
                <p:cNvPr id="690" name="Freeform 264"/>
                <p:cNvSpPr/>
                <p:nvPr/>
              </p:nvSpPr>
              <p:spPr>
                <a:xfrm rot="2490000">
                  <a:off x="934920" y="4077720"/>
                  <a:ext cx="374760" cy="2970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508" h="416">
                      <a:moveTo>
                        <a:pt x="17" y="112"/>
                      </a:moveTo>
                      <a:cubicBezTo>
                        <a:pt x="5" y="153"/>
                        <a:pt x="0" y="217"/>
                        <a:pt x="35" y="265"/>
                      </a:cubicBezTo>
                      <a:cubicBezTo>
                        <a:pt x="70" y="313"/>
                        <a:pt x="184" y="384"/>
                        <a:pt x="227" y="400"/>
                      </a:cubicBezTo>
                      <a:cubicBezTo>
                        <a:pt x="270" y="416"/>
                        <a:pt x="264" y="368"/>
                        <a:pt x="293" y="361"/>
                      </a:cubicBezTo>
                      <a:cubicBezTo>
                        <a:pt x="322" y="354"/>
                        <a:pt x="368" y="395"/>
                        <a:pt x="404" y="358"/>
                      </a:cubicBezTo>
                      <a:cubicBezTo>
                        <a:pt x="440" y="321"/>
                        <a:pt x="508" y="196"/>
                        <a:pt x="508" y="140"/>
                      </a:cubicBezTo>
                      <a:cubicBezTo>
                        <a:pt x="508" y="84"/>
                        <a:pt x="445" y="44"/>
                        <a:pt x="407" y="22"/>
                      </a:cubicBezTo>
                      <a:cubicBezTo>
                        <a:pt x="369" y="0"/>
                        <a:pt x="314" y="7"/>
                        <a:pt x="281" y="10"/>
                      </a:cubicBezTo>
                      <a:cubicBezTo>
                        <a:pt x="248" y="13"/>
                        <a:pt x="234" y="42"/>
                        <a:pt x="206" y="43"/>
                      </a:cubicBezTo>
                      <a:cubicBezTo>
                        <a:pt x="178" y="44"/>
                        <a:pt x="142" y="7"/>
                        <a:pt x="110" y="19"/>
                      </a:cubicBezTo>
                      <a:cubicBezTo>
                        <a:pt x="78" y="31"/>
                        <a:pt x="31" y="70"/>
                        <a:pt x="17" y="112"/>
                      </a:cubicBezTo>
                      <a:close/>
                    </a:path>
                  </a:pathLst>
                </a:custGeom>
                <a:blipFill rotWithShape="0">
                  <a:blip r:embed="rId5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65"/>
                <p:cNvSpPr/>
                <p:nvPr/>
              </p:nvSpPr>
              <p:spPr>
                <a:xfrm rot="2490000">
                  <a:off x="979920" y="4079880"/>
                  <a:ext cx="218160" cy="184320"/>
                </a:xfrm>
                <a:custGeom>
                  <a:avLst/>
                  <a:gdLst>
                    <a:gd name="textAreaLeft" fmla="*/ 0 w 218160"/>
                    <a:gd name="textAreaRight" fmla="*/ 218520 w 21816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8" h="218">
                      <a:moveTo>
                        <a:pt x="188" y="41"/>
                      </a:moveTo>
                      <a:cubicBezTo>
                        <a:pt x="148" y="20"/>
                        <a:pt x="75" y="0"/>
                        <a:pt x="44" y="9"/>
                      </a:cubicBezTo>
                      <a:cubicBezTo>
                        <a:pt x="13" y="18"/>
                        <a:pt x="0" y="66"/>
                        <a:pt x="4" y="97"/>
                      </a:cubicBezTo>
                      <a:cubicBezTo>
                        <a:pt x="8" y="128"/>
                        <a:pt x="27" y="174"/>
                        <a:pt x="68" y="193"/>
                      </a:cubicBezTo>
                      <a:cubicBezTo>
                        <a:pt x="109" y="212"/>
                        <a:pt x="216" y="218"/>
                        <a:pt x="252" y="209"/>
                      </a:cubicBezTo>
                      <a:cubicBezTo>
                        <a:pt x="288" y="200"/>
                        <a:pt x="288" y="162"/>
                        <a:pt x="284" y="137"/>
                      </a:cubicBezTo>
                      <a:cubicBezTo>
                        <a:pt x="280" y="112"/>
                        <a:pt x="228" y="62"/>
                        <a:pt x="188" y="41"/>
                      </a:cubicBezTo>
                      <a:close/>
                    </a:path>
                  </a:pathLst>
                </a:custGeom>
                <a:blipFill rotWithShape="0">
                  <a:blip r:embed="rId5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66"/>
                <p:cNvSpPr/>
                <p:nvPr/>
              </p:nvSpPr>
              <p:spPr>
                <a:xfrm rot="2490000">
                  <a:off x="1141560" y="4029120"/>
                  <a:ext cx="57240" cy="7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67"/>
                <p:cNvSpPr/>
                <p:nvPr/>
              </p:nvSpPr>
              <p:spPr>
                <a:xfrm rot="2490000">
                  <a:off x="1177920" y="4015800"/>
                  <a:ext cx="27000" cy="90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127">
                      <a:moveTo>
                        <a:pt x="37" y="127"/>
                      </a:moveTo>
                      <a:lnTo>
                        <a:pt x="0" y="46"/>
                      </a:lnTo>
                      <a:lnTo>
                        <a:pt x="16" y="0"/>
                      </a:lnTo>
                      <a:lnTo>
                        <a:pt x="19" y="32"/>
                      </a:lnTo>
                      <a:lnTo>
                        <a:pt x="37" y="12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68"/>
                <p:cNvSpPr/>
                <p:nvPr/>
              </p:nvSpPr>
              <p:spPr>
                <a:xfrm rot="2490000">
                  <a:off x="1193760" y="4042800"/>
                  <a:ext cx="28440" cy="874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39" h="123">
                      <a:moveTo>
                        <a:pt x="0" y="123"/>
                      </a:moveTo>
                      <a:lnTo>
                        <a:pt x="12" y="28"/>
                      </a:lnTo>
                      <a:lnTo>
                        <a:pt x="35" y="0"/>
                      </a:lnTo>
                      <a:lnTo>
                        <a:pt x="39" y="5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69"/>
                <p:cNvSpPr/>
                <p:nvPr/>
              </p:nvSpPr>
              <p:spPr>
                <a:xfrm rot="2490000">
                  <a:off x="1188720" y="406116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70"/>
                <p:cNvSpPr/>
                <p:nvPr/>
              </p:nvSpPr>
              <p:spPr>
                <a:xfrm rot="2490000">
                  <a:off x="1054800" y="4326840"/>
                  <a:ext cx="26280" cy="1296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0" y="9"/>
                      </a:moveTo>
                      <a:lnTo>
                        <a:pt x="21" y="18"/>
                      </a:lnTo>
                      <a:lnTo>
                        <a:pt x="36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7" name="Group 271"/>
            <p:cNvGrpSpPr/>
            <p:nvPr/>
          </p:nvGrpSpPr>
          <p:grpSpPr>
            <a:xfrm>
              <a:off x="312120" y="3832560"/>
              <a:ext cx="1792440" cy="1005120"/>
              <a:chOff x="312120" y="3832560"/>
              <a:chExt cx="1792440" cy="1005120"/>
            </a:xfrm>
          </p:grpSpPr>
          <p:sp>
            <p:nvSpPr>
              <p:cNvPr id="698" name="Freeform 272"/>
              <p:cNvSpPr/>
              <p:nvPr/>
            </p:nvSpPr>
            <p:spPr>
              <a:xfrm>
                <a:off x="312120" y="4755600"/>
                <a:ext cx="960480" cy="2988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273"/>
              <p:cNvSpPr/>
              <p:nvPr/>
            </p:nvSpPr>
            <p:spPr>
              <a:xfrm>
                <a:off x="312120" y="4661280"/>
                <a:ext cx="960480" cy="2124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274"/>
              <p:cNvSpPr/>
              <p:nvPr/>
            </p:nvSpPr>
            <p:spPr>
              <a:xfrm>
                <a:off x="1283400" y="3855240"/>
                <a:ext cx="821160" cy="827280"/>
              </a:xfrm>
              <a:custGeom>
                <a:avLst/>
                <a:gdLst>
                  <a:gd name="textAreaLeft" fmla="*/ 0 w 821160"/>
                  <a:gd name="textAreaRight" fmla="*/ 821520 w 821160"/>
                  <a:gd name="textAreaTop" fmla="*/ 0 h 827280"/>
                  <a:gd name="textAreaBottom" fmla="*/ 827640 h 82728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275"/>
              <p:cNvSpPr/>
              <p:nvPr/>
            </p:nvSpPr>
            <p:spPr>
              <a:xfrm>
                <a:off x="329760" y="462132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276"/>
              <p:cNvSpPr/>
              <p:nvPr/>
            </p:nvSpPr>
            <p:spPr>
              <a:xfrm>
                <a:off x="1228320" y="46083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277"/>
              <p:cNvSpPr/>
              <p:nvPr/>
            </p:nvSpPr>
            <p:spPr>
              <a:xfrm>
                <a:off x="1232640" y="47156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278"/>
              <p:cNvSpPr/>
              <p:nvPr/>
            </p:nvSpPr>
            <p:spPr>
              <a:xfrm>
                <a:off x="1232640" y="48099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279"/>
              <p:cNvSpPr/>
              <p:nvPr/>
            </p:nvSpPr>
            <p:spPr>
              <a:xfrm>
                <a:off x="328680" y="4706280"/>
                <a:ext cx="198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280"/>
              <p:cNvSpPr/>
              <p:nvPr/>
            </p:nvSpPr>
            <p:spPr>
              <a:xfrm>
                <a:off x="337680" y="4817880"/>
                <a:ext cx="198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281"/>
              <p:cNvSpPr/>
              <p:nvPr/>
            </p:nvSpPr>
            <p:spPr>
              <a:xfrm>
                <a:off x="1285920" y="46040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282"/>
              <p:cNvSpPr/>
              <p:nvPr/>
            </p:nvSpPr>
            <p:spPr>
              <a:xfrm>
                <a:off x="1285920" y="47199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Oval 283"/>
              <p:cNvSpPr/>
              <p:nvPr/>
            </p:nvSpPr>
            <p:spPr>
              <a:xfrm>
                <a:off x="1285920" y="479700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Oval 284"/>
              <p:cNvSpPr/>
              <p:nvPr/>
            </p:nvSpPr>
            <p:spPr>
              <a:xfrm>
                <a:off x="2078280" y="402084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285"/>
              <p:cNvSpPr/>
              <p:nvPr/>
            </p:nvSpPr>
            <p:spPr>
              <a:xfrm>
                <a:off x="2078280" y="39351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86"/>
              <p:cNvSpPr/>
              <p:nvPr/>
            </p:nvSpPr>
            <p:spPr>
              <a:xfrm>
                <a:off x="2078280" y="3832560"/>
                <a:ext cx="19800" cy="1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87"/>
              <p:cNvSpPr/>
              <p:nvPr/>
            </p:nvSpPr>
            <p:spPr>
              <a:xfrm>
                <a:off x="1281240" y="3962160"/>
                <a:ext cx="823320" cy="822960"/>
              </a:xfrm>
              <a:custGeom>
                <a:avLst/>
                <a:gdLst>
                  <a:gd name="textAreaLeft" fmla="*/ 0 w 823320"/>
                  <a:gd name="textAreaRight" fmla="*/ 823680 w 823320"/>
                  <a:gd name="textAreaTop" fmla="*/ 0 h 822960"/>
                  <a:gd name="textAreaBottom" fmla="*/ 823320 h 82296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Group 454"/>
          <p:cNvGrpSpPr/>
          <p:nvPr/>
        </p:nvGrpSpPr>
        <p:grpSpPr>
          <a:xfrm>
            <a:off x="3529080" y="4241160"/>
            <a:ext cx="478080" cy="471600"/>
            <a:chOff x="3529080" y="4241160"/>
            <a:chExt cx="478080" cy="471600"/>
          </a:xfrm>
        </p:grpSpPr>
        <p:sp>
          <p:nvSpPr>
            <p:cNvPr id="715" name="Freeform 455"/>
            <p:cNvSpPr/>
            <p:nvPr/>
          </p:nvSpPr>
          <p:spPr>
            <a:xfrm flipH="1" rot="19110000">
              <a:off x="3580560" y="4327560"/>
              <a:ext cx="374760" cy="298080"/>
            </a:xfrm>
            <a:custGeom>
              <a:avLst/>
              <a:gdLst>
                <a:gd name="textAreaLeft" fmla="*/ -360 w 374760"/>
                <a:gd name="textAreaRight" fmla="*/ 374760 w 37476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56"/>
            <p:cNvSpPr/>
            <p:nvPr/>
          </p:nvSpPr>
          <p:spPr>
            <a:xfrm flipH="1" rot="19110000">
              <a:off x="3679560" y="4342680"/>
              <a:ext cx="218160" cy="184680"/>
            </a:xfrm>
            <a:custGeom>
              <a:avLst/>
              <a:gdLst>
                <a:gd name="textAreaLeft" fmla="*/ 360 w 218160"/>
                <a:gd name="textAreaRight" fmla="*/ 218880 w 2181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57"/>
            <p:cNvSpPr/>
            <p:nvPr/>
          </p:nvSpPr>
          <p:spPr>
            <a:xfrm flipH="1" rot="19110000">
              <a:off x="3663720" y="4293360"/>
              <a:ext cx="28440" cy="8820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291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458"/>
            <p:cNvGrpSpPr/>
            <p:nvPr/>
          </p:nvGrpSpPr>
          <p:grpSpPr>
            <a:xfrm>
              <a:off x="3616560" y="4269240"/>
              <a:ext cx="146160" cy="134640"/>
              <a:chOff x="3616560" y="4269240"/>
              <a:chExt cx="146160" cy="134640"/>
            </a:xfrm>
          </p:grpSpPr>
          <p:sp>
            <p:nvSpPr>
              <p:cNvPr id="719" name="Freeform 459"/>
              <p:cNvSpPr/>
              <p:nvPr/>
            </p:nvSpPr>
            <p:spPr>
              <a:xfrm flipH="1" rot="19110000">
                <a:off x="3674520" y="4266720"/>
                <a:ext cx="27360" cy="9072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291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Group 460"/>
              <p:cNvGrpSpPr/>
              <p:nvPr/>
            </p:nvGrpSpPr>
            <p:grpSpPr>
              <a:xfrm>
                <a:off x="3616560" y="4270680"/>
                <a:ext cx="146160" cy="133200"/>
                <a:chOff x="3616560" y="4270680"/>
                <a:chExt cx="146160" cy="133200"/>
              </a:xfrm>
            </p:grpSpPr>
            <p:sp>
              <p:nvSpPr>
                <p:cNvPr id="721" name="Freeform 461"/>
                <p:cNvSpPr/>
                <p:nvPr/>
              </p:nvSpPr>
              <p:spPr>
                <a:xfrm flipH="1" rot="19110000">
                  <a:off x="3688200" y="4280400"/>
                  <a:ext cx="57240" cy="73080"/>
                </a:xfrm>
                <a:custGeom>
                  <a:avLst/>
                  <a:gdLst>
                    <a:gd name="textAreaLeft" fmla="*/ -360 w 57240"/>
                    <a:gd name="textAreaRight" fmla="*/ 57240 w 57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462"/>
                <p:cNvSpPr/>
                <p:nvPr/>
              </p:nvSpPr>
              <p:spPr>
                <a:xfrm flipH="1" rot="19110000">
                  <a:off x="3635640" y="4311000"/>
                  <a:ext cx="61920" cy="8280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3" name="Freeform 463"/>
            <p:cNvSpPr/>
            <p:nvPr/>
          </p:nvSpPr>
          <p:spPr>
            <a:xfrm flipH="1" rot="19110000">
              <a:off x="3810960" y="4577040"/>
              <a:ext cx="26280" cy="1296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464"/>
          <p:cNvGrpSpPr/>
          <p:nvPr/>
        </p:nvGrpSpPr>
        <p:grpSpPr>
          <a:xfrm>
            <a:off x="3225240" y="4240800"/>
            <a:ext cx="477000" cy="470160"/>
            <a:chOff x="3225240" y="4240800"/>
            <a:chExt cx="477000" cy="470160"/>
          </a:xfrm>
        </p:grpSpPr>
        <p:sp>
          <p:nvSpPr>
            <p:cNvPr id="725" name="Freeform 465"/>
            <p:cNvSpPr/>
            <p:nvPr/>
          </p:nvSpPr>
          <p:spPr>
            <a:xfrm flipH="1" rot="19110000">
              <a:off x="3276000" y="4327560"/>
              <a:ext cx="374400" cy="296640"/>
            </a:xfrm>
            <a:custGeom>
              <a:avLst/>
              <a:gdLst>
                <a:gd name="textAreaLeft" fmla="*/ 360 w 374400"/>
                <a:gd name="textAreaRight" fmla="*/ 375120 w 374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66"/>
            <p:cNvSpPr/>
            <p:nvPr/>
          </p:nvSpPr>
          <p:spPr>
            <a:xfrm flipH="1" rot="19110000">
              <a:off x="3374280" y="4342320"/>
              <a:ext cx="218160" cy="183960"/>
            </a:xfrm>
            <a:custGeom>
              <a:avLst/>
              <a:gdLst>
                <a:gd name="textAreaLeft" fmla="*/ 360 w 218160"/>
                <a:gd name="textAreaRight" fmla="*/ 218880 w 218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7"/>
            <p:cNvSpPr/>
            <p:nvPr/>
          </p:nvSpPr>
          <p:spPr>
            <a:xfrm flipH="1" rot="19110000">
              <a:off x="3359160" y="4293360"/>
              <a:ext cx="28440" cy="8784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291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Group 468"/>
            <p:cNvGrpSpPr/>
            <p:nvPr/>
          </p:nvGrpSpPr>
          <p:grpSpPr>
            <a:xfrm>
              <a:off x="3311640" y="4269240"/>
              <a:ext cx="146160" cy="134640"/>
              <a:chOff x="3311640" y="4269240"/>
              <a:chExt cx="146160" cy="134640"/>
            </a:xfrm>
          </p:grpSpPr>
          <p:sp>
            <p:nvSpPr>
              <p:cNvPr id="729" name="Freeform 469"/>
              <p:cNvSpPr/>
              <p:nvPr/>
            </p:nvSpPr>
            <p:spPr>
              <a:xfrm flipH="1" rot="19110000">
                <a:off x="3369600" y="4266720"/>
                <a:ext cx="27360" cy="90360"/>
              </a:xfrm>
              <a:custGeom>
                <a:avLst/>
                <a:gdLst>
                  <a:gd name="textAreaLeft" fmla="*/ 360 w 27360"/>
                  <a:gd name="textAreaRight" fmla="*/ 28080 w 27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127">
                    <a:moveTo>
                      <a:pt x="37" y="127"/>
                    </a:moveTo>
                    <a:lnTo>
                      <a:pt x="0" y="46"/>
                    </a:lnTo>
                    <a:lnTo>
                      <a:pt x="16" y="0"/>
                    </a:lnTo>
                    <a:lnTo>
                      <a:pt x="19" y="32"/>
                    </a:lnTo>
                    <a:lnTo>
                      <a:pt x="37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291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Group 470"/>
              <p:cNvGrpSpPr/>
              <p:nvPr/>
            </p:nvGrpSpPr>
            <p:grpSpPr>
              <a:xfrm>
                <a:off x="3311640" y="4270680"/>
                <a:ext cx="146160" cy="133200"/>
                <a:chOff x="3311640" y="4270680"/>
                <a:chExt cx="146160" cy="133200"/>
              </a:xfrm>
            </p:grpSpPr>
            <p:sp>
              <p:nvSpPr>
                <p:cNvPr id="731" name="Freeform 471"/>
                <p:cNvSpPr/>
                <p:nvPr/>
              </p:nvSpPr>
              <p:spPr>
                <a:xfrm flipH="1" rot="19110000">
                  <a:off x="3383640" y="4280400"/>
                  <a:ext cx="57240" cy="72360"/>
                </a:xfrm>
                <a:custGeom>
                  <a:avLst/>
                  <a:gdLst>
                    <a:gd name="textAreaLeft" fmla="*/ -360 w 57240"/>
                    <a:gd name="textAreaRight" fmla="*/ 57240 w 5724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78" h="102">
                      <a:moveTo>
                        <a:pt x="78" y="102"/>
                      </a:moveTo>
                      <a:lnTo>
                        <a:pt x="3" y="63"/>
                      </a:lnTo>
                      <a:lnTo>
                        <a:pt x="0" y="0"/>
                      </a:lnTo>
                      <a:lnTo>
                        <a:pt x="60" y="45"/>
                      </a:lnTo>
                      <a:lnTo>
                        <a:pt x="78" y="1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472"/>
                <p:cNvSpPr/>
                <p:nvPr/>
              </p:nvSpPr>
              <p:spPr>
                <a:xfrm flipH="1" rot="19110000">
                  <a:off x="3330720" y="4311000"/>
                  <a:ext cx="61920" cy="82440"/>
                </a:xfrm>
                <a:custGeom>
                  <a:avLst/>
                  <a:gdLst>
                    <a:gd name="textAreaLeft" fmla="*/ 0 w 61920"/>
                    <a:gd name="textAreaRight" fmla="*/ 61920 w 619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84" h="116">
                      <a:moveTo>
                        <a:pt x="0" y="116"/>
                      </a:moveTo>
                      <a:lnTo>
                        <a:pt x="40" y="27"/>
                      </a:lnTo>
                      <a:lnTo>
                        <a:pt x="78" y="0"/>
                      </a:lnTo>
                      <a:lnTo>
                        <a:pt x="84" y="49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3" name="Freeform 473"/>
            <p:cNvSpPr/>
            <p:nvPr/>
          </p:nvSpPr>
          <p:spPr>
            <a:xfrm flipH="1" rot="19110000">
              <a:off x="3506400" y="4575600"/>
              <a:ext cx="26280" cy="1296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474"/>
          <p:cNvGrpSpPr/>
          <p:nvPr/>
        </p:nvGrpSpPr>
        <p:grpSpPr>
          <a:xfrm>
            <a:off x="3582360" y="3706920"/>
            <a:ext cx="478080" cy="471600"/>
            <a:chOff x="3582360" y="3706920"/>
            <a:chExt cx="478080" cy="471600"/>
          </a:xfrm>
        </p:grpSpPr>
        <p:sp>
          <p:nvSpPr>
            <p:cNvPr id="735" name="Freeform 475"/>
            <p:cNvSpPr/>
            <p:nvPr/>
          </p:nvSpPr>
          <p:spPr>
            <a:xfrm rot="2490000">
              <a:off x="3633840" y="3793320"/>
              <a:ext cx="374400" cy="298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76"/>
            <p:cNvSpPr/>
            <p:nvPr/>
          </p:nvSpPr>
          <p:spPr>
            <a:xfrm rot="2490000">
              <a:off x="3678840" y="3796200"/>
              <a:ext cx="218160" cy="185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77"/>
            <p:cNvSpPr/>
            <p:nvPr/>
          </p:nvSpPr>
          <p:spPr>
            <a:xfrm rot="2490000">
              <a:off x="3840480" y="3744360"/>
              <a:ext cx="57240" cy="73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8"/>
            <p:cNvSpPr/>
            <p:nvPr/>
          </p:nvSpPr>
          <p:spPr>
            <a:xfrm rot="2490000">
              <a:off x="3877200" y="3731760"/>
              <a:ext cx="27000" cy="91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79"/>
            <p:cNvSpPr/>
            <p:nvPr/>
          </p:nvSpPr>
          <p:spPr>
            <a:xfrm rot="2490000">
              <a:off x="3893400" y="3759120"/>
              <a:ext cx="28440" cy="87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80"/>
            <p:cNvSpPr/>
            <p:nvPr/>
          </p:nvSpPr>
          <p:spPr>
            <a:xfrm rot="2490000">
              <a:off x="3888000" y="377712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81"/>
            <p:cNvSpPr/>
            <p:nvPr/>
          </p:nvSpPr>
          <p:spPr>
            <a:xfrm rot="2490000">
              <a:off x="3754080" y="404352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482"/>
          <p:cNvGrpSpPr/>
          <p:nvPr/>
        </p:nvGrpSpPr>
        <p:grpSpPr>
          <a:xfrm>
            <a:off x="3352320" y="4011480"/>
            <a:ext cx="477720" cy="470880"/>
            <a:chOff x="3352320" y="4011480"/>
            <a:chExt cx="477720" cy="470880"/>
          </a:xfrm>
        </p:grpSpPr>
        <p:sp>
          <p:nvSpPr>
            <p:cNvPr id="743" name="Freeform 483"/>
            <p:cNvSpPr/>
            <p:nvPr/>
          </p:nvSpPr>
          <p:spPr>
            <a:xfrm rot="2490000">
              <a:off x="3403800" y="4098240"/>
              <a:ext cx="374760" cy="297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84"/>
            <p:cNvSpPr/>
            <p:nvPr/>
          </p:nvSpPr>
          <p:spPr>
            <a:xfrm rot="2490000">
              <a:off x="3448800" y="410040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85"/>
            <p:cNvSpPr/>
            <p:nvPr/>
          </p:nvSpPr>
          <p:spPr>
            <a:xfrm rot="2490000">
              <a:off x="3610440" y="404964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86"/>
            <p:cNvSpPr/>
            <p:nvPr/>
          </p:nvSpPr>
          <p:spPr>
            <a:xfrm rot="2490000">
              <a:off x="3646800" y="403632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87"/>
            <p:cNvSpPr/>
            <p:nvPr/>
          </p:nvSpPr>
          <p:spPr>
            <a:xfrm rot="2490000">
              <a:off x="3662640" y="406332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88"/>
            <p:cNvSpPr/>
            <p:nvPr/>
          </p:nvSpPr>
          <p:spPr>
            <a:xfrm rot="2490000">
              <a:off x="3657600" y="40816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89"/>
            <p:cNvSpPr/>
            <p:nvPr/>
          </p:nvSpPr>
          <p:spPr>
            <a:xfrm rot="2490000">
              <a:off x="3523680" y="434736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490"/>
          <p:cNvGrpSpPr/>
          <p:nvPr/>
        </p:nvGrpSpPr>
        <p:grpSpPr>
          <a:xfrm>
            <a:off x="3506040" y="3935520"/>
            <a:ext cx="478440" cy="471960"/>
            <a:chOff x="3506040" y="3935520"/>
            <a:chExt cx="478440" cy="471960"/>
          </a:xfrm>
        </p:grpSpPr>
        <p:sp>
          <p:nvSpPr>
            <p:cNvPr id="751" name="Freeform 491"/>
            <p:cNvSpPr/>
            <p:nvPr/>
          </p:nvSpPr>
          <p:spPr>
            <a:xfrm rot="2490000">
              <a:off x="3557520" y="4021920"/>
              <a:ext cx="374760" cy="2984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92"/>
            <p:cNvSpPr/>
            <p:nvPr/>
          </p:nvSpPr>
          <p:spPr>
            <a:xfrm rot="2490000">
              <a:off x="3602520" y="4024800"/>
              <a:ext cx="218160" cy="185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93"/>
            <p:cNvSpPr/>
            <p:nvPr/>
          </p:nvSpPr>
          <p:spPr>
            <a:xfrm rot="2490000">
              <a:off x="3764520" y="3973320"/>
              <a:ext cx="57240" cy="73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94"/>
            <p:cNvSpPr/>
            <p:nvPr/>
          </p:nvSpPr>
          <p:spPr>
            <a:xfrm rot="2490000">
              <a:off x="3800880" y="3960360"/>
              <a:ext cx="27000" cy="91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95"/>
            <p:cNvSpPr/>
            <p:nvPr/>
          </p:nvSpPr>
          <p:spPr>
            <a:xfrm rot="2490000">
              <a:off x="3817080" y="3987720"/>
              <a:ext cx="28440" cy="87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96"/>
            <p:cNvSpPr/>
            <p:nvPr/>
          </p:nvSpPr>
          <p:spPr>
            <a:xfrm rot="2490000">
              <a:off x="3811680" y="400572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97"/>
            <p:cNvSpPr/>
            <p:nvPr/>
          </p:nvSpPr>
          <p:spPr>
            <a:xfrm rot="2490000">
              <a:off x="3677760" y="427212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498"/>
          <p:cNvGrpSpPr/>
          <p:nvPr/>
        </p:nvGrpSpPr>
        <p:grpSpPr>
          <a:xfrm>
            <a:off x="3123720" y="4011480"/>
            <a:ext cx="477720" cy="470880"/>
            <a:chOff x="3123720" y="4011480"/>
            <a:chExt cx="477720" cy="470880"/>
          </a:xfrm>
        </p:grpSpPr>
        <p:sp>
          <p:nvSpPr>
            <p:cNvPr id="759" name="Freeform 499"/>
            <p:cNvSpPr/>
            <p:nvPr/>
          </p:nvSpPr>
          <p:spPr>
            <a:xfrm rot="2490000">
              <a:off x="3175200" y="4098240"/>
              <a:ext cx="374760" cy="297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00"/>
            <p:cNvSpPr/>
            <p:nvPr/>
          </p:nvSpPr>
          <p:spPr>
            <a:xfrm rot="2490000">
              <a:off x="3220200" y="410040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01"/>
            <p:cNvSpPr/>
            <p:nvPr/>
          </p:nvSpPr>
          <p:spPr>
            <a:xfrm rot="2490000">
              <a:off x="3381840" y="404964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02"/>
            <p:cNvSpPr/>
            <p:nvPr/>
          </p:nvSpPr>
          <p:spPr>
            <a:xfrm rot="2490000">
              <a:off x="3418200" y="403632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03"/>
            <p:cNvSpPr/>
            <p:nvPr/>
          </p:nvSpPr>
          <p:spPr>
            <a:xfrm rot="2490000">
              <a:off x="3434040" y="406332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04"/>
            <p:cNvSpPr/>
            <p:nvPr/>
          </p:nvSpPr>
          <p:spPr>
            <a:xfrm rot="2490000">
              <a:off x="3429000" y="40816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05"/>
            <p:cNvSpPr/>
            <p:nvPr/>
          </p:nvSpPr>
          <p:spPr>
            <a:xfrm rot="2490000">
              <a:off x="3295080" y="434736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506"/>
          <p:cNvGrpSpPr/>
          <p:nvPr/>
        </p:nvGrpSpPr>
        <p:grpSpPr>
          <a:xfrm>
            <a:off x="3276720" y="3809880"/>
            <a:ext cx="374400" cy="363240"/>
            <a:chOff x="3276720" y="3809880"/>
            <a:chExt cx="374400" cy="363240"/>
          </a:xfrm>
        </p:grpSpPr>
        <p:sp>
          <p:nvSpPr>
            <p:cNvPr id="767" name="Freeform 507"/>
            <p:cNvSpPr/>
            <p:nvPr/>
          </p:nvSpPr>
          <p:spPr>
            <a:xfrm>
              <a:off x="3276720" y="3876120"/>
              <a:ext cx="374400" cy="2970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08"/>
            <p:cNvSpPr/>
            <p:nvPr/>
          </p:nvSpPr>
          <p:spPr>
            <a:xfrm>
              <a:off x="3294360" y="391392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09"/>
            <p:cNvSpPr/>
            <p:nvPr/>
          </p:nvSpPr>
          <p:spPr>
            <a:xfrm>
              <a:off x="3364200" y="383616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10"/>
            <p:cNvSpPr/>
            <p:nvPr/>
          </p:nvSpPr>
          <p:spPr>
            <a:xfrm>
              <a:off x="3393000" y="380988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11"/>
            <p:cNvSpPr/>
            <p:nvPr/>
          </p:nvSpPr>
          <p:spPr>
            <a:xfrm>
              <a:off x="3421800" y="381960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12"/>
            <p:cNvSpPr/>
            <p:nvPr/>
          </p:nvSpPr>
          <p:spPr>
            <a:xfrm>
              <a:off x="3423960" y="38260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13"/>
            <p:cNvSpPr/>
            <p:nvPr/>
          </p:nvSpPr>
          <p:spPr>
            <a:xfrm>
              <a:off x="3481560" y="413424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514"/>
          <p:cNvGrpSpPr/>
          <p:nvPr/>
        </p:nvGrpSpPr>
        <p:grpSpPr>
          <a:xfrm>
            <a:off x="2971440" y="3782880"/>
            <a:ext cx="477720" cy="470880"/>
            <a:chOff x="2971440" y="3782880"/>
            <a:chExt cx="477720" cy="470880"/>
          </a:xfrm>
        </p:grpSpPr>
        <p:sp>
          <p:nvSpPr>
            <p:cNvPr id="775" name="Freeform 515"/>
            <p:cNvSpPr/>
            <p:nvPr/>
          </p:nvSpPr>
          <p:spPr>
            <a:xfrm rot="2490000">
              <a:off x="3022920" y="3869640"/>
              <a:ext cx="374760" cy="297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16"/>
            <p:cNvSpPr/>
            <p:nvPr/>
          </p:nvSpPr>
          <p:spPr>
            <a:xfrm rot="2490000">
              <a:off x="3067920" y="387180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7"/>
            <p:cNvSpPr/>
            <p:nvPr/>
          </p:nvSpPr>
          <p:spPr>
            <a:xfrm rot="2490000">
              <a:off x="3229560" y="382104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18"/>
            <p:cNvSpPr/>
            <p:nvPr/>
          </p:nvSpPr>
          <p:spPr>
            <a:xfrm rot="2490000">
              <a:off x="3265920" y="380772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19"/>
            <p:cNvSpPr/>
            <p:nvPr/>
          </p:nvSpPr>
          <p:spPr>
            <a:xfrm rot="2490000">
              <a:off x="3281760" y="383472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20"/>
            <p:cNvSpPr/>
            <p:nvPr/>
          </p:nvSpPr>
          <p:spPr>
            <a:xfrm rot="2490000">
              <a:off x="3276720" y="38530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21"/>
            <p:cNvSpPr/>
            <p:nvPr/>
          </p:nvSpPr>
          <p:spPr>
            <a:xfrm rot="2490000">
              <a:off x="3142800" y="411876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522"/>
          <p:cNvGrpSpPr/>
          <p:nvPr/>
        </p:nvGrpSpPr>
        <p:grpSpPr>
          <a:xfrm>
            <a:off x="2895120" y="4011480"/>
            <a:ext cx="477720" cy="470880"/>
            <a:chOff x="2895120" y="4011480"/>
            <a:chExt cx="477720" cy="470880"/>
          </a:xfrm>
        </p:grpSpPr>
        <p:sp>
          <p:nvSpPr>
            <p:cNvPr id="783" name="Freeform 523"/>
            <p:cNvSpPr/>
            <p:nvPr/>
          </p:nvSpPr>
          <p:spPr>
            <a:xfrm rot="2490000">
              <a:off x="2946600" y="4098240"/>
              <a:ext cx="374760" cy="297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24"/>
            <p:cNvSpPr/>
            <p:nvPr/>
          </p:nvSpPr>
          <p:spPr>
            <a:xfrm rot="2490000">
              <a:off x="2991600" y="410040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25"/>
            <p:cNvSpPr/>
            <p:nvPr/>
          </p:nvSpPr>
          <p:spPr>
            <a:xfrm rot="2490000">
              <a:off x="3153240" y="404964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26"/>
            <p:cNvSpPr/>
            <p:nvPr/>
          </p:nvSpPr>
          <p:spPr>
            <a:xfrm rot="2490000">
              <a:off x="3189600" y="403632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27"/>
            <p:cNvSpPr/>
            <p:nvPr/>
          </p:nvSpPr>
          <p:spPr>
            <a:xfrm rot="2490000">
              <a:off x="3205440" y="406332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28"/>
            <p:cNvSpPr/>
            <p:nvPr/>
          </p:nvSpPr>
          <p:spPr>
            <a:xfrm rot="2490000">
              <a:off x="3200400" y="40816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29"/>
            <p:cNvSpPr/>
            <p:nvPr/>
          </p:nvSpPr>
          <p:spPr>
            <a:xfrm rot="2490000">
              <a:off x="3066480" y="434736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530"/>
          <p:cNvGrpSpPr/>
          <p:nvPr/>
        </p:nvGrpSpPr>
        <p:grpSpPr>
          <a:xfrm>
            <a:off x="2971440" y="3477960"/>
            <a:ext cx="477720" cy="470880"/>
            <a:chOff x="2971440" y="3477960"/>
            <a:chExt cx="477720" cy="470880"/>
          </a:xfrm>
        </p:grpSpPr>
        <p:sp>
          <p:nvSpPr>
            <p:cNvPr id="791" name="Freeform 531"/>
            <p:cNvSpPr/>
            <p:nvPr/>
          </p:nvSpPr>
          <p:spPr>
            <a:xfrm rot="2490000">
              <a:off x="3022920" y="3564720"/>
              <a:ext cx="374760" cy="297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32"/>
            <p:cNvSpPr/>
            <p:nvPr/>
          </p:nvSpPr>
          <p:spPr>
            <a:xfrm rot="2490000">
              <a:off x="3067920" y="356688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33"/>
            <p:cNvSpPr/>
            <p:nvPr/>
          </p:nvSpPr>
          <p:spPr>
            <a:xfrm rot="2490000">
              <a:off x="3229560" y="351612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34"/>
            <p:cNvSpPr/>
            <p:nvPr/>
          </p:nvSpPr>
          <p:spPr>
            <a:xfrm rot="2490000">
              <a:off x="3265920" y="350280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35"/>
            <p:cNvSpPr/>
            <p:nvPr/>
          </p:nvSpPr>
          <p:spPr>
            <a:xfrm rot="2490000">
              <a:off x="3281760" y="352980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36"/>
            <p:cNvSpPr/>
            <p:nvPr/>
          </p:nvSpPr>
          <p:spPr>
            <a:xfrm rot="2490000">
              <a:off x="3276720" y="354816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37"/>
            <p:cNvSpPr/>
            <p:nvPr/>
          </p:nvSpPr>
          <p:spPr>
            <a:xfrm rot="2490000">
              <a:off x="3142800" y="381384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38"/>
          <p:cNvGrpSpPr/>
          <p:nvPr/>
        </p:nvGrpSpPr>
        <p:grpSpPr>
          <a:xfrm>
            <a:off x="3734640" y="3935520"/>
            <a:ext cx="478440" cy="471960"/>
            <a:chOff x="3734640" y="3935520"/>
            <a:chExt cx="478440" cy="471960"/>
          </a:xfrm>
        </p:grpSpPr>
        <p:sp>
          <p:nvSpPr>
            <p:cNvPr id="799" name="Freeform 539"/>
            <p:cNvSpPr/>
            <p:nvPr/>
          </p:nvSpPr>
          <p:spPr>
            <a:xfrm rot="2490000">
              <a:off x="3786120" y="4021920"/>
              <a:ext cx="374760" cy="2984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40"/>
            <p:cNvSpPr/>
            <p:nvPr/>
          </p:nvSpPr>
          <p:spPr>
            <a:xfrm rot="2490000">
              <a:off x="3831120" y="4024800"/>
              <a:ext cx="218160" cy="185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41"/>
            <p:cNvSpPr/>
            <p:nvPr/>
          </p:nvSpPr>
          <p:spPr>
            <a:xfrm rot="2490000">
              <a:off x="3993120" y="3973320"/>
              <a:ext cx="57240" cy="73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42"/>
            <p:cNvSpPr/>
            <p:nvPr/>
          </p:nvSpPr>
          <p:spPr>
            <a:xfrm rot="2490000">
              <a:off x="4029480" y="3960360"/>
              <a:ext cx="27000" cy="91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43"/>
            <p:cNvSpPr/>
            <p:nvPr/>
          </p:nvSpPr>
          <p:spPr>
            <a:xfrm rot="2490000">
              <a:off x="4045680" y="3987720"/>
              <a:ext cx="28440" cy="87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44"/>
            <p:cNvSpPr/>
            <p:nvPr/>
          </p:nvSpPr>
          <p:spPr>
            <a:xfrm rot="2490000">
              <a:off x="4040280" y="400572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45"/>
            <p:cNvSpPr/>
            <p:nvPr/>
          </p:nvSpPr>
          <p:spPr>
            <a:xfrm rot="2490000">
              <a:off x="3906360" y="427212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546"/>
          <p:cNvGrpSpPr/>
          <p:nvPr/>
        </p:nvGrpSpPr>
        <p:grpSpPr>
          <a:xfrm>
            <a:off x="3276360" y="3554280"/>
            <a:ext cx="477360" cy="470520"/>
            <a:chOff x="3276360" y="3554280"/>
            <a:chExt cx="477360" cy="470520"/>
          </a:xfrm>
        </p:grpSpPr>
        <p:sp>
          <p:nvSpPr>
            <p:cNvPr id="807" name="Freeform 547"/>
            <p:cNvSpPr/>
            <p:nvPr/>
          </p:nvSpPr>
          <p:spPr>
            <a:xfrm rot="2490000">
              <a:off x="3327840" y="3641040"/>
              <a:ext cx="374400" cy="2970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48"/>
            <p:cNvSpPr/>
            <p:nvPr/>
          </p:nvSpPr>
          <p:spPr>
            <a:xfrm rot="2490000">
              <a:off x="3372840" y="3643200"/>
              <a:ext cx="218160" cy="1843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49"/>
            <p:cNvSpPr/>
            <p:nvPr/>
          </p:nvSpPr>
          <p:spPr>
            <a:xfrm rot="2490000">
              <a:off x="3534120" y="3592080"/>
              <a:ext cx="57240" cy="72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8" h="102">
                  <a:moveTo>
                    <a:pt x="78" y="102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60" y="45"/>
                  </a:lnTo>
                  <a:lnTo>
                    <a:pt x="78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50"/>
            <p:cNvSpPr/>
            <p:nvPr/>
          </p:nvSpPr>
          <p:spPr>
            <a:xfrm rot="2490000">
              <a:off x="3570840" y="3579120"/>
              <a:ext cx="27000" cy="90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7" h="127">
                  <a:moveTo>
                    <a:pt x="37" y="127"/>
                  </a:moveTo>
                  <a:lnTo>
                    <a:pt x="0" y="46"/>
                  </a:lnTo>
                  <a:lnTo>
                    <a:pt x="16" y="0"/>
                  </a:lnTo>
                  <a:lnTo>
                    <a:pt x="19" y="32"/>
                  </a:lnTo>
                  <a:lnTo>
                    <a:pt x="37" y="127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51"/>
            <p:cNvSpPr/>
            <p:nvPr/>
          </p:nvSpPr>
          <p:spPr>
            <a:xfrm rot="2490000">
              <a:off x="3586680" y="3606120"/>
              <a:ext cx="28440" cy="87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9" h="123">
                  <a:moveTo>
                    <a:pt x="0" y="123"/>
                  </a:moveTo>
                  <a:lnTo>
                    <a:pt x="12" y="28"/>
                  </a:lnTo>
                  <a:lnTo>
                    <a:pt x="35" y="0"/>
                  </a:lnTo>
                  <a:lnTo>
                    <a:pt x="39" y="5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52"/>
            <p:cNvSpPr/>
            <p:nvPr/>
          </p:nvSpPr>
          <p:spPr>
            <a:xfrm rot="2490000">
              <a:off x="3581640" y="3624480"/>
              <a:ext cx="61920" cy="828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16">
                  <a:moveTo>
                    <a:pt x="0" y="116"/>
                  </a:moveTo>
                  <a:lnTo>
                    <a:pt x="40" y="27"/>
                  </a:lnTo>
                  <a:lnTo>
                    <a:pt x="78" y="0"/>
                  </a:lnTo>
                  <a:lnTo>
                    <a:pt x="84" y="49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53"/>
            <p:cNvSpPr/>
            <p:nvPr/>
          </p:nvSpPr>
          <p:spPr>
            <a:xfrm rot="2490000">
              <a:off x="3447720" y="3890160"/>
              <a:ext cx="26280" cy="129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Oval 560"/>
          <p:cNvSpPr/>
          <p:nvPr/>
        </p:nvSpPr>
        <p:spPr>
          <a:xfrm>
            <a:off x="6553080" y="6019920"/>
            <a:ext cx="19080" cy="1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73"/>
          <p:cNvSpPr/>
          <p:nvPr/>
        </p:nvSpPr>
        <p:spPr>
          <a:xfrm>
            <a:off x="0" y="122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ом ящике 8 кг яблок, а в другом- на 2 кг больше. Сколько всего килограммов яблок в этих ящи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74"/>
          <p:cNvSpPr/>
          <p:nvPr/>
        </p:nvSpPr>
        <p:spPr>
          <a:xfrm>
            <a:off x="1584360" y="62085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76"/>
          <p:cNvSpPr/>
          <p:nvPr/>
        </p:nvSpPr>
        <p:spPr>
          <a:xfrm>
            <a:off x="2362320" y="4648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на 2 кг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577" descr=""/>
          <p:cNvPicPr/>
          <p:nvPr/>
        </p:nvPicPr>
        <p:blipFill>
          <a:blip r:embed="rId79"/>
          <a:stretch/>
        </p:blipFill>
        <p:spPr>
          <a:xfrm>
            <a:off x="5029200" y="1905120"/>
            <a:ext cx="4114800" cy="2462040"/>
          </a:xfrm>
          <a:prstGeom prst="rect">
            <a:avLst/>
          </a:prstGeom>
          <a:ln w="0">
            <a:noFill/>
          </a:ln>
        </p:spPr>
      </p:pic>
      <p:sp>
        <p:nvSpPr>
          <p:cNvPr id="819" name="Прямоугольник 391"/>
          <p:cNvSpPr/>
          <p:nvPr/>
        </p:nvSpPr>
        <p:spPr>
          <a:xfrm>
            <a:off x="3466080" y="2206800"/>
            <a:ext cx="10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8 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3"/>
          <p:cNvSpPr/>
          <p:nvPr/>
        </p:nvSpPr>
        <p:spPr>
          <a:xfrm>
            <a:off x="3048120" y="37782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omic Sans MS"/>
              </a:rPr>
              <a:t>1) 8+2=10(к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3048120" y="44956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omic Sans MS"/>
              </a:rPr>
              <a:t>2) 8+10=18(к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228600" y="17524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ан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228600" y="2286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1) Узнаю массу яблок во втором ящике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228600" y="2895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2) Узнаю массу яблок в двух ящиках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228600" y="38098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228600" y="51814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1828800" y="5181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644e"/>
                </a:solidFill>
                <a:latin typeface="Comic Sans MS"/>
              </a:rPr>
              <a:t>18 кг яблок в двух ящи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1" descr=""/>
          <p:cNvPicPr/>
          <p:nvPr/>
        </p:nvPicPr>
        <p:blipFill>
          <a:blip r:embed="rId1"/>
          <a:stretch/>
        </p:blipFill>
        <p:spPr>
          <a:xfrm>
            <a:off x="3124080" y="0"/>
            <a:ext cx="2971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Image6363"/>
          <p:cNvPicPr/>
          <p:nvPr/>
        </p:nvPicPr>
        <p:blipFill>
          <a:blip r:embed="rId1"/>
          <a:stretch/>
        </p:blipFill>
        <p:spPr>
          <a:xfrm>
            <a:off x="533520" y="1523880"/>
            <a:ext cx="7851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533520" y="711720"/>
            <a:ext cx="767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 правила работы в групп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м вежлив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 собеседника по име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м по очереди, не перебивая друг друг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слуша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высказываем свое мнен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ем порядок на п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188800" y="691200"/>
            <a:ext cx="50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 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609480" y="838080"/>
            <a:ext cx="7925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1. </a:t>
            </a: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горке играли 4 девочки и 5 мальчиков. В обед 6 детей ушли домой. Сколько всего детей играло в песочнице до обед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457200" y="108396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 5 кукол, а у Риты 4 куклы. Сколько всего кукол у девоче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1143000" y="570600"/>
            <a:ext cx="7010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мама поставила на подоконник 4 новых кактуса, всего их стало 14. Сколько кактусов было на подоконнике снача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838080" y="2466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на каникулах прочитал 8 сказок, а рассказ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3 больше. Сколько рассказов прочитал Вит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2"/>
          <p:cNvSpPr/>
          <p:nvPr/>
        </p:nvSpPr>
        <p:spPr>
          <a:xfrm>
            <a:off x="533520" y="1905120"/>
            <a:ext cx="53316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3"/>
          <p:cNvSpPr/>
          <p:nvPr/>
        </p:nvSpPr>
        <p:spPr>
          <a:xfrm>
            <a:off x="1219320" y="1905120"/>
            <a:ext cx="53316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4"/>
          <p:cNvSpPr/>
          <p:nvPr/>
        </p:nvSpPr>
        <p:spPr>
          <a:xfrm>
            <a:off x="1905120" y="1905120"/>
            <a:ext cx="53316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5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6"/>
          <p:cNvSpPr/>
          <p:nvPr/>
        </p:nvSpPr>
        <p:spPr>
          <a:xfrm>
            <a:off x="3276720" y="1905120"/>
            <a:ext cx="53316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7"/>
          <p:cNvSpPr/>
          <p:nvPr/>
        </p:nvSpPr>
        <p:spPr>
          <a:xfrm>
            <a:off x="4038480" y="1905120"/>
            <a:ext cx="53352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8"/>
          <p:cNvSpPr/>
          <p:nvPr/>
        </p:nvSpPr>
        <p:spPr>
          <a:xfrm>
            <a:off x="4724280" y="1905120"/>
            <a:ext cx="53352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9"/>
          <p:cNvSpPr/>
          <p:nvPr/>
        </p:nvSpPr>
        <p:spPr>
          <a:xfrm>
            <a:off x="5410080" y="1905120"/>
            <a:ext cx="533520" cy="53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>
            <a:off x="5335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1"/>
          <p:cNvSpPr/>
          <p:nvPr/>
        </p:nvSpPr>
        <p:spPr>
          <a:xfrm>
            <a:off x="12193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2"/>
          <p:cNvSpPr/>
          <p:nvPr/>
        </p:nvSpPr>
        <p:spPr>
          <a:xfrm>
            <a:off x="39625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3"/>
          <p:cNvSpPr/>
          <p:nvPr/>
        </p:nvSpPr>
        <p:spPr>
          <a:xfrm>
            <a:off x="32767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4"/>
          <p:cNvSpPr/>
          <p:nvPr/>
        </p:nvSpPr>
        <p:spPr>
          <a:xfrm>
            <a:off x="25909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5"/>
          <p:cNvSpPr/>
          <p:nvPr/>
        </p:nvSpPr>
        <p:spPr>
          <a:xfrm>
            <a:off x="19051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6"/>
          <p:cNvSpPr/>
          <p:nvPr/>
        </p:nvSpPr>
        <p:spPr>
          <a:xfrm>
            <a:off x="76201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7"/>
          <p:cNvSpPr/>
          <p:nvPr/>
        </p:nvSpPr>
        <p:spPr>
          <a:xfrm>
            <a:off x="69343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8"/>
          <p:cNvSpPr/>
          <p:nvPr/>
        </p:nvSpPr>
        <p:spPr>
          <a:xfrm>
            <a:off x="6248520" y="2743200"/>
            <a:ext cx="53316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9"/>
          <p:cNvSpPr/>
          <p:nvPr/>
        </p:nvSpPr>
        <p:spPr>
          <a:xfrm>
            <a:off x="5486400" y="2743200"/>
            <a:ext cx="53352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0"/>
          <p:cNvSpPr/>
          <p:nvPr/>
        </p:nvSpPr>
        <p:spPr>
          <a:xfrm>
            <a:off x="4724280" y="2743200"/>
            <a:ext cx="533520" cy="533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685800" y="33822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сказок и рассказов прочитал Витя на каникул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685800" y="457200"/>
          <a:ext cx="7772400" cy="4059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61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) На первой проволоке 10 шариков, а на второй на 3 шара меньше. Сколько шариков на второй проволок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cca192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) На первой проволоке 10 шариков, а на второй 7. Сколько всего шаров на двух проволоках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cca192"/>
                    </a:solidFill>
                  </a:tcPr>
                </a:tc>
              </a:tr>
            </a:tbl>
          </a:graphicData>
        </a:graphic>
      </p:graphicFrame>
      <p:pic>
        <p:nvPicPr>
          <p:cNvPr id="428" name="Picture 1" descr="Image6361"/>
          <p:cNvPicPr/>
          <p:nvPr/>
        </p:nvPicPr>
        <p:blipFill>
          <a:blip r:embed="rId1"/>
          <a:stretch/>
        </p:blipFill>
        <p:spPr>
          <a:xfrm>
            <a:off x="685800" y="4648320"/>
            <a:ext cx="7848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Image6362"/>
          <p:cNvPicPr/>
          <p:nvPr/>
        </p:nvPicPr>
        <p:blipFill>
          <a:blip r:embed="rId1"/>
          <a:stretch/>
        </p:blipFill>
        <p:spPr>
          <a:xfrm>
            <a:off x="533520" y="1981080"/>
            <a:ext cx="8118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5-03-13T04:21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