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AC9-B22B-47A6-8B2B-EA32DE1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8ED-E60A-418C-B459-EDE75308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092-B026-41D8-97D6-B70FF979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23B-3DC1-4540-9DDD-C8690B5D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1EB-C4D7-4D04-8726-54215AD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AF7-3882-45E5-922A-D2B84285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8E6-2164-4F28-88AC-D9277CFB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AF3-69C9-44FC-95E4-9C3C4765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AB8-CDC8-4B6E-A7ED-7AE82A75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15B-9FBA-4016-8FCC-EB4B621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EE5-F9DA-45F0-9228-E22E6D1F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ED1-DB85-4309-BEE9-C32607C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08e8d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0862-EF10-4EE4-85F6-1C25EA000C75}" type="slidenum">
              <a:rPr b="0" lang="en-US" sz="1200" spc="-1" strike="noStrike">
                <a:solidFill>
                  <a:srgbClr val="908e8d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427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9302a"/>
                </a:solidFill>
                <a:latin typeface="Arial"/>
              </a:rPr>
              <a:t>Скоро в школу</a:t>
            </a:r>
            <a:endParaRPr b="0" lang="en-US" sz="7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9302a"/>
                </a:solidFill>
                <a:latin typeface="Arial"/>
              </a:rPr>
              <a:t>Собрание для родителей будущих первоклассников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4) Речь</a:t>
            </a: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Знать буквы. Различать  буквы и звук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Составлять предложения из нескольких слов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Составлять связный рассказ по картинке и серии картинок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Выразительно рассказывать стихи с правильной интонацией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5) Математика.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Цифры от 0 до 10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Прямой счет от 1 до 10 и обратный счет от 10 до 1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Арифметические знаки: « », «-«, «=»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Ориентирование в пространстве и на листе бумаги: «справа, слева, вверху, внизу, над, под, за  и т. п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6) Окружающий мир.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Знать основные цвета, домашних и диких животных, птиц, деревья, грибы, цветы, овощи, фрукты и так далее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Называть времена года, явления природы, перелетных и зимующих птиц, месяцы, дни недели, свои фамилию, имя и отчество, имена своих родителей и место их работы, свой город, адрес, какие бывают професси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Как родители     могут помочь ребенку избежать некоторых  трудностей?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Когда начинать готовить ребенка к школе? Как лучше это делать? Чему и как учить?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На этапе подготовки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избегайте чрезмерных требований к ребенку;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предоставляйте право на ошибку;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не думайте за ребёнка;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не перегружайте ребёнка;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не пропустите первые трудности и обратитесь к узким специалистам (логопед, психолог, физиолог, дефектолог, педиатр);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устраивайте ребенку маленькие праздник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2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Организуйте распорядок дня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9302a"/>
                </a:solidFill>
                <a:latin typeface="Monotype Corsiva"/>
              </a:rPr>
              <a:t>стабильный режим дня;</a:t>
            </a:r>
            <a:endParaRPr b="0" lang="en-US" sz="4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9302a"/>
                </a:solidFill>
                <a:latin typeface="Monotype Corsiva"/>
              </a:rPr>
              <a:t>полноценный сон;</a:t>
            </a:r>
            <a:endParaRPr b="0" lang="en-US" sz="4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9302a"/>
                </a:solidFill>
                <a:latin typeface="Monotype Corsiva"/>
              </a:rPr>
              <a:t>прогулки на воздухе;</a:t>
            </a:r>
            <a:endParaRPr b="0" lang="en-US" sz="4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Формируйте у ребенка умения общаться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9302a"/>
                </a:solidFill>
                <a:latin typeface="Monotype Corsiva"/>
              </a:rPr>
              <a:t>обратите внимание на то, умеет ли ваш ребенок вступать в контакт с новым взрослым, с другими детьми, умеет ли он взаимодействовать, сотрудничать 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3) Уделите особое внимание развитию произвольности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учите ребенка управлять своими желаниями, эмоциями, поступкам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он должен уметь подчиняться правилам поведения, выполнять действия по образцу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4) Ежедневно занимайтесь интеллектуальным развитием ребенка: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589680" indent="-196560">
              <a:lnSpc>
                <a:spcPct val="90000"/>
              </a:lnSpc>
              <a:spcBef>
                <a:spcPts val="499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во время прогулок наблюдайте изменения в природе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обращайте внимания на различные явления природы (дождь, снег, радуга, листопад, туман, ветер, тучи, буря, рассвет, закат); 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выучите названия времен года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тренируйте умения определять время года на улице и картинках; 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используя лото и книги, учите с ребенком названия животных, растений, предметов быта, школьных принадлежностей, определяйте их особенности и назначение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развивайте связную речь детей. 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Ежедневно занимайтесь интеллектуальным развитием ребенка: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640" y="17870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учите пересказывать сказки, содержания мультфильмов, детских кинофильмов;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составляйте рассказы по картинкам;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следите за правильным произношением и дикцией детей. Проговаривайте скороговорки;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можно заниматься с ребенком звуковым анализом простых слов (дом, лес, шар, суп). Научите находить слова имеющие, например, звук «л»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знакомьте ребенка с буквами и их печатным изображением, а так же звуком, обозначающим конкретную букву;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9302a"/>
                </a:solidFill>
                <a:latin typeface="Arial"/>
              </a:rPr>
              <a:t>С 1 сентября 2013 года введена школьная форм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02a"/>
                </a:solidFill>
                <a:latin typeface="Times New Roman"/>
              </a:rPr>
              <a:t>Стиль  одежды – деловой, классический, строгий. Цветовая гамма одежды серого и черного цвета 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02a"/>
                </a:solidFill>
                <a:latin typeface="Times New Roman"/>
              </a:rPr>
              <a:t>Девочки  - блуза или трикотажная водолазка однотонного цвета; юбка, жилет или сарафан серого цвета, туфли.</a:t>
            </a:r>
            <a:br>
              <a:rPr sz="2400"/>
            </a:br>
            <a:r>
              <a:rPr b="1" lang="ru-RU" sz="2400" spc="-1" strike="noStrike">
                <a:solidFill>
                  <a:srgbClr val="39302a"/>
                </a:solidFill>
                <a:latin typeface="Times New Roman"/>
              </a:rPr>
              <a:t>В холодное время года разрешается ношение брюк классического покроя серого цвета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02a"/>
                </a:solidFill>
                <a:latin typeface="Times New Roman"/>
              </a:rPr>
              <a:t>Мальчики – пиджак серого цвета, брюки классического серого цвета, жилет; 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02a"/>
                </a:solidFill>
                <a:latin typeface="Times New Roman"/>
              </a:rPr>
              <a:t>Мужская рубашка или трикотажная водолазка однотонного цвета, туфли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Ежедневно занимайтесь интеллектуальным развитием ребенка: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научите ребенка различать и правильно называть основные геометрические фигуры (круг, квадрат, треугольник, прямоугольник), сравнивать и различать предметы по величине (больший, меньший) и цвету;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научите ребенка считать до 10 и обратно, сравнивать количество предметов (больше, меньше, столько же). Познакомьте с изображением цифр (не надо учить их писать, только знать);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научите определять положение предметов на плоскости, знать слова, обозначающие местоположение, и правильно понимать их значения: впереди, сзади, справа, слева, сверху, над, под, за, перед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9302a"/>
                </a:solidFill>
                <a:latin typeface="Monotype Corsiva"/>
              </a:rPr>
              <a:t>Внимание!</a:t>
            </a: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02a"/>
                </a:solidFill>
                <a:latin typeface="Monotype Corsiva"/>
              </a:rPr>
              <a:t>Ребенок 5-6 лет не может работать долго, 10-15 минут – временной предел, а потом он должен отдохнуть, отвлечься. Поэтому все занятия должны быть рассчитаны на 10-15 минут.</a:t>
            </a:r>
            <a:endParaRPr b="0" lang="en-US" sz="3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5) Тренируйте руку ребенка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02a"/>
                </a:solidFill>
                <a:latin typeface="Monotype Corsiva"/>
              </a:rPr>
              <a:t>Развитию мелкой моторики руки ребенка помогут рисование, штриховка, раскрашивание небольших поверхностей, нанизывание бусинок, пуговиц, лепка, определение вслепую формы предметов (сначала самых простых, потом можно усложнять), игры с мелкими предметами (мозаика)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Штриховка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93" name="" descr="Л. И. Ходжер, Е. М. Усова Штриховка"/>
          <p:cNvPicPr/>
          <p:nvPr/>
        </p:nvPicPr>
        <p:blipFill>
          <a:blip r:embed="rId2"/>
          <a:stretch/>
        </p:blipFill>
        <p:spPr>
          <a:xfrm>
            <a:off x="944640" y="1938240"/>
            <a:ext cx="62611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302a"/>
                </a:solidFill>
                <a:latin typeface="Monotype Corsiva"/>
              </a:rPr>
              <a:t>Нанизывание бусинок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96" name="" descr="МАОУ Авторский лицей Эдварса 90 - Официальный сайт"/>
          <p:cNvPicPr/>
          <p:nvPr/>
        </p:nvPicPr>
        <p:blipFill>
          <a:blip r:embed="rId2"/>
          <a:stretch/>
        </p:blipFill>
        <p:spPr>
          <a:xfrm>
            <a:off x="1407960" y="186228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302a"/>
                </a:solidFill>
                <a:latin typeface="Monotype Corsiva"/>
              </a:rPr>
              <a:t>Игры с мелкими предметами (мозаика)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99" name="" descr="Цветок"/>
          <p:cNvPicPr/>
          <p:nvPr/>
        </p:nvPicPr>
        <p:blipFill>
          <a:blip r:embed="rId2"/>
          <a:stretch/>
        </p:blipFill>
        <p:spPr>
          <a:xfrm>
            <a:off x="644400" y="1838160"/>
            <a:ext cx="3062520" cy="441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вышевка Записи в рубрике вышевка Дневник Катеринка_и_Иринка :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5429160" y="1849320"/>
            <a:ext cx="3178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Внимание! При выполнении любых письменных заданий следите за правильным положением ручки (карандаша), тетради, позой школьника! Рука не должна быть сильно напряжена, а пальцы – чуть расслаблены.</a:t>
            </a:r>
            <a:br>
              <a:rPr sz="2800"/>
            </a:b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103" name="" descr="Опора и движение - Картинка 12777/20"/>
          <p:cNvPicPr/>
          <p:nvPr/>
        </p:nvPicPr>
        <p:blipFill>
          <a:blip r:embed="rId2"/>
          <a:stretch/>
        </p:blipFill>
        <p:spPr>
          <a:xfrm>
            <a:off x="971640" y="1801800"/>
            <a:ext cx="7167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9302a"/>
                </a:solidFill>
                <a:latin typeface="Monotype Corsiva"/>
              </a:rPr>
              <a:t>Внимание!</a:t>
            </a: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При выполнении графических заданий важны не быстрота, не количество сделанного, а точность выполнения – даже самых простых упражнений. Продолжительность работы - 3-5 минут, затем отдых, переключение и. если не надоело, еще 3-5 минут работы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Не переходите к следующим заданиям, если не освоено предыдущее, линии должны быть четкими, ровными, уверенным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ФлудЪ ни о чем и обо всем. - Тонкий Мир - Эзотерический форум 1 - магия, гороскопы, гадания, заговоры, привороты, сонники, астро"/>
          <p:cNvPicPr/>
          <p:nvPr/>
        </p:nvPicPr>
        <p:blipFill>
          <a:blip r:embed="rId2"/>
          <a:stretch/>
        </p:blipFill>
        <p:spPr>
          <a:xfrm>
            <a:off x="198360" y="196920"/>
            <a:ext cx="86598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9302a"/>
                </a:solidFill>
                <a:latin typeface="Monotype Corsiva"/>
              </a:rPr>
              <a:t>Форма для девочек</a:t>
            </a:r>
            <a:endParaRPr b="0" lang="en-US" sz="4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46" name="" descr="Школьный сарафан для девочек"/>
          <p:cNvPicPr/>
          <p:nvPr/>
        </p:nvPicPr>
        <p:blipFill>
          <a:blip r:embed="rId2"/>
          <a:stretch/>
        </p:blipFill>
        <p:spPr>
          <a:xfrm>
            <a:off x="754200" y="1752480"/>
            <a:ext cx="1987560" cy="464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32920" y="1662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Arial"/>
              </a:rPr>
              <a:t>Сарафан «Алина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8" name=""/>
          <p:cNvSpPr/>
          <p:nvPr/>
        </p:nvSpPr>
        <p:spPr>
          <a:xfrm>
            <a:off x="3063960" y="253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9302a"/>
                </a:solidFill>
                <a:latin typeface="Monotype Corsiva"/>
              </a:rPr>
              <a:t>Костюмы для девочек</a:t>
            </a:r>
            <a:endParaRPr b="0" lang="en-US" sz="5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1" name="" descr="Школьный брючный костюм для девочки"/>
          <p:cNvPicPr/>
          <p:nvPr/>
        </p:nvPicPr>
        <p:blipFill>
          <a:blip r:embed="rId2"/>
          <a:stretch/>
        </p:blipFill>
        <p:spPr>
          <a:xfrm>
            <a:off x="652320" y="1666800"/>
            <a:ext cx="2641680" cy="464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Жилет и юбка Виктория"/>
          <p:cNvPicPr/>
          <p:nvPr/>
        </p:nvPicPr>
        <p:blipFill>
          <a:blip r:embed="rId3"/>
          <a:stretch/>
        </p:blipFill>
        <p:spPr>
          <a:xfrm>
            <a:off x="6031080" y="1654200"/>
            <a:ext cx="24192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9302a"/>
                </a:solidFill>
                <a:latin typeface="Monotype Corsiva"/>
              </a:rPr>
              <a:t>Костюмы для мальчиков</a:t>
            </a:r>
            <a:endParaRPr b="0" lang="en-US" sz="4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5" name="" descr="Школьная форма для мальчиков Жилет трикотажный"/>
          <p:cNvPicPr/>
          <p:nvPr/>
        </p:nvPicPr>
        <p:blipFill>
          <a:blip r:embed="rId2"/>
          <a:stretch/>
        </p:blipFill>
        <p:spPr>
          <a:xfrm>
            <a:off x="630360" y="1913040"/>
            <a:ext cx="2774880" cy="420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Школьная форма для мальчиков - Костюмы школьные Черный-Д"/>
          <p:cNvPicPr/>
          <p:nvPr/>
        </p:nvPicPr>
        <p:blipFill>
          <a:blip r:embed="rId3"/>
          <a:stretch/>
        </p:blipFill>
        <p:spPr>
          <a:xfrm>
            <a:off x="5508720" y="1838160"/>
            <a:ext cx="288288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Готовность к школе состоит из трех составляющих:</a:t>
            </a:r>
            <a:br>
              <a:rPr sz="4000"/>
            </a:b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8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Физиологическая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  <a:p>
            <a:pPr marL="205560" indent="-205560">
              <a:lnSpc>
                <a:spcPct val="8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Психологическая (включает в себя три компонента: интеллектуальная готовность, личностная и социальная готовность, эмоционально- волевая готовность, познавательная готовность)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  <a:p>
            <a:pPr marL="205560" indent="-205560">
              <a:lnSpc>
                <a:spcPct val="8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02a"/>
                </a:solidFill>
                <a:latin typeface="Monotype Corsiva"/>
              </a:rPr>
              <a:t>Социальная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Познавательная  готовность: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02a"/>
                </a:solidFill>
                <a:latin typeface="Monotype Corsiva"/>
              </a:rPr>
              <a:t>Внимание.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Находить сходства и отличия между предметами, картинкам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Уметь выполнять работу по образцу, например, с точностью воспроизводить на своем листе бумаги узор, копировать движения человека и так далее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2) Память</a:t>
            </a: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Запоминание 10-12 картинок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Рассказывание по памяти стишков, скороговорок, пословиц, сказок и т.п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800" spc="-1" strike="noStrike">
                <a:solidFill>
                  <a:srgbClr val="39302a"/>
                </a:solidFill>
                <a:latin typeface="Monotype Corsiva"/>
              </a:rPr>
              <a:t>Пересказ  текста из 4-5 предложений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02a"/>
                </a:solidFill>
                <a:latin typeface="Monotype Corsiva"/>
              </a:rPr>
              <a:t>3) Мышление.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Заканчивать предложение, например, «Река широкая, а ручей…», «Суп горячий, а компот…» …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Находить лишнее слово из группы слов, например, «стол, стул, кровать, сапоги, кресло», «лиса, медведь, волк, собака, заяц» и т. д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Определять последовательность событий, чтобы сначала, а что – потом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Находить несоответствия в рисунках, стихах-небылицах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  <a:p>
            <a:pPr marL="214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• </a:t>
            </a:r>
            <a:r>
              <a:rPr b="1" lang="en-US" sz="2400" spc="-1" strike="noStrike">
                <a:solidFill>
                  <a:srgbClr val="39302a"/>
                </a:solidFill>
                <a:latin typeface="Monotype Corsiva"/>
              </a:rPr>
              <a:t>Сложить из бумаги вместе со взрослым, простой предмет: лодочку, кораблик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User</cp:lastModifiedBy>
  <dcterms:modified xsi:type="dcterms:W3CDTF">2015-03-19T18:47:42Z</dcterms:modified>
  <cp:revision>10</cp:revision>
  <dc:subject/>
  <dc:title>Презентация PowerPoint</dc:title>
</cp:coreProperties>
</file>