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796D-F03C-4147-96C1-82D3015C8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2ED3-E948-40B3-A3F9-385E48B8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93A6-ADB0-412C-94D2-B48BE3023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03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087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7160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03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087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1040-7675-4B01-A039-1E63BD616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C98C8-C21C-4034-9014-E9E1646DA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56079-FB2C-4BB2-B08E-8AD8CCD7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6CD6-7DB5-4EA0-8D1F-C7C1946B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8CD17-27F6-4EAC-A7B7-79629EF9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316B-0856-4667-8C00-360602FC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2057040" y="1143000"/>
            <a:ext cx="662940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5053-0659-493B-A998-F0DA2BDE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8A49-52CD-44BE-9F79-4EDE0193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6BA8-39F0-4573-926F-3C4FDF67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081D2-97A0-45A6-A670-50804EF3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3B85-767C-42C2-9BF2-ABD82DC0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2DF87-D3E6-48AC-A305-D8109B67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5F5A7-4347-4644-821E-6FC3E5117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903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087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37160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903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087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E0C7-D176-4E8D-BA7E-07ED99281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A058-7BF1-4083-BED0-22C62D04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840B-17CA-4558-8886-C60FEEFC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474A-2120-48A8-90E8-77EE66CB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057040" y="1143000"/>
            <a:ext cx="662940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825B-7F37-4FD9-96B4-2E05DF46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A7C3-6C4F-4F50-B40A-5E1B03EE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79D3-26E8-47AA-9D8E-D44FFE39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AC83-5E18-452E-827D-88DF8738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F7AC-0EBA-4C0C-B02F-BAEA7F74B7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482E-0FA4-4140-B4B4-472DD4E04B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73454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Живопись как вид изобразительного искусства, её специфика, средства выразительности. Методика ознакомления дошкольников с различными жанрами живописи.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727280" y="4724280"/>
            <a:ext cx="5640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полнила студентка 3 курса ССО Балякина Л.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Натюрморт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ервый жанр живописи, с которым, как показывают исследования педагогов и психологов, нужно знакомить дошкольников, ибо он не только вызывает наибольший эмоциональный отклик детей уже с 3-4 лет, ассоциации с их собственным жизненным опытом, но привлекает внимание детей к средствам выразительности живописи, помогает им пристальнее вглядываться в красоту изображенных предметов, любоваться и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детей младшей и средней групп натюрморты, изображающие сначала конкретные объекты одного порядка, одновидовые: овощи, фрукты, цветы, яг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старших группах следует показать детям разнообразие натюрморт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ейзаж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9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В средней групп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дети впервые знакомятся с пейзажем как жанром живописи. Перед педагогом встают 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       развивать у ребят интерес к пейзажной живописи, желание её внимательно рассматривать, эмоционально откликаться на настроение картины, её красоту, получать радость от встречи с ней, осмысливать своё отношение к воспринимаемому пейзаж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       подводить детей к пониманию того, что художественная картина есть отражение  реальной жизни природы, изображая которую, художник выражает личные чувства и переживания. При этом он использует особый язык - средства вырази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       познакомить с цветом (колоритом) как средством передачи времени года, состояния природы, погоды, настроения; рисунком, передающим характерные  особенности формы, величины объектов природы; композиции – построением картины, выбором формата полотна в зависимости от содержания изображаемого, построением планов (близко - далеко), выделением главного; сочетанием цветов (на светлом - тёмным, на тёмном - светлым и т. 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ортрет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ей старшего дошкольного возраста  знакомим с портретом как жанром живописи, показав его отличие от других жанров (натюрморт, пейзаж). Дети рассматривают портрет - лицо с ярко выраженной экспрессией (например, смеется, радуется, удивляется). Затем для рассмотрения может быть предложен погрудный портрет, где наряду с эмоциональным состоянием, выраженным на лице (мимика), представлены руки в каком-либо движении, жес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од.гр.автопортр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Спасибо за внимание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692360" y="6958080"/>
            <a:ext cx="5640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3640" y="764640"/>
            <a:ext cx="68418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330033"/>
                </a:solidFill>
                <a:latin typeface="Times New Roman"/>
              </a:rPr>
              <a:t>Живопись</a:t>
            </a: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 – </a:t>
            </a:r>
            <a:r>
              <a:rPr b="0" lang="en-US" sz="1900" spc="-1" strike="noStrike">
                <a:solidFill>
                  <a:srgbClr val="330033"/>
                </a:solidFill>
                <a:latin typeface="Times New Roman"/>
              </a:rPr>
              <a:t>вид искусства, специфика которого заключается в представлении при помощи красок, нанесенных на какую-нибудь поверхность (основу), образов действительности. Само слово «живопись» обозначает живописать, т. е. писать жизнь</a:t>
            </a:r>
            <a:br>
              <a:rPr sz="1900"/>
            </a:b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920" y="3573000"/>
            <a:ext cx="738648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дача живописи – не только показать что-либо, но и раскрыть внутреннюю сущность изображаемого, воспроизвести «типичные характеры в типичных обстоятельствах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Выразительные средства живопис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Композиция круговая(покой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изонтальная (мгновение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агональная(увеличение численнос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дача движения предметов в пространств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Детали:в картине нет ни чего лишн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цвет- радости (яркие, красочные), грустные (темные, приглушенн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Движение-передача изменения положения тел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Живопись подразделяется на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онументальную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фреска  – живопись по сырой штукатурке красками разведенными на воде и мозаика  изображение из цветных камней, смальты (Смальта – цветное прозрачное стекло), керамических плит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танковую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от слова «станок») – полотно которое создается на мольбер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Живопись представлена разнообразными жанрами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.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ртре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основная задача передать представление о внешнем облике человека, раскрыть внутренний мир человека, подчеркнуть его индивидуальность, психолого-эмоциональный обр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йзаж(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ородской, сельский) – воспроизводит окружающий мир во всем многообразии его фор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ариниз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Изображение морского пейзажа определяется термином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тюрмор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изображение предметов быта, орудий труда, цветов, фруктов. Помогает понять мировоззрение и уклад определенной эпох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сторический жан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рассказывает об исторически важных моментах жизни обще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ытовой жан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отражает повседневную жизнь людей, нрав, обычаи, традиции того или иного этно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конопис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в переводе с греческого «молитвенный образ») – основная цель направить человека на путь преобра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нимализ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изображение животного, как главного героя художественного произвед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4041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330033"/>
                </a:solidFill>
                <a:latin typeface="Times New Roman"/>
              </a:rPr>
              <a:t>Методы и приёмы ознакомлении  детей с живописью</a:t>
            </a:r>
            <a:br>
              <a:rPr sz="3800"/>
            </a:b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920" y="765000"/>
            <a:ext cx="73864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Мультипликация –( смена картинок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иём «вхождение» в картину – детям предлагается представить себя на месте изображённого человека. Это учит переживать, будит детское вообра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Акцентирование деталей –работа с портретом Р.М.Чумичева усиливает восприятие ребёнка, помогает установить взаимосвязь между частью и целым, развивает речь. Суть данного приёма заключена в том, что восприятия картины закрывается всё изображение листом бумаги, открытыми остаются только необходимые для обсуждения или рассматривания ч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Метод вызывания адекватных эмоций. Суть его заключается в том, чтобы вызвать у детей определённые чувства, эмоции, настроение. Предлагается вспомнить сходную ситуацию, в каких случаях у детей было такое же настро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Тактильно-чувственный метод. Данный метод заключается в том. что в процессе восприятия воспитатель прикасается к ребёнку руками (поглаживает, ласкает, удерживает и так далее). Цель данного метода – вызвать чувства детей, пережить адекватное состояние изображённого образа. Он действует на эмоциональное состояние детей, вызывает ответные реакции, особенно у застенчивых, но при условии, если между детьми и воспитателем есть взаимная искре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здание натюрморта  из реальных предметов на основе репродукц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 рассмотреть, а потом воссоздать Н.Курочки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тод колористических и пространственных перемещ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Метод оживления детских эмоций с помощью литературных и песенных образ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7372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0033"/>
                </a:solidFill>
                <a:latin typeface="Times New Roman"/>
              </a:rPr>
              <a:t>Ознакомление дошкольников с живописью происходит в 3 этапа:</a:t>
            </a:r>
            <a:br>
              <a:rPr sz="2100"/>
            </a:b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765000"/>
            <a:ext cx="73864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этап: рассказ педаго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уктура рассказа: сообщить название картины и фамилию художника; о чём написана картина; что самое главное в картине, как оно изображено (цвет, построение, расположение); что изображено вокруг главного в произвед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этап: развивать умение самостоятельно анализировать содержание картины; выделять выразительные средства; Например вопросы: О чём картина? Почему так думаете, расскажите и т.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этап: Задачи: формирование творческого восприятия картины; сравнение изображённого с личным опытом; развитие разнообразных ассоциаций, эмоций чувст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ём сравнения: даются для сравнения 2 картин разных художников, одного жанра, но с контрастным настроением, а затем картины одного художника, но разного колористического решения. Сравнивая выделяют 1 признак (цвет, композицию, настроени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ём мысленного создания картины по названию, данному художником. Используются игровые элементы, стимулирующие желание ребёнка рассказать о понравившейся карти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Times New Roman"/>
              </a:rPr>
              <a:t>Начинать знакомить детей с произведениями живописи</a:t>
            </a:r>
            <a:br>
              <a:rPr sz="1800"/>
            </a:br>
            <a:r>
              <a:rPr b="0" lang="ru-RU" sz="1800" spc="-1" strike="noStrike">
                <a:solidFill>
                  <a:srgbClr val="330033"/>
                </a:solidFill>
                <a:latin typeface="Times New Roman"/>
              </a:rPr>
              <a:t> В.А. Езикеева и Н.М. Зубарева  рекомендуют с таких жанров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тюрморт и пейзаж. Ведь в этих жанрах отсутствует сюжет, значит, дети не будут отвлекаться от содержания картины, замысла художника. Детям легче будет сосредоточиться на знакомых предметах, на образах природы, на эстетической стороне картин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редней группе : основные жанры пейзаж(городской и сельский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тюрморт, бытов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таршем возрасте жанр-портрет(во весь рост и по грудный, парадным и бытовым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од.гр.- автопортр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0T08:48:31Z</dcterms:created>
  <dc:creator>KOLIK</dc:creator>
  <dc:description/>
  <dc:language>en-US</dc:language>
  <cp:lastModifiedBy>KOLIK</cp:lastModifiedBy>
  <dcterms:modified xsi:type="dcterms:W3CDTF">2015-01-30T20:38:04Z</dcterms:modified>
  <cp:revision>5</cp:revision>
  <dc:subject/>
  <dc:title>Живопись</dc:title>
</cp:coreProperties>
</file>